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3E6-E366-4C6E-9CA1-3EA4B788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4ED-7CC7-4820-ACDE-0C8CD0C0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01F-265F-471C-9567-B1BCE42E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E7B-43C6-4E15-A812-789A4E3E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3C90-C8D5-4E8B-9A79-F07C588C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C899-4914-4A9D-8DE7-12486C97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C239-5432-4B00-ADC9-D2B1D792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753C-D4CD-4D14-B360-7E12C44C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F2CE-53D0-464A-BC31-980D84C3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4DEA-00AA-43CD-83A3-F5BDFFCF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6457-5F8F-48E8-A63E-7235B8E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6E1-3177-43F9-8A67-D6E4B591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C598-946D-4FDE-8B92-437C991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9AC0-FAF0-4F5F-AF19-EF87884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B64E-249F-4072-AAEE-89D795AF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29F1-334C-47D3-9FE3-5A519B92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82F-5171-4B78-8A1E-1006260A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1D2-0FF0-4D03-ABD0-4232EE77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4F7-9EFA-4B53-A46C-60067E24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D9F-F191-4BE6-BDF1-B139A10C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E73-A31E-4597-BF31-2D35AA19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3AD-FF3F-4D81-92CD-5076B86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7C3-CB46-4065-A8FF-4975B423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0AB-CD57-4E32-B698-34FABED7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B830-722A-434B-8E83-4CAB2F875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B638-4DE9-4AC9-ACCF-502A93E31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Optimizing EMBA Group Work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60.2350 Decis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or D. Ju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10160" y="5475240"/>
            <a:ext cx="52480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ec Sergey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tine S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utpu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17840" y="1011240"/>
            <a:ext cx="4095720" cy="5505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96160" y="2005920"/>
            <a:ext cx="2027160" cy="87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s the time when each student is supposed to work on a given 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632640" y="3011400"/>
            <a:ext cx="581040" cy="384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647040" y="2909880"/>
            <a:ext cx="792000" cy="60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5320" y="278244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hank You!  Q&amp;A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ur Solver Model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ptimize efficiency of an EMBA study group’s home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 the following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 academic abiliti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vance of each course to student’s career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 availabilit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time requiremen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ekly homework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aramet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43280" y="2038320"/>
            <a:ext cx="7068960" cy="268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umption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hours of homework time/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tudents to a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equally weighted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students working on each class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udent is working on at least 1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Model : 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54120" y="1517760"/>
            <a:ext cx="7489800" cy="474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Model : Objectiv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54120" y="2144880"/>
            <a:ext cx="6035760" cy="2566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86040" y="4957920"/>
            <a:ext cx="6286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is to minimize average time spent by student on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Model : Schedul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08440" y="942840"/>
            <a:ext cx="4751280" cy="586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Paramet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24040" y="1216080"/>
            <a:ext cx="70102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5857920"/>
            <a:ext cx="393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$44:$F$75 &lt;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Parameters Explained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lass is relevant to student’s career, the student will work on this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udent will work on at least on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lass will be worked on by at least two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y not work on more hours tha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ours assigned to student must be schedu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class may be schedule to one time slot (no overl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ssignment and scheduling decision variables are 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2:29:01Z</dcterms:created>
  <dc:creator>Stern School of Business</dc:creator>
  <dc:description/>
  <cp:keywords/>
  <dc:language>en-US</dc:language>
  <cp:lastModifiedBy>Bugs Bunny</cp:lastModifiedBy>
  <dcterms:modified xsi:type="dcterms:W3CDTF">2006-11-16T02:53:06Z</dcterms:modified>
  <cp:revision>9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