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D46A0-1EA5-44CD-BECD-0E7977681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87007-7535-46E7-BD76-AF68988C7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74396-BEA7-43BE-BEBD-601D1853C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B5724-E243-40E2-B2E8-9698B7BCA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45C46-FBF1-4E20-99FB-497F8809E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2198C-5CCD-4FAE-A2BB-D805479AD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A652A-D1A2-4812-B00F-2F90D1D41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2DDF0-0C32-47D5-9341-1FC0924D5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FEBF3-7B16-489E-BA5B-DB9BE5AE1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8CF9C-69CE-4E80-BC44-6608C84E2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9545C-318B-4240-AB98-58F11CB1C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01BF7-0F28-4506-BD08-3F915868C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5F253-43F0-41E5-AE5E-35D48769A2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904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Real Estate Ga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80880" y="3352320"/>
            <a:ext cx="830592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ed 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livia Le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chelle Hah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n Ya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lls Ch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8686800" cy="15796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5943600" y="5638680"/>
            <a:ext cx="2819520" cy="96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5943600" y="5638680"/>
            <a:ext cx="2819520" cy="96516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version of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152280" y="1295280"/>
            <a:ext cx="8763120" cy="30258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750960" y="4532400"/>
            <a:ext cx="4060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mulative rental income of all ten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l estate tax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ster lease c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urance c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5943600" y="5638680"/>
            <a:ext cx="2819520" cy="96516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Resul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2057400" y="1600200"/>
            <a:ext cx="5162400" cy="328608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1224360" y="5181480"/>
            <a:ext cx="671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easury NPV Value = $12,443,8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% certainty of earning more money than risk free invest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isk of Defaul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 with any rental agreement, there is always the risk of the tenant defaulting and negatively impacting our bottom li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added a random number generator into the model to simulate the risk of default and the consequences of such an occurre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used different default probabilities for each of the different rating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5943600" y="5638680"/>
            <a:ext cx="2819520" cy="96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001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ault Prob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4114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nd Ra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C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*Results from Altman Study of Bo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419360" y="1294920"/>
            <a:ext cx="3809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ault 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.61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.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.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.28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2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3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41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53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4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28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01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5943600" y="5638680"/>
            <a:ext cx="2819520" cy="96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001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el with Default Ri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4114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5943600" y="5638680"/>
            <a:ext cx="2819520" cy="9651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380880" y="1066680"/>
            <a:ext cx="8534520" cy="336888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767880" y="4572000"/>
            <a:ext cx="3842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ntal income by individual ten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ault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ket rental r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l estate tax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ster lease c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urance c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001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4114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5943600" y="5638680"/>
            <a:ext cx="2819520" cy="9651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1828800" y="1219320"/>
            <a:ext cx="5162400" cy="32860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1371600" y="4800600"/>
            <a:ext cx="632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easury NPV Value = $12,443,8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bability of making more money than risk free investment drops to 10.43% when including default ris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pportunities to Improve the Investment Opportun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94920" y="5029200"/>
            <a:ext cx="67820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y finding tenants that have an AA rating or above, we increase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bability of making more money than risk free investment drops to 16.7%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981080" y="1523880"/>
            <a:ext cx="5162760" cy="3286080"/>
          </a:xfrm>
          <a:prstGeom prst="rect">
            <a:avLst/>
          </a:prstGeom>
          <a:ln w="0">
            <a:noFill/>
          </a:ln>
        </p:spPr>
      </p:pic>
      <p:grpSp>
        <p:nvGrpSpPr>
          <p:cNvPr id="98" name=""/>
          <p:cNvGrpSpPr/>
          <p:nvPr/>
        </p:nvGrpSpPr>
        <p:grpSpPr>
          <a:xfrm>
            <a:off x="5943600" y="5638680"/>
            <a:ext cx="2819520" cy="965160"/>
            <a:chOff x="5943600" y="5638680"/>
            <a:chExt cx="2819520" cy="965160"/>
          </a:xfrm>
        </p:grpSpPr>
        <p:pic>
          <p:nvPicPr>
            <p:cNvPr id="99" name="" descr=""/>
            <p:cNvPicPr/>
            <p:nvPr/>
          </p:nvPicPr>
          <p:blipFill>
            <a:blip r:embed="rId2"/>
            <a:stretch/>
          </p:blipFill>
          <p:spPr>
            <a:xfrm>
              <a:off x="5943600" y="5638680"/>
              <a:ext cx="2819520" cy="9651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&amp;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6400800" y="5562720"/>
            <a:ext cx="2238480" cy="7650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2895480" y="1447920"/>
            <a:ext cx="32004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90360" y="5257440"/>
            <a:ext cx="64767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f only the Pilgrims had the    right model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914400" y="304920"/>
            <a:ext cx="7315200" cy="49528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6019920" y="5791320"/>
            <a:ext cx="2819160" cy="76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r Sit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cated in the heart of Midtown Manhattan at the gateway to Central Park, the retail space at 100 West 57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treet offers a densely populated commercial and retail sp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is an opportunity to bid on a 20 year lease for the retail space in this buil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5943600" y="5638680"/>
            <a:ext cx="2819520" cy="96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reet Pl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 rot="5400000">
            <a:off x="1712520" y="-722520"/>
            <a:ext cx="5870520" cy="85345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6477120" y="5945040"/>
            <a:ext cx="2666880" cy="9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657600" y="228600"/>
            <a:ext cx="4713120" cy="34988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0880" y="2971800"/>
            <a:ext cx="4668840" cy="349884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533520"/>
            <a:ext cx="36576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tail Sto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5562720" y="5410080"/>
            <a:ext cx="3200400" cy="10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cri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roperty is located on the southwest corner of West 57th Street between 6th and 7th Avenues running the entire block front of Sixth Avenu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ffer is for a leasehold interest in a 28,368 square foot retail space on the ground floor of the Carnegie Hou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rms: We can sign a 20 year lease and then rent out the space to retailer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5943600" y="5715000"/>
            <a:ext cx="2819520" cy="96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143000" y="228600"/>
            <a:ext cx="6378480" cy="61880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6553080" y="5970600"/>
            <a:ext cx="2590920" cy="88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2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lculate the Net Present Value of all possible future cash flows, given the uncertainty of the future retail market, operational costs and the risk of tenet defaul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are lease investment versus risk-free invest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8686800" cy="15796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5943600" y="5638680"/>
            <a:ext cx="2819520" cy="96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001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ssump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4114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1294920"/>
            <a:ext cx="78487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discount rate for the lease investment is 13.8% and risk-free rate of 5%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determined the growth rate of rent to be 5.2% in nominal terms based on the Freddie Mac Repeat Sales Price Index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5943600" y="5638680"/>
            <a:ext cx="2819520" cy="96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2T01:53:03Z</dcterms:created>
  <dc:creator>NYU Stern School of Business</dc:creator>
  <dc:description/>
  <dc:language>en-US</dc:language>
  <cp:lastModifiedBy>michelle</cp:lastModifiedBy>
  <dcterms:modified xsi:type="dcterms:W3CDTF">2006-12-06T18:52:31Z</dcterms:modified>
  <cp:revision>34</cp:revision>
  <dc:subject/>
  <dc:title>Situation</dc:title>
</cp:coreProperties>
</file>