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18A-C010-44BF-828C-9C05FF13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ACC-EB00-4883-A7ED-C11870F7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C40-E2FC-4BF3-BBC5-FF14CED0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A48-BA24-4432-9076-50291DD4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92B-8D25-45F5-BFA4-63EEBBF5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500-E644-459B-9BCE-EC00FEA0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99A-88B8-4E84-9934-F2F02F78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5B9-3B0F-4D30-B267-31568B02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28D-05A2-44C5-AB7F-9EE9ACE8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0F0-0CA1-4A9F-83BF-010366DE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50C-9862-45FC-B5C2-253A10A0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6B6-02AD-4D95-B0D4-53920E72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E52C-85B0-432C-AF85-C818C66C6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al Estat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3352320"/>
            <a:ext cx="83059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ivia 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le H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 Y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s 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57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version of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8763120" cy="3025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0960" y="4532400"/>
            <a:ext cx="4060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rental income of all te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estate 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leas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ranc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5162400" cy="3286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24360" y="5181480"/>
            <a:ext cx="67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sury NPV Value = $12,443,8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certainty of earning more money than risk free inves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of Defa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any rental agreement, there is always the risk of the tenant defaulting and negatively impacting our bottom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dded a random number generator into the model to simulate the risk of default and the consequences of such an occur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d different default probabilities for each of the different ra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Results from Altman Study of B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19360" y="12949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.6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.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.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4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with Default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534520" cy="3368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7880" y="4572000"/>
            <a:ext cx="384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 income by individual te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rental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estate 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leas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ranc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1219320"/>
            <a:ext cx="5162400" cy="3286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71600" y="480060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sury NPV Value = $12,443,8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making more money than risk free investment drops to 10.43% when including default ri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portunities to Improve the Investment Opport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502920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finding tenants that have an AA rating or above, we increas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bility of making more money than risk free investment drops to 16.7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162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5943600" y="5638680"/>
            <a:ext cx="2819520" cy="965160"/>
            <a:chOff x="5943600" y="5638680"/>
            <a:chExt cx="2819520" cy="9651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5943600" y="5638680"/>
              <a:ext cx="2819520" cy="96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5562720"/>
            <a:ext cx="2238480" cy="765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95480" y="1447920"/>
            <a:ext cx="3200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5257440"/>
            <a:ext cx="6476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only the Pilgrims had the    right mod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315200" cy="495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19920" y="5791320"/>
            <a:ext cx="2819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in the heart of Midtown Manhattan at the gateway to Central Park, the retail space at 100 West 5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eet offers a densely populated commercial and retail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n opportunity to bid on a 20 year lease for the retail space in this 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et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5400000">
            <a:off x="1712520" y="-722520"/>
            <a:ext cx="5870520" cy="8534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77120" y="5945040"/>
            <a:ext cx="26668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4713120" cy="3498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4668840" cy="3498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3657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ail S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562720" y="5410080"/>
            <a:ext cx="320040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perty is located on the southwest corner of West 57th Street between 6th and 7th Avenues running the entire block front of Sixth Aven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ffer is for a leasehold interest in a 28,368 square foot retail space on the ground floor of the Carnegi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: We can sign a 20 year lease and then rent out the space to retail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943600" y="5715000"/>
            <a:ext cx="2819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378480" cy="6188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553080" y="5970600"/>
            <a:ext cx="259092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Net Present Value of all possible future cash flows, given the uncertainty of the future retail market, operational costs and the risk of tenet defa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lease investment versus risk-free inves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579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12949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count rate for the lease investment is 13.8% and risk-free rate of 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termined the growth rate of rent to be 5.2% in nominal terms based on the Freddie Mac Repeat Sales Price 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01:53:03Z</dcterms:created>
  <dc:creator>NYU Stern School of Business</dc:creator>
  <dc:description/>
  <dc:language>en-US</dc:language>
  <cp:lastModifiedBy>michelle</cp:lastModifiedBy>
  <dcterms:modified xsi:type="dcterms:W3CDTF">2006-12-06T18:52:31Z</dcterms:modified>
  <cp:revision>34</cp:revision>
  <dc:subject/>
  <dc:title>Situation</dc:title>
</cp:coreProperties>
</file>