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5CEE-E880-4D3E-869E-70669C1A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9BD2-5B5F-4F0E-8661-C4361BF9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C664-96C4-45D2-8CFD-0FA683AD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342E-D9D1-442F-AE33-099E0D33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C367-0081-4147-8ECA-79C98BA5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DAA6-7B9C-498F-AFC2-0F614A59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8B5F-E5AD-4F96-B3A4-82A105EF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5335-C5C5-4B3A-A832-60A78D58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3BCE-9C99-4566-9D46-862BFCC0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8756-1408-442F-BE0E-E0D1F800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CF3E-3DD0-48D3-BB9B-77451914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6FF-2284-4685-A6B2-5A196079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738C-97D4-48B3-BC9E-672E4486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FD9D-48C9-4743-98BB-99CF1E65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E565-2ED7-4BF1-B9D1-F518BEAE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EEC6-F6B9-4E78-8C76-D1B45C77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090A-2BA9-47D6-9F10-5EAF8523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375-C669-44DB-A75E-EDBB8002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0EA-7121-4C68-8859-DE80A514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34E-6EF0-4578-8C03-65F89F64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D17-BBC9-4718-AE20-555DB2C0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1250-E24A-4BBE-8927-DA0EFD90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02B-404A-4BC5-AD99-A2110A1A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E12-16EB-4C7B-81BC-B884915C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8A76-9BB7-4AD5-BB5D-C20052640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2147-455E-4AEB-A860-46F1FF61346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The Traveling Salesperson Problem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Paul Kuriakose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Q&amp;A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ompleting this program too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Arrowood Resi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International Tr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 Week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$120,000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ompleting the program with each of you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rofessor Juran’s Solu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382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 Voice Out of Nowher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ijkstra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nded like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as it Alec?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obiwan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858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ijkstr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W. Dijks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winner of the Turing Prize (Nobel Prize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ntor of the currently accepted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jkstra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parti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ly find more solutions until nothing better is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y the Traveling Salesperson Problem Important?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29200" y="4191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3048120"/>
            <a:ext cx="4038840" cy="2181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219640" y="1981080"/>
            <a:ext cx="39243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he challenge of Traveling Salespers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09680" y="2209680"/>
          <a:ext cx="6096240" cy="3168720"/>
        </p:xfrm>
        <a:graphic>
          <a:graphicData uri="http://schemas.openxmlformats.org/drawingml/2006/table">
            <a:tbl>
              <a:tblPr/>
              <a:tblGrid>
                <a:gridCol w="1295640"/>
                <a:gridCol w="4800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-1)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28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900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europe" descr=""/>
          <p:cNvPicPr/>
          <p:nvPr/>
        </p:nvPicPr>
        <p:blipFill>
          <a:blip r:embed="rId1"/>
          <a:stretch/>
        </p:blipFill>
        <p:spPr>
          <a:xfrm>
            <a:off x="0" y="0"/>
            <a:ext cx="8534520" cy="7162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 flipH="1">
            <a:off x="2666520" y="3886200"/>
            <a:ext cx="2133720" cy="76320"/>
          </a:xfrm>
          <a:prstGeom prst="line">
            <a:avLst/>
          </a:prstGeom>
          <a:ln cap="sq" w="76320">
            <a:solidFill>
              <a:srgbClr val="d54f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3962520"/>
            <a:ext cx="228600" cy="380880"/>
          </a:xfrm>
          <a:prstGeom prst="line">
            <a:avLst/>
          </a:prstGeom>
          <a:ln cap="sq" w="76320">
            <a:solidFill>
              <a:srgbClr val="d54f4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56840" y="4419720"/>
            <a:ext cx="2438280" cy="1371600"/>
          </a:xfrm>
          <a:prstGeom prst="line">
            <a:avLst/>
          </a:prstGeom>
          <a:ln cap="sq" w="76320">
            <a:solidFill>
              <a:srgbClr val="d54f4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57200" y="5638320"/>
            <a:ext cx="4267080" cy="228600"/>
          </a:xfrm>
          <a:prstGeom prst="line">
            <a:avLst/>
          </a:prstGeom>
          <a:ln cap="sq" w="76320">
            <a:solidFill>
              <a:srgbClr val="d54f4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952880" y="5486040"/>
            <a:ext cx="2971800" cy="152280"/>
          </a:xfrm>
          <a:prstGeom prst="line">
            <a:avLst/>
          </a:prstGeom>
          <a:ln cap="sq" w="76320">
            <a:solidFill>
              <a:srgbClr val="d54f4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5486400"/>
            <a:ext cx="228600" cy="76320"/>
          </a:xfrm>
          <a:prstGeom prst="line">
            <a:avLst/>
          </a:prstGeom>
          <a:ln cap="sq" w="76320">
            <a:solidFill>
              <a:srgbClr val="727de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8229240" y="2895480"/>
            <a:ext cx="685800" cy="152640"/>
          </a:xfrm>
          <a:prstGeom prst="line">
            <a:avLst/>
          </a:prstGeom>
          <a:ln cap="sq" w="76320">
            <a:solidFill>
              <a:srgbClr val="727de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095880" y="2895480"/>
            <a:ext cx="1981440" cy="914400"/>
          </a:xfrm>
          <a:prstGeom prst="line">
            <a:avLst/>
          </a:prstGeom>
          <a:ln cap="sq" w="76320">
            <a:solidFill>
              <a:srgbClr val="727de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952880" y="3809880"/>
            <a:ext cx="1067040" cy="76320"/>
          </a:xfrm>
          <a:prstGeom prst="line">
            <a:avLst/>
          </a:prstGeom>
          <a:ln cap="sq" w="76320">
            <a:solidFill>
              <a:srgbClr val="727de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229600" y="51055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g K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3733920"/>
            <a:ext cx="381240" cy="304560"/>
          </a:xfrm>
          <a:prstGeom prst="star5">
            <a:avLst/>
          </a:prstGeom>
          <a:solidFill>
            <a:srgbClr val="e1ee64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04:25:06Z</dcterms:created>
  <dc:creator>Paul</dc:creator>
  <dc:description/>
  <dc:language>en-US</dc:language>
  <cp:lastModifiedBy>Paul</cp:lastModifiedBy>
  <dcterms:modified xsi:type="dcterms:W3CDTF">2006-11-18T16:14:54Z</dcterms:modified>
  <cp:revision>9</cp:revision>
  <dc:subject/>
  <dc:title>The Traveling Sales Person Problem</dc:title>
</cp:coreProperties>
</file>