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7FA5-56CB-4449-A057-7814FFDA5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345A-E8C1-44FD-BED5-08E25A91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39C4-59DB-4696-AEE5-273B35BA0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7932-17F3-44D3-A8FC-FB8AE96B8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346A-8077-4B31-A86D-0E206FC6A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C68B-3446-4674-B0D5-FB98CE0E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3DB7-8CCE-48D5-B2F7-C6E9D478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9777-8465-4A50-AE4B-80AB9341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7476-89D9-4F13-90ED-78988BA0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8A0E-4843-494F-A172-3484A3AC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ACCD-2080-4EF9-96E1-F9E3630A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47C6-CF46-4A89-A51A-7E92D736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3AD7-8C92-4218-BF8D-BB2A0075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203F-E1DF-4B1A-BB74-D9DD9D13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8CB2-75E9-4226-A5D6-F2B385AC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3E45-6510-4CE0-8F9A-1EFFD886B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8534-AB18-44EF-A893-0CEE42E7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E880-DA4E-4587-97B7-D3306D8E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A643-F6CE-44B9-BBA1-601FD640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C391-E3A0-44E5-AC39-869C7E0A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B96E-CCE6-4C72-B596-E4D37F24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BD7B-B24D-4721-B953-9BDB0715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6509-0E2E-4F7B-995D-B593DBC3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3C9B-6A03-4B15-A34C-9CD74951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6861-9884-4112-9815-52ED9ED6E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29B0-FC1F-4F75-8639-5706EF0B53B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The Traveling Salesperson Problem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Paul Kuriakose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Q&amp;A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ompleting this program took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Arrowood Resi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International Tr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 Week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$120,000.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ompleting the program with each of you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ce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rofessor Juran’s Soluti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8382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A Voice Out of Nowher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Dijkstra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nded like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as it Alec?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obiwan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858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Dijkstr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W. Dijks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winner of the Turing Prize (Nobel Prize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ntor of the currently accepted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jkstra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 partial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ively find more solutions until nothing better is f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hy the Traveling Salesperson Problem Important?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29200" y="41911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95280" y="3048120"/>
            <a:ext cx="4038840" cy="2181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219640" y="1981080"/>
            <a:ext cx="392436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The challenge of Traveling Salespers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209680" y="2209680"/>
          <a:ext cx="6096240" cy="3168720"/>
        </p:xfrm>
        <a:graphic>
          <a:graphicData uri="http://schemas.openxmlformats.org/drawingml/2006/table">
            <a:tbl>
              <a:tblPr/>
              <a:tblGrid>
                <a:gridCol w="1295640"/>
                <a:gridCol w="4800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n-1)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28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900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europe" descr=""/>
          <p:cNvPicPr/>
          <p:nvPr/>
        </p:nvPicPr>
        <p:blipFill>
          <a:blip r:embed="rId1"/>
          <a:stretch/>
        </p:blipFill>
        <p:spPr>
          <a:xfrm>
            <a:off x="0" y="0"/>
            <a:ext cx="8534520" cy="7162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 flipH="1">
            <a:off x="2666520" y="3886200"/>
            <a:ext cx="2133720" cy="76320"/>
          </a:xfrm>
          <a:prstGeom prst="line">
            <a:avLst/>
          </a:prstGeom>
          <a:ln cap="sq" w="76320">
            <a:solidFill>
              <a:srgbClr val="d54f4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66880" y="3962520"/>
            <a:ext cx="228600" cy="380880"/>
          </a:xfrm>
          <a:prstGeom prst="line">
            <a:avLst/>
          </a:prstGeom>
          <a:ln cap="sq" w="76320">
            <a:solidFill>
              <a:srgbClr val="d54f41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56840" y="4419720"/>
            <a:ext cx="2438280" cy="1371600"/>
          </a:xfrm>
          <a:prstGeom prst="line">
            <a:avLst/>
          </a:prstGeom>
          <a:ln cap="sq" w="76320">
            <a:solidFill>
              <a:srgbClr val="d54f41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57200" y="5638320"/>
            <a:ext cx="4267080" cy="228600"/>
          </a:xfrm>
          <a:prstGeom prst="line">
            <a:avLst/>
          </a:prstGeom>
          <a:ln cap="sq" w="76320">
            <a:solidFill>
              <a:srgbClr val="d54f41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952880" y="5486040"/>
            <a:ext cx="2971800" cy="152280"/>
          </a:xfrm>
          <a:prstGeom prst="line">
            <a:avLst/>
          </a:prstGeom>
          <a:ln cap="sq" w="76320">
            <a:solidFill>
              <a:srgbClr val="d54f41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001000" y="5486400"/>
            <a:ext cx="228600" cy="76320"/>
          </a:xfrm>
          <a:prstGeom prst="line">
            <a:avLst/>
          </a:prstGeom>
          <a:ln cap="sq" w="76320">
            <a:solidFill>
              <a:srgbClr val="727de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8229240" y="2895480"/>
            <a:ext cx="685800" cy="152640"/>
          </a:xfrm>
          <a:prstGeom prst="line">
            <a:avLst/>
          </a:prstGeom>
          <a:ln cap="sq" w="76320">
            <a:solidFill>
              <a:srgbClr val="727de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6095880" y="2895480"/>
            <a:ext cx="1981440" cy="914400"/>
          </a:xfrm>
          <a:prstGeom prst="line">
            <a:avLst/>
          </a:prstGeom>
          <a:ln cap="sq" w="76320">
            <a:solidFill>
              <a:srgbClr val="727de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952880" y="3809880"/>
            <a:ext cx="1067040" cy="76320"/>
          </a:xfrm>
          <a:prstGeom prst="line">
            <a:avLst/>
          </a:prstGeom>
          <a:ln cap="sq" w="76320">
            <a:solidFill>
              <a:srgbClr val="727de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229600" y="51055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ng K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3733920"/>
            <a:ext cx="381240" cy="304560"/>
          </a:xfrm>
          <a:prstGeom prst="star5">
            <a:avLst/>
          </a:prstGeom>
          <a:solidFill>
            <a:srgbClr val="e1ee64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8T04:25:06Z</dcterms:created>
  <dc:creator>Paul</dc:creator>
  <dc:description/>
  <dc:language>en-US</dc:language>
  <cp:lastModifiedBy>Paul</cp:lastModifiedBy>
  <dcterms:modified xsi:type="dcterms:W3CDTF">2006-11-18T16:14:54Z</dcterms:modified>
  <cp:revision>9</cp:revision>
  <dc:subject/>
  <dc:title>The Traveling Sales Person Problem</dc:title>
</cp:coreProperties>
</file>