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B19-5453-4BED-810A-52E844E0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1D8D-8300-427F-B411-C2DE4716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72A-73C1-4D8E-91B0-181345EB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949D-4016-43A5-B535-7293E396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07F9-F40A-4DE2-8B0C-EA5F1045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246C-EB5C-490E-8C46-5F9A74E9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5450-AE6E-4706-B191-ADBE04A7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8F93-6C63-4C51-A474-4CDD6178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9513-E1CF-4BC8-AD22-E02DB2DA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DC8C-0639-4D3C-9D26-1C5D7C6A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334D-339E-483D-9B31-29E9D003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3D0-23FE-47F6-AFBE-7E5AC1EE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D07E-3B30-475B-83F3-BDC84A9A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58F8-3B96-4303-86B3-05C7A1E9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C702-2768-4033-A8DA-D1B38989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B779-DFAB-4428-B79D-09DCDC98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EEA6-C7D0-437B-81E3-917C5EE6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151-8860-4901-B863-BF0B4CBA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82E-B29E-4D00-858A-2C82701C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D8BC-DB5D-4F55-8766-FDF0525D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020-3908-48CC-BD47-5927790B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185-4D15-4291-A212-1C6451C0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ECE4-09AE-4004-BEA7-5AAF2CDA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C2D-6B3A-4A4F-9777-F4FE046A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27CA-071D-4F72-AE21-97EC62709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035D-B394-4C4E-BE20-22E0EA71782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The Traveling Salesperson Problem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Paul Kuriakose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Q&amp;A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ompleting this program too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Arrowood Resi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International Tr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 Week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$120,000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ompleting the program with each of yo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ofessor Juran’s Solu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 Voice Out of Nowher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ijkstra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nded like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as it Alec?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obiwan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85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jkstr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W. Dijks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winner of the Turing Prize (Nobel Prize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or of the currently accepted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jkstra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parti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ly find more solutions until nothing better is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y the Traveling Salesperson Problem Important?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4038840" cy="2181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219640" y="1981080"/>
            <a:ext cx="3924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e challenge of Traveling Salespers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09680" y="2209680"/>
          <a:ext cx="6096240" cy="3168720"/>
        </p:xfrm>
        <a:graphic>
          <a:graphicData uri="http://schemas.openxmlformats.org/drawingml/2006/table">
            <a:tbl>
              <a:tblPr/>
              <a:tblGrid>
                <a:gridCol w="1295640"/>
                <a:gridCol w="4800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-1)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28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900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europe" descr=""/>
          <p:cNvPicPr/>
          <p:nvPr/>
        </p:nvPicPr>
        <p:blipFill>
          <a:blip r:embed="rId1"/>
          <a:stretch/>
        </p:blipFill>
        <p:spPr>
          <a:xfrm>
            <a:off x="0" y="0"/>
            <a:ext cx="8534520" cy="7162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 flipH="1">
            <a:off x="2666520" y="3886200"/>
            <a:ext cx="2133720" cy="76320"/>
          </a:xfrm>
          <a:prstGeom prst="line">
            <a:avLst/>
          </a:prstGeom>
          <a:ln cap="sq" w="76320">
            <a:solidFill>
              <a:srgbClr val="d54f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3962520"/>
            <a:ext cx="228600" cy="380880"/>
          </a:xfrm>
          <a:prstGeom prst="line">
            <a:avLst/>
          </a:prstGeom>
          <a:ln cap="sq" w="76320">
            <a:solidFill>
              <a:srgbClr val="d54f4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56840" y="4419720"/>
            <a:ext cx="2438280" cy="1371600"/>
          </a:xfrm>
          <a:prstGeom prst="line">
            <a:avLst/>
          </a:prstGeom>
          <a:ln cap="sq" w="76320">
            <a:solidFill>
              <a:srgbClr val="d54f4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7200" y="5638320"/>
            <a:ext cx="4267080" cy="228600"/>
          </a:xfrm>
          <a:prstGeom prst="line">
            <a:avLst/>
          </a:prstGeom>
          <a:ln cap="sq" w="76320">
            <a:solidFill>
              <a:srgbClr val="d54f4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52880" y="5486040"/>
            <a:ext cx="2971800" cy="152280"/>
          </a:xfrm>
          <a:prstGeom prst="line">
            <a:avLst/>
          </a:prstGeom>
          <a:ln cap="sq" w="76320">
            <a:solidFill>
              <a:srgbClr val="d54f4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5486400"/>
            <a:ext cx="228600" cy="76320"/>
          </a:xfrm>
          <a:prstGeom prst="line">
            <a:avLst/>
          </a:prstGeom>
          <a:ln cap="sq" w="76320">
            <a:solidFill>
              <a:srgbClr val="727de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8229240" y="2895480"/>
            <a:ext cx="685800" cy="152640"/>
          </a:xfrm>
          <a:prstGeom prst="line">
            <a:avLst/>
          </a:prstGeom>
          <a:ln cap="sq" w="76320">
            <a:solidFill>
              <a:srgbClr val="727de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095880" y="2895480"/>
            <a:ext cx="1981440" cy="914400"/>
          </a:xfrm>
          <a:prstGeom prst="line">
            <a:avLst/>
          </a:prstGeom>
          <a:ln cap="sq" w="76320">
            <a:solidFill>
              <a:srgbClr val="727de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952880" y="3809880"/>
            <a:ext cx="1067040" cy="76320"/>
          </a:xfrm>
          <a:prstGeom prst="line">
            <a:avLst/>
          </a:prstGeom>
          <a:ln cap="sq" w="76320">
            <a:solidFill>
              <a:srgbClr val="727de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29600" y="51055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g K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3733920"/>
            <a:ext cx="381240" cy="304560"/>
          </a:xfrm>
          <a:prstGeom prst="star5">
            <a:avLst/>
          </a:prstGeom>
          <a:solidFill>
            <a:srgbClr val="e1ee6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4:25:06Z</dcterms:created>
  <dc:creator>Paul</dc:creator>
  <dc:description/>
  <dc:language>en-US</dc:language>
  <cp:lastModifiedBy>Paul</cp:lastModifiedBy>
  <dcterms:modified xsi:type="dcterms:W3CDTF">2006-11-18T16:14:54Z</dcterms:modified>
  <cp:revision>9</cp:revision>
  <dc:subject/>
  <dc:title>The Traveling Sales Person Problem</dc:title>
</cp:coreProperties>
</file>