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9.wmf" ContentType="image/x-wmf"/>
  <Override PartName="/ppt/media/image6.jpeg" ContentType="image/jpeg"/>
  <Override PartName="/ppt/media/image7.png" ContentType="image/png"/>
  <Override PartName="/ppt/media/image8.jpeg" ContentType="image/jpeg"/>
  <Override PartName="/ppt/media/image10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2C4A6-CAED-4F94-B0C9-01D34085C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08805-5BBB-4BF6-9DC6-CFF7AED70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A5AFC-1D9D-40F9-B68C-CD2657B87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3ED38-A9AE-4B4E-9D92-0563F29ED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04C77-0479-4BF3-AFC2-FABC4BC0B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67417-2383-4140-AD98-83A16238C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FD3C6-9746-4D8F-A856-A6CE807BF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77D4D-F8CE-4108-8A89-2C30F3DF6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D8A73-CAD1-4D18-9AE8-AD1F1ACF0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7F3AA-27DE-4EF2-9195-95B68D14A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1C4B2-51C1-471E-8324-331612601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7606B-4BE7-460E-A792-F19DF36EC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28440">
            <a:solidFill>
              <a:srgbClr val="00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38160">
            <a:solidFill>
              <a:srgbClr val="0066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00"/>
              </a:buClr>
              <a:buSzPct val="70000"/>
              <a:buFont typeface="Times New Roman"/>
              <a:buChar char="$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6600"/>
              </a:buClr>
              <a:buSzPct val="60000"/>
              <a:buFont typeface="Times New Roman"/>
              <a:buChar char="$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cc"/>
                </a:solidFill>
                <a:latin typeface="Book Antiqu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Book Antiqua"/>
              </a:rPr>
              <a:t>PS&amp;J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Book Antiqua"/>
              </a:rPr>
              <a:t>Retirement Plann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89588-4754-4DDC-B43C-0DBE04E9D2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5410080" y="6588000"/>
            <a:ext cx="193680" cy="19368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3505320" y="6588000"/>
            <a:ext cx="193680" cy="193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28440">
            <a:solidFill>
              <a:srgbClr val="00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tirement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38160">
            <a:solidFill>
              <a:srgbClr val="0066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ul Redn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encer Schwart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essica Witm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2819160" cy="18558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Golf"/>
          <p:cNvPicPr/>
          <p:nvPr/>
        </p:nvPicPr>
        <p:blipFill>
          <a:blip r:embed="rId2"/>
          <a:stretch/>
        </p:blipFill>
        <p:spPr>
          <a:xfrm>
            <a:off x="6675480" y="3352680"/>
            <a:ext cx="2239920" cy="33530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28132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28440">
            <a:solidFill>
              <a:srgbClr val="00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del Snapsh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152280" y="1828800"/>
            <a:ext cx="886140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28440">
            <a:solidFill>
              <a:srgbClr val="00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38160">
            <a:solidFill>
              <a:srgbClr val="0066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00"/>
              </a:buClr>
              <a:buSzPct val="70000"/>
              <a:buFont typeface="Times New Roman"/>
              <a:buChar char="$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s the question on everyone’s mi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6600"/>
              </a:buClr>
              <a:buSzPct val="70000"/>
              <a:buFont typeface="Times New Roman"/>
              <a:buChar char="$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cisions today to help plan for tomorr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6600"/>
              </a:buClr>
              <a:buSzPct val="70000"/>
              <a:buFont typeface="Times New Roman"/>
              <a:buChar char="$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model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00"/>
              </a:buClr>
              <a:buSzPct val="60000"/>
              <a:buFont typeface="Times New Roman"/>
              <a:buChar char="$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list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00"/>
              </a:buClr>
              <a:buSzPct val="60000"/>
              <a:buFont typeface="Times New Roman"/>
              <a:buChar char="$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sy to use &amp; adju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00"/>
              </a:buClr>
              <a:buSzPct val="60000"/>
              <a:buFont typeface="Times New Roman"/>
              <a:buChar char="$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lps you drive to decis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6600"/>
              </a:buClr>
              <a:buSzPct val="70000"/>
              <a:buFont typeface="Times New Roman"/>
              <a:buChar char="$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ability vs. Y/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38160">
            <a:solidFill>
              <a:srgbClr val="0066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200" spc="-1" strike="noStrike">
                <a:solidFill>
                  <a:srgbClr val="000000"/>
                </a:solidFill>
                <a:latin typeface="Times New Roman"/>
              </a:rPr>
              <a:t>Anyone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200" spc="-1" strike="noStrike">
                <a:solidFill>
                  <a:srgbClr val="000000"/>
                </a:solidFill>
                <a:latin typeface="Times New Roman"/>
              </a:rPr>
              <a:t>interested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200" spc="-1" strike="noStrike">
                <a:solidFill>
                  <a:srgbClr val="000000"/>
                </a:solidFill>
                <a:latin typeface="Times New Roman"/>
              </a:rPr>
              <a:t>in a copy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28440">
            <a:solidFill>
              <a:srgbClr val="00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would you rather b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533520" y="1822320"/>
            <a:ext cx="4267080" cy="28260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5410080" y="1828800"/>
            <a:ext cx="302580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28440">
            <a:solidFill>
              <a:srgbClr val="00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n will you be able to retir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38160">
            <a:solidFill>
              <a:srgbClr val="0066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00"/>
              </a:buClr>
              <a:buSzPct val="70000"/>
              <a:buFont typeface="Times New Roman"/>
              <a:buChar char="$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 what age would you like to retir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6600"/>
              </a:buClr>
              <a:buSzPct val="70000"/>
              <a:buFont typeface="Times New Roman"/>
              <a:buChar char="$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much money would you like to be able to spend each year after you retir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6600"/>
              </a:buClr>
              <a:buSzPct val="70000"/>
              <a:buFont typeface="Times New Roman"/>
              <a:buChar char="$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’s the probability that you will have enough money to retire when you want?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US Dollar Bills"/>
          <p:cNvPicPr/>
          <p:nvPr/>
        </p:nvPicPr>
        <p:blipFill>
          <a:blip r:embed="rId1"/>
          <a:stretch/>
        </p:blipFill>
        <p:spPr>
          <a:xfrm>
            <a:off x="5638680" y="4572000"/>
            <a:ext cx="2667240" cy="17780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143000" y="114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28440">
            <a:solidFill>
              <a:srgbClr val="00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Inputs –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rsonal Inform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3809880" cy="4114800"/>
          </a:xfrm>
          <a:prstGeom prst="rect">
            <a:avLst/>
          </a:prstGeom>
          <a:noFill/>
          <a:ln w="38160">
            <a:solidFill>
              <a:srgbClr val="0066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00"/>
              </a:buClr>
              <a:buSzPct val="70000"/>
              <a:buFont typeface="Times New Roman"/>
              <a:buChar char="$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rent 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00"/>
              </a:buClr>
              <a:buSzPct val="70000"/>
              <a:buFont typeface="Times New Roman"/>
              <a:buChar char="$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ired age at reti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00"/>
              </a:buClr>
              <a:buSzPct val="70000"/>
              <a:buFont typeface="Times New Roman"/>
              <a:buChar char="$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ected lif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00"/>
              </a:buClr>
              <a:buSzPct val="70000"/>
              <a:buFont typeface="Times New Roman"/>
              <a:buChar char="$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nual sal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00"/>
              </a:buClr>
              <a:buSzPct val="70000"/>
              <a:buFont typeface="Times New Roman"/>
              <a:buChar char="$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mount of salary you expect to save each ye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00"/>
              </a:buClr>
              <a:buSzPct val="70000"/>
              <a:buFont typeface="Times New Roman"/>
              <a:buChar char="$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nual amount you would like to spend after you retire (in today’s dolla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47960" y="1752480"/>
            <a:ext cx="3809880" cy="4114800"/>
          </a:xfrm>
          <a:prstGeom prst="rect">
            <a:avLst/>
          </a:prstGeom>
          <a:noFill/>
          <a:ln w="38160">
            <a:solidFill>
              <a:srgbClr val="0066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00"/>
              </a:buClr>
              <a:buSzPct val="70000"/>
              <a:buFont typeface="Times New Roman"/>
              <a:buChar char="$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vestment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00"/>
              </a:buClr>
              <a:buSzPct val="60000"/>
              <a:buFont typeface="Times New Roman"/>
              <a:buChar char="$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x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00"/>
              </a:buClr>
              <a:buSzPct val="60000"/>
              <a:buFont typeface="Times New Roman"/>
              <a:buChar char="$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x defer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00"/>
              </a:buClr>
              <a:buSzPct val="70000"/>
              <a:buFont typeface="Times New Roman"/>
              <a:buChar char="$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al Security &amp; Pension amounts you expect to receive after reti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00"/>
              </a:buClr>
              <a:buSzPct val="70000"/>
              <a:buFont typeface="Times New Roman"/>
              <a:buChar char="$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rent Federal &amp; State tax r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00"/>
              </a:buClr>
              <a:buSzPct val="70000"/>
              <a:buFont typeface="Times New Roman"/>
              <a:buChar char="$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large expected cash inflows or outfl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28440">
            <a:solidFill>
              <a:srgbClr val="00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Inputs –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cision Variables </a:t>
            </a:r>
            <a:r>
              <a:rPr b="0" lang="en-US" sz="4400" spc="-1" strike="noStrike">
                <a:solidFill>
                  <a:srgbClr val="00ff00"/>
                </a:solidFill>
                <a:latin typeface="Times New Roman"/>
              </a:rPr>
              <a:t>(Green Cell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7620120" cy="4114800"/>
          </a:xfrm>
          <a:prstGeom prst="rect">
            <a:avLst/>
          </a:prstGeom>
          <a:noFill/>
          <a:ln w="38160">
            <a:solidFill>
              <a:srgbClr val="0066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00"/>
              </a:buClr>
              <a:buSzPct val="70000"/>
              <a:buFont typeface="Times New Roman"/>
              <a:buChar char="$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ed annual returns (%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00"/>
              </a:buClr>
              <a:buSzPct val="60000"/>
              <a:buFont typeface="Times New Roman"/>
              <a:buChar char="$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xable invest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00"/>
              </a:buClr>
              <a:buSzPct val="60000"/>
              <a:buFont typeface="Times New Roman"/>
              <a:buChar char="$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x deferred invest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00"/>
              </a:buClr>
              <a:buSzPct val="70000"/>
              <a:buFont typeface="Times New Roman"/>
              <a:buChar char="$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imated annual return post retirement (%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00"/>
              </a:buClr>
              <a:buSzPct val="70000"/>
              <a:buFont typeface="Times New Roman"/>
              <a:buChar char="$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imated inflation rate (%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733920" y="4568760"/>
            <a:ext cx="1714320" cy="7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0"/>
            <a:ext cx="20574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28440">
            <a:solidFill>
              <a:srgbClr val="00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Outputs –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tirement Answers </a:t>
            </a:r>
            <a:r>
              <a:rPr b="0" lang="en-US" sz="4400" spc="-1" strike="noStrike">
                <a:solidFill>
                  <a:srgbClr val="00ccff"/>
                </a:solidFill>
                <a:latin typeface="Times New Roman"/>
              </a:rPr>
              <a:t>(Blue Cell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38160">
            <a:solidFill>
              <a:srgbClr val="0066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00"/>
              </a:buClr>
              <a:buSzPct val="70000"/>
              <a:buFont typeface="Times New Roman"/>
              <a:buChar char="$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vings balance at desired retirement 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6600"/>
              </a:buClr>
              <a:buSzPct val="70000"/>
              <a:buFont typeface="Times New Roman"/>
              <a:buChar char="$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ability of having a positive cash balance in the year you pass aw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6600"/>
              </a:buClr>
              <a:buSzPct val="70000"/>
              <a:buFont typeface="Times New Roman"/>
              <a:buChar char="$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tailed model working in the backgr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00"/>
              </a:buClr>
              <a:buSzPct val="60000"/>
              <a:buFont typeface="Times New Roman"/>
              <a:buChar char="$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IF(B8&lt;Inputs!$C$6,(Inputs!$C$9*(1+Inputs!$G$9)^A8*Inputs!$G$15)*(1-SUM(Inputs!$C$16:$C$17)),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00"/>
              </a:buClr>
              <a:buSzPct val="60000"/>
              <a:buFont typeface="Times New Roman"/>
              <a:buChar char="$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IF(B5=VLOOKUP(B5,Inputs!$C$29:$G$35,1),(VLOOKUP(B5,Inputs!$C$29:$G$35,5)),0)*(1+Inputs!$H$14)^A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3714840" y="3046320"/>
            <a:ext cx="5608440" cy="360"/>
            <a:chOff x="3714840" y="3046320"/>
            <a:chExt cx="5608440" cy="360"/>
          </a:xfrm>
        </p:grpSpPr>
        <p:sp>
          <p:nvSpPr>
            <p:cNvPr id="65" name=""/>
            <p:cNvSpPr/>
            <p:nvPr/>
          </p:nvSpPr>
          <p:spPr>
            <a:xfrm>
              <a:off x="3714840" y="3046320"/>
              <a:ext cx="560844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14840" y="3046320"/>
              <a:ext cx="560844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6743880" y="5940360"/>
            <a:ext cx="1714320" cy="7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28440">
            <a:solidFill>
              <a:srgbClr val="00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fessor Dur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38160">
            <a:solidFill>
              <a:srgbClr val="0066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00"/>
              </a:buClr>
              <a:buSzPct val="70000"/>
              <a:buFont typeface="Times New Roman"/>
              <a:buChar char="$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6 years ol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00"/>
              </a:buClr>
              <a:buSzPct val="70000"/>
              <a:buFont typeface="Times New Roman"/>
              <a:buChar char="$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ould like to retire at age 6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00"/>
              </a:buClr>
              <a:buSzPct val="70000"/>
              <a:buFont typeface="Times New Roman"/>
              <a:buChar char="$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fe expectancy of 85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00"/>
              </a:buClr>
              <a:buSzPct val="70000"/>
              <a:buFont typeface="Times New Roman"/>
              <a:buChar char="$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YC college professor &amp; consultan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00"/>
              </a:buClr>
              <a:buSzPct val="70000"/>
              <a:buFont typeface="Times New Roman"/>
              <a:buChar char="$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od investment history with strong retur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00"/>
              </a:buClr>
              <a:buSzPct val="70000"/>
              <a:buFont typeface="Times New Roman"/>
              <a:buChar char="$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ould like to spend $50k/year after retir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00"/>
              </a:buClr>
              <a:buSzPct val="70000"/>
              <a:buFont typeface="Times New Roman"/>
              <a:buChar char="$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ughter is getting married next year ($50k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Photo of David C. Juran"/>
          <p:cNvPicPr/>
          <p:nvPr/>
        </p:nvPicPr>
        <p:blipFill>
          <a:blip r:embed="rId1"/>
          <a:stretch/>
        </p:blipFill>
        <p:spPr>
          <a:xfrm>
            <a:off x="7280280" y="228600"/>
            <a:ext cx="155880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28440">
            <a:solidFill>
              <a:srgbClr val="00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509760" y="1333440"/>
          <a:ext cx="8124480" cy="5448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9760" y="1333440"/>
                    <a:ext cx="8124480" cy="544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28440">
            <a:solidFill>
              <a:srgbClr val="00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Ques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38160">
            <a:solidFill>
              <a:srgbClr val="0066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Monotype Corsiva"/>
              </a:rPr>
              <a:t>Will Professor Dura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Monotype Corsiva"/>
              </a:rPr>
              <a:t>have enough to retir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Monotype Corsiva"/>
              </a:rPr>
              <a:t>when he want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Photo of David C. Juran"/>
          <p:cNvPicPr/>
          <p:nvPr/>
        </p:nvPicPr>
        <p:blipFill>
          <a:blip r:embed="rId1"/>
          <a:stretch/>
        </p:blipFill>
        <p:spPr>
          <a:xfrm>
            <a:off x="7280280" y="228600"/>
            <a:ext cx="155880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2T16:23:23Z</dcterms:created>
  <dc:creator>jwitmer</dc:creator>
  <dc:description/>
  <dc:language>en-US</dc:language>
  <cp:lastModifiedBy>Paul Redner</cp:lastModifiedBy>
  <dcterms:modified xsi:type="dcterms:W3CDTF">2006-11-18T15:30:50Z</dcterms:modified>
  <cp:revision>34</cp:revision>
  <dc:subject/>
  <dc:title>Retirement Model</dc:title>
</cp:coreProperties>
</file>