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0" y="24382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0" y="28954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0" y="320040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0" y="47163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0" y="49449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tretch/>
        </p:blipFill>
        <p:spPr>
          <a:xfrm>
            <a:off x="0" y="547848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2"/>
          <a:stretch/>
        </p:blipFill>
        <p:spPr>
          <a:xfrm>
            <a:off x="0" y="19810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3"/>
          <a:stretch/>
        </p:blipFill>
        <p:spPr>
          <a:xfrm>
            <a:off x="0" y="26668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4"/>
          <a:stretch/>
        </p:blipFill>
        <p:spPr>
          <a:xfrm>
            <a:off x="0" y="410688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5"/>
          <a:stretch/>
        </p:blipFill>
        <p:spPr>
          <a:xfrm>
            <a:off x="0" y="1676520"/>
            <a:ext cx="1612800" cy="1778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6"/>
          <a:stretch/>
        </p:blipFill>
        <p:spPr>
          <a:xfrm>
            <a:off x="0" y="349740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7"/>
          <a:stretch/>
        </p:blipFill>
        <p:spPr>
          <a:xfrm>
            <a:off x="0" y="38019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8"/>
          <a:stretch/>
        </p:blipFill>
        <p:spPr>
          <a:xfrm>
            <a:off x="0" y="44197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9"/>
          <a:stretch/>
        </p:blipFill>
        <p:spPr>
          <a:xfrm>
            <a:off x="0" y="51814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1600200" cy="96840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21"/>
          <a:stretch/>
        </p:blipFill>
        <p:spPr>
          <a:xfrm>
            <a:off x="0" y="5684760"/>
            <a:ext cx="1600200" cy="117324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0" y="19051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0" y="34290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40384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0" y="46483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1600200" y="990720"/>
            <a:ext cx="754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0" y="266544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14479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0" y="24382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0" y="28954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320040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0" y="47163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9449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0" y="547848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0" y="19810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0" y="26668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0" y="410688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0" y="1676520"/>
            <a:ext cx="1612800" cy="177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0" y="349740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0" y="380196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8"/>
          <a:stretch/>
        </p:blipFill>
        <p:spPr>
          <a:xfrm>
            <a:off x="0" y="4419720"/>
            <a:ext cx="1612800" cy="16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9"/>
          <a:stretch/>
        </p:blipFill>
        <p:spPr>
          <a:xfrm>
            <a:off x="0" y="5181480"/>
            <a:ext cx="1612800" cy="160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1600200" cy="968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1"/>
          <a:stretch/>
        </p:blipFill>
        <p:spPr>
          <a:xfrm>
            <a:off x="0" y="5684760"/>
            <a:ext cx="1600200" cy="117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905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8280" y="609480"/>
            <a:ext cx="580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aDaTo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vel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41760" y="4632480"/>
            <a:ext cx="321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ier Ardila Hig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y B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as Chlebu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Kat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inaTo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16002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52480" y="1143000"/>
            <a:ext cx="541044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Crystal Ball to sim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ce of the ticket at ex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y of 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1,000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option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ack-Sc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(S,T) = SN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- K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ed several busin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l at fai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l back to airline 100%, 90%,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10% of ticket price as profit ma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the average profit per busin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3600" y="166680"/>
            <a:ext cx="55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option value calculato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65880" y="1219320"/>
            <a:ext cx="1725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28040" y="16668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best busin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81080" y="1295280"/>
          <a:ext cx="2286000" cy="185580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ults: average per mod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Profit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1301760"/>
          <a:ext cx="1524240" cy="185724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5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187.5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136.8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500600" y="6384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91320" y="1301760"/>
          <a:ext cx="1523880" cy="185724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9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21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315200" y="1301760"/>
          <a:ext cx="1676520" cy="185724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10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1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3378240" cy="195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3352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94160" y="1666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D. Juran´s option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295280"/>
          <a:ext cx="7239240" cy="2221200"/>
        </p:xfrm>
        <a:graphic>
          <a:graphicData uri="http://schemas.openxmlformats.org/drawingml/2006/table">
            <a:tbl>
              <a:tblPr/>
              <a:tblGrid>
                <a:gridCol w="2514600"/>
                <a:gridCol w="1524240"/>
                <a:gridCol w="1523880"/>
                <a:gridCol w="16765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ults: Means of 1,000 tria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5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9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100% Sell-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price: $1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97.8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5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 Profit margin: $35.00 + $17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(62.8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918440" y="4267080"/>
            <a:ext cx="467064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pric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pri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da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ure da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pri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7.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 Premiu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71840" y="166680"/>
            <a:ext cx="55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ts and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143000"/>
            <a:ext cx="7010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2120"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et prices over time are not norm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ough we gathered sufficient information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amount of cities, more input for many yea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tinations would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average gross profit per ticket, but not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, which depends on total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&amp;A costs have not been taken into 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349360" y="166680"/>
            <a:ext cx="59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114300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works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eement with Airlines to sell back tickets at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ckets at lowest price in general not refun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usiness could grow large volumes, we might be able to negotiate re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ge 10% Profit Margin and sell back tickets at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market bear 10% markup on the option pr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ckets at lowest price in general not refun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105520"/>
            <a:ext cx="6858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re this Business Model, starting negotiations with Star Alliance Airlines to determine feasi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182880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153680" y="16668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371600"/>
            <a:ext cx="640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g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82880" y="2128680"/>
            <a:ext cx="6856200" cy="358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982880" y="2128680"/>
            <a:ext cx="6856200" cy="3586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982880" y="2128680"/>
            <a:ext cx="6856200" cy="3586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981080" y="2128680"/>
            <a:ext cx="6856560" cy="358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981080" y="2128680"/>
            <a:ext cx="6856560" cy="3586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43640" y="16668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you experienced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25840" y="16668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219320"/>
            <a:ext cx="70102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seen that with the Internet and the right software one could observe and record airline ticket prices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there is a demand in the marketplace for travelers to lock in a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investigate whether there is an opportunity for us to start a business based on option value theory. We would provide a service to purchase an option to buy a plane ticket to select destinations at a specified ticket price on a specified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51120" y="166680"/>
            <a:ext cx="68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1371600"/>
            <a:ext cx="693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week of school, student D.Juran is not sure if he wants to take his undercover lover to Las Vegas for Thanksgi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of a ticket today is $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lls JaDaToNiCa to lock in 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ys that he wants to depart Novem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at he would make his mind up on November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4952880"/>
            <a:ext cx="66819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pric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pri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da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arture da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2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pri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determined by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37080" y="16668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set up this bus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37160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option value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best business model and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876920"/>
            <a:ext cx="68580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cision model tools to determine if this would be a profitab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70520" y="166680"/>
            <a:ext cx="24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143000"/>
            <a:ext cx="73915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212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DaToNiCa purchases ticket when student buys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kelihood of any student deciding to make the trip: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decide to make the tr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price of the ticket is lower than the exercise price on November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tudent will buy it on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student buys it on the market JaDaToNiCa will sell the ticket back to the airline (at 100%, 90%,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icket price is at or above exercise price the student will exercise the option and buy from JaDaT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 the same number of tickets to each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17160" y="1666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5120" y="4200480"/>
            <a:ext cx="6994440" cy="1971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9748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2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ata for one year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 the data to find the best distribution using Chi-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90 days before the flight date to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price and vola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inflection points show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JFK - LAS flights departing November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30800" y="4495680"/>
            <a:ext cx="30456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267080"/>
            <a:ext cx="304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5257800"/>
            <a:ext cx="304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5181480"/>
            <a:ext cx="304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72920" y="166680"/>
            <a:ext cx="54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option value calculato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655308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2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umptio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ability of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orm random distribution 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 0.75 =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1207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= 0.75 = Do not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ce of the ticket on exercis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reme minimum dis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Mean and Std. Dev.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lection points of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eca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it per business mode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ir price or 10% ma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%, 90% and 100% of ticket pric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04160" y="3733920"/>
            <a:ext cx="1752480" cy="977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010280" y="2209680"/>
            <a:ext cx="173988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20:02:30Z</dcterms:created>
  <dc:creator>Nicolas Chlebusch</dc:creator>
  <dc:description/>
  <dc:language>en-US</dc:language>
  <cp:lastModifiedBy>  </cp:lastModifiedBy>
  <dcterms:modified xsi:type="dcterms:W3CDTF">2006-11-29T14:10:59Z</dcterms:modified>
  <cp:revision>90</cp:revision>
  <dc:subject/>
  <dc:title>PowerPoint Presentation</dc:title>
</cp:coreProperties>
</file>