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4.wmf" ContentType="image/x-wmf"/>
  <Override PartName="/ppt/media/image7.png" ContentType="image/png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Click to move the slide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4ED2-E2E1-484D-9410-162D714DA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EB6C-AAB1-474E-B8D4-EC1B59935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4EA2-B925-4708-B66A-3694442D6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A09-E3BC-4369-ABF9-14701EA69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E065-C0BD-49B6-BB42-D23613993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82AB-85F2-4EB1-858A-0CAF51A80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8290-1836-4DD7-812E-D32D97698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0454-0E6F-4503-9D26-6B08FFD361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7B59-766D-487A-B998-5D0029B1F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A16D-23B4-4C15-A188-828122388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01EE-F81B-423D-87F5-AFDA2D1CF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70DF-C558-4AF6-9EC8-040819462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4015-9937-4149-8AD8-E3693EE404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8D28-9EF4-4F82-8486-A9824737D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5462-9847-486B-89D1-7A9B1D4D0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9FB0-E938-4F30-B593-646D6A093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D4CD-4CC9-4363-B89D-46D2DAFC1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0097-3ED5-42FE-8CAE-9154A11AF0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02AD-4299-4565-8FBB-F7F125FE9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7B15-2B3F-44CF-93F9-3993077EB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281E-6801-4940-B6C8-E10D6A436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2941-9EE3-4393-B712-1A5E078D9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6E2-AF19-41BC-83D2-8A3E6D37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640-C624-4637-A370-AF096E27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B76-B9B4-416A-9904-EA55F432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FE7-EDA6-4BBB-B81B-7A8A0E2D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C1A1-ABC2-46FA-A2E7-C1D4BA55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67D-BB44-44AD-BDE8-45536D04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6448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95800" y="159984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352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6448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95800" y="3904200"/>
            <a:ext cx="260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11C-A761-4A4C-8E39-DBD98D10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C93B-0622-47DB-B3E1-DA74CD95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07696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039-A083-4F91-B619-EF8EEF2B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753-477B-487B-9DA2-2C00BEE4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080" y="390420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039-ADAC-4A1C-B4EA-C0374CCB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1599840"/>
            <a:ext cx="3941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04200"/>
            <a:ext cx="807696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DDD-848C-473B-B485-22347581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2" name="Rectangle 20"/>
            <p:cNvSpPr/>
            <p:nvPr/>
          </p:nvSpPr>
          <p:spPr>
            <a:xfrm>
              <a:off x="457200" y="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3" name="Rectangle 21"/>
            <p:cNvSpPr/>
            <p:nvPr/>
          </p:nvSpPr>
          <p:spPr>
            <a:xfrm flipH="1">
              <a:off x="457200" y="38088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4" name="Rectangle 22"/>
            <p:cNvSpPr/>
            <p:nvPr/>
          </p:nvSpPr>
          <p:spPr>
            <a:xfrm>
              <a:off x="8686800" y="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" name="Rectangle 23"/>
            <p:cNvSpPr/>
            <p:nvPr/>
          </p:nvSpPr>
          <p:spPr>
            <a:xfrm>
              <a:off x="304920" y="38340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6" name="Rectangle 24"/>
            <p:cNvSpPr/>
            <p:nvPr/>
          </p:nvSpPr>
          <p:spPr>
            <a:xfrm>
              <a:off x="457200" y="64778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7" name="Rectangle 25"/>
            <p:cNvSpPr/>
            <p:nvPr/>
          </p:nvSpPr>
          <p:spPr>
            <a:xfrm flipH="1">
              <a:off x="304200" y="31068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284e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33520" y="61034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84e6a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E028-34B6-49C6-B12F-AD3233ADCEA4}" type="datetime">
              <a:rPr b="0" lang="en-US" sz="1000" spc="-1" strike="noStrike">
                <a:solidFill>
                  <a:srgbClr val="284e6a"/>
                </a:solidFill>
                <a:latin typeface="Bookman Old Styl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1034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84e6a"/>
                </a:solidFill>
                <a:latin typeface="Bookman Old Sty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84e6a"/>
                </a:solidFill>
                <a:latin typeface="Bookman Old Sty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477120" y="61034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84e6a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411C-866C-4E72-BE94-E6237EBBD140}" type="slidenum">
              <a:rPr b="0" lang="en-US" sz="1000" spc="-1" strike="noStrike">
                <a:solidFill>
                  <a:srgbClr val="284e6a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51" name="Rectangle 20"/>
            <p:cNvSpPr/>
            <p:nvPr/>
          </p:nvSpPr>
          <p:spPr>
            <a:xfrm>
              <a:off x="457200" y="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2" name="Rectangle 21"/>
            <p:cNvSpPr/>
            <p:nvPr/>
          </p:nvSpPr>
          <p:spPr>
            <a:xfrm flipH="1">
              <a:off x="457200" y="38088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3" name="Rectangle 22"/>
            <p:cNvSpPr/>
            <p:nvPr/>
          </p:nvSpPr>
          <p:spPr>
            <a:xfrm>
              <a:off x="8686800" y="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4" name="Rectangle 23"/>
            <p:cNvSpPr/>
            <p:nvPr/>
          </p:nvSpPr>
          <p:spPr>
            <a:xfrm>
              <a:off x="304920" y="38340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5" name="Rectangle 24"/>
            <p:cNvSpPr/>
            <p:nvPr/>
          </p:nvSpPr>
          <p:spPr>
            <a:xfrm>
              <a:off x="457200" y="64778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 flipH="1">
              <a:off x="304200" y="31068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</p:grpSp>
      <p:grpSp>
        <p:nvGrpSpPr>
          <p:cNvPr id="57" name="Group 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" name="Rectangle 6" descr=""/>
            <p:cNvPicPr/>
            <p:nvPr/>
          </p:nvPicPr>
          <p:blipFill>
            <a:blip r:embed="rId3"/>
            <a:stretch/>
          </p:blipFill>
          <p:spPr>
            <a:xfrm>
              <a:off x="5760" y="0"/>
              <a:ext cx="9132120" cy="685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Rectangle 15"/>
            <p:cNvGrpSpPr/>
            <p:nvPr/>
          </p:nvGrpSpPr>
          <p:grpSpPr>
            <a:xfrm>
              <a:off x="0" y="5177160"/>
              <a:ext cx="9144000" cy="1680840"/>
              <a:chOff x="0" y="5177160"/>
              <a:chExt cx="9144000" cy="1680840"/>
            </a:xfrm>
          </p:grpSpPr>
          <p:pic>
            <p:nvPicPr>
              <p:cNvPr id="60" name="Rectangl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5177160"/>
                <a:ext cx="9144000" cy="16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5760" y="5180040"/>
                <a:ext cx="9132120" cy="167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Segoe Condensed"/>
                </a:endParaRPr>
              </a:p>
            </p:txBody>
          </p:sp>
        </p:grpSp>
        <p:sp>
          <p:nvSpPr>
            <p:cNvPr id="62" name="Rectangle 13"/>
            <p:cNvSpPr/>
            <p:nvPr/>
          </p:nvSpPr>
          <p:spPr>
            <a:xfrm>
              <a:off x="5760" y="5253120"/>
              <a:ext cx="9132120" cy="15987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25098"/>
                  </a:srgbClr>
                </a:gs>
                <a:gs pos="100000">
                  <a:srgbClr val="a46721">
                    <a:alpha val="25098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5760" y="3349800"/>
              <a:ext cx="9132120" cy="1825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64" name="Straight Connector 10"/>
            <p:cNvSpPr/>
            <p:nvPr/>
          </p:nvSpPr>
          <p:spPr>
            <a:xfrm>
              <a:off x="5760" y="5177160"/>
              <a:ext cx="91321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284e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9"/>
          <p:cNvGrpSpPr/>
          <p:nvPr/>
        </p:nvGrpSpPr>
        <p:grpSpPr>
          <a:xfrm>
            <a:off x="304560" y="0"/>
            <a:ext cx="8534520" cy="6861240"/>
            <a:chOff x="304560" y="0"/>
            <a:chExt cx="8534520" cy="6861240"/>
          </a:xfrm>
        </p:grpSpPr>
        <p:sp>
          <p:nvSpPr>
            <p:cNvPr id="105" name="Rectangle 20"/>
            <p:cNvSpPr/>
            <p:nvPr/>
          </p:nvSpPr>
          <p:spPr>
            <a:xfrm>
              <a:off x="457200" y="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 flipH="1">
              <a:off x="457200" y="380880"/>
              <a:ext cx="8229600" cy="6477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8686800" y="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304920" y="383400"/>
              <a:ext cx="152280" cy="6477840"/>
            </a:xfrm>
            <a:prstGeom prst="rect">
              <a:avLst/>
            </a:prstGeom>
            <a:solidFill>
              <a:srgbClr val="3a5f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57200" y="647784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 flipH="1">
              <a:off x="304200" y="310680"/>
              <a:ext cx="8381880" cy="75960"/>
            </a:xfrm>
            <a:prstGeom prst="rect">
              <a:avLst/>
            </a:prstGeom>
            <a:gradFill rotWithShape="0">
              <a:gsLst>
                <a:gs pos="0">
                  <a:srgbClr val="3a5f7b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Segoe Condensed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Click to edit the outline text forma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con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2" marL="1143000" indent="-22860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hird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3" marL="1600200" indent="-228600">
              <a:spcBef>
                <a:spcPts val="70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our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4" marL="2057400" indent="-228600">
              <a:spcBef>
                <a:spcPts val="700"/>
              </a:spcBef>
              <a:buClr>
                <a:srgbClr val="284e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Fif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ix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Seventh Outline Level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822960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e6a"/>
                </a:solidFill>
                <a:latin typeface="Bookman Old Style"/>
              </a:rPr>
              <a:t>Variable Annuity Pricing</a:t>
            </a:r>
            <a:endParaRPr b="0" lang="en-US" sz="48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5486400"/>
            <a:ext cx="403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eorge Legrand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rc Hansen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ndor Weyers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Fund Projection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1676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ngle scenario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696080" y="1905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ngle scenario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146-1C2A-4FFA-9A68-5327273DE6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e6a"/>
                </a:solidFill>
                <a:latin typeface="Bookman Old Style"/>
              </a:rPr>
              <a:t>Additional Fund Withdrawals</a:t>
            </a:r>
            <a:endParaRPr b="0" lang="en-US" sz="3600" spc="-1" strike="noStrike">
              <a:solidFill>
                <a:srgbClr val="284e6a"/>
              </a:solidFill>
              <a:latin typeface="Bookman Old Style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0" y="2590920"/>
          <a:ext cx="399420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90920"/>
                    <a:ext cx="3994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762120" y="129528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609480" y="12952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e6a"/>
                </a:solidFill>
                <a:latin typeface="Bookman Old Style"/>
              </a:rPr>
              <a:t>As the fund’s actual returns deviate further from the funds’ expected returns, clients start withdrawing more of their money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143000" y="2133720"/>
            <a:ext cx="313524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603-BD8A-4BA7-8255-19541C3C50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Pretax Income Statement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1295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ngle scenario</a:t>
            </a:r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6727680" cy="541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34F-0657-4FB0-9538-49ABCDF3EE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Expense Assumption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014880" cy="47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CD5-210A-4BB3-A371-B0A5E38DC8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34480" cy="4391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581280" y="586728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% charge provides highest </a:t>
            </a:r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$ profit but not highest profit margin</a:t>
            </a:r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895120" y="4191120"/>
            <a:ext cx="114300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638680" y="4038480"/>
            <a:ext cx="2210040" cy="1828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D270-F757-4A54-B134-4B51F01FDF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e6a"/>
                </a:solidFill>
                <a:latin typeface="Segoe Condensed"/>
              </a:rPr>
              <a:t>Assuming we want to maximize $ profit, we choose a 3% fund charge</a:t>
            </a:r>
            <a:endParaRPr b="0" lang="en-US" sz="2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499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e6a"/>
                </a:solidFill>
                <a:latin typeface="Segoe Condensed"/>
              </a:rPr>
              <a:t>This attracts $5,000 million in revenue</a:t>
            </a:r>
            <a:endParaRPr b="0" lang="en-US" sz="2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499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e6a"/>
                </a:solidFill>
                <a:latin typeface="Segoe Condensed"/>
              </a:rPr>
              <a:t>Mean profit is $369.62 million and the standard deviation of profit is $511.72 million with a profit margin of 7.39%</a:t>
            </a:r>
            <a:endParaRPr b="0" lang="en-US" sz="2000" spc="-1" strike="noStrike">
              <a:solidFill>
                <a:srgbClr val="284e6a"/>
              </a:solidFill>
              <a:latin typeface="Segoe Condense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3619440" cy="27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955-DA81-4738-87C2-CD10B7980A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4e6a"/>
                </a:solidFill>
                <a:latin typeface="Segoe Condensed"/>
              </a:rPr>
              <a:t>Based on the current fund composition, we will have a loss on the book of business of $214.06 million or more with a probability of 5%</a:t>
            </a:r>
            <a:endParaRPr b="0" lang="en-US" sz="19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476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4e6a"/>
                </a:solidFill>
                <a:latin typeface="Segoe Condensed"/>
              </a:rPr>
              <a:t>The probability of making a loss on this portfolio is 23.53%</a:t>
            </a:r>
            <a:endParaRPr b="0" lang="en-US" sz="1900" spc="-1" strike="noStrike">
              <a:solidFill>
                <a:srgbClr val="284e6a"/>
              </a:solidFill>
              <a:latin typeface="Segoe Condense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132440" cy="2630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4132440" cy="263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8A35-D78E-4C0E-8D28-451358E83B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e6a"/>
                </a:solidFill>
                <a:latin typeface="Bookman Old Style"/>
              </a:rPr>
              <a:t>Additional Features</a:t>
            </a:r>
            <a:endParaRPr b="0" lang="en-US" sz="36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0769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e6a"/>
                </a:solidFill>
                <a:latin typeface="Segoe Condensed"/>
              </a:rPr>
              <a:t>Guaranteed minimum death benefit (GMDB)</a:t>
            </a:r>
            <a:endParaRPr b="0" lang="en-US" sz="22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51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e6a"/>
                </a:solidFill>
                <a:latin typeface="Segoe Condensed"/>
              </a:rPr>
              <a:t>If the client dies before his annuity matures, his/her beneficiary receives the maximum of the fund value and the initial deposit </a:t>
            </a:r>
            <a:endParaRPr b="0" lang="en-US" sz="1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51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84e6a"/>
                </a:solidFill>
                <a:latin typeface="Segoe Condensed"/>
              </a:rPr>
              <a:t>This is equivalent to issuing a put option to the beneficiary</a:t>
            </a:r>
            <a:endParaRPr b="0" lang="en-US" sz="1800" spc="-1" strike="noStrike">
              <a:solidFill>
                <a:srgbClr val="284e6a"/>
              </a:solidFill>
              <a:latin typeface="Segoe Condensed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5155920" cy="3940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352680" y="36576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the money</a:t>
            </a:r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396252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32767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 of the money</a:t>
            </a:r>
            <a:endParaRPr b="0" lang="en-US" sz="12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212" name=""/>
          <p:cNvSpPr/>
          <p:nvPr/>
        </p:nvSpPr>
        <p:spPr>
          <a:xfrm>
            <a:off x="6019920" y="37339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18A-46B2-45B9-8302-8B69232EFC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GMDB Cash Flow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37400" cy="50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5D9-6544-44F8-96ED-F2B95BE311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GMDB Cost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2522520" cy="2867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962520" y="457200"/>
            <a:ext cx="4653000" cy="2960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324480" y="1219320"/>
            <a:ext cx="12956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bp = 67.5%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962520" y="3505320"/>
            <a:ext cx="4653000" cy="2960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477120" y="4267080"/>
            <a:ext cx="129528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44197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6bp = 89.0%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F31-81D5-4FC5-8569-090C06E697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Agenda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Background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Objective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Assumptions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Model Overview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Results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Limitations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Q&amp;A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888-2A02-495F-9239-C1CDA6C305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Limitations and Improvements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A more robust demand function and withdrawal function could be developed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The long-tail risk as a result of issuing the put option (GMDB) could be hedged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B1E-0CA4-44DD-AFF9-366A05F1DA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84e6a"/>
                </a:solidFill>
                <a:latin typeface="Bookman Old Style"/>
              </a:rPr>
              <a:t>Q&amp;A</a:t>
            </a:r>
            <a:endParaRPr b="0" lang="en-US" sz="6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009-7FB1-4165-86B2-73ADEBFCBE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Background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Imagine you were a portfolio manager for retirement savings fund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374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Now you are looking to launch a new product with new features and would like to know how much to charge consumers for this produc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D0F-A46E-48DC-908F-195835FCB7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Background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he product you would like to introduce isw a variable annuity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45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A variable annuity is a retirement savings product whereby a client invests his/her money on a tax-deferred basis into a variety of investment funds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24A-83BB-4434-94E9-F14FB617FC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Objective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60776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o determine optimal price to maximize profi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374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To price additional product features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D336-FE40-45B7-9422-3F8389428E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Assumptions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Fund returns/volatilities: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99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e6a"/>
                </a:solidFill>
                <a:latin typeface="Segoe Condensed"/>
              </a:rPr>
              <a:t>1926-2005 historical data</a:t>
            </a:r>
            <a:endParaRPr b="0" lang="en-US" sz="2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374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Three available funds: 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99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84e6a"/>
                </a:solidFill>
                <a:latin typeface="Segoe Condensed"/>
              </a:rPr>
              <a:t>Stock, bond, and balanced (50/50)</a:t>
            </a:r>
            <a:endParaRPr b="0" lang="en-US" sz="20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374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Fund withdrawals increase with poor returns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374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601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Assume a $50 billion market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D76-1A4A-4C4A-8EB3-83983DD944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Model Overview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599840"/>
            <a:ext cx="80769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Input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601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e6a"/>
                </a:solidFill>
                <a:latin typeface="Segoe Condensed"/>
              </a:rPr>
              <a:t>Customer’s chooses fund</a:t>
            </a:r>
            <a:endParaRPr b="0" lang="en-US" sz="24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25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25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425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84e6a"/>
              </a:solidFill>
              <a:latin typeface="Segoe Condensed"/>
            </a:endParaRPr>
          </a:p>
          <a:p>
            <a:pPr marL="343080" indent="-343080">
              <a:spcBef>
                <a:spcPts val="700"/>
              </a:spcBef>
              <a:buClr>
                <a:srgbClr val="284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e6a"/>
                </a:solidFill>
                <a:latin typeface="Segoe Condensed"/>
              </a:rPr>
              <a:t>Processing</a:t>
            </a:r>
            <a:endParaRPr b="0" lang="en-US" sz="28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55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e6a"/>
                </a:solidFill>
                <a:latin typeface="Segoe Condensed"/>
              </a:rPr>
              <a:t>Generate fund returns using Crystal ball for each level of fund charge</a:t>
            </a:r>
            <a:endParaRPr b="0" lang="en-US" sz="22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55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e6a"/>
                </a:solidFill>
                <a:latin typeface="Segoe Condensed"/>
              </a:rPr>
              <a:t>Calculate profit for each set of fund returns </a:t>
            </a:r>
            <a:endParaRPr b="0" lang="en-US" sz="2200" spc="-1" strike="noStrike">
              <a:solidFill>
                <a:srgbClr val="284e6a"/>
              </a:solidFill>
              <a:latin typeface="Segoe Condensed"/>
            </a:endParaRPr>
          </a:p>
          <a:p>
            <a:pPr lvl="1" marL="743040" indent="-285840">
              <a:spcBef>
                <a:spcPts val="550"/>
              </a:spcBef>
              <a:buClr>
                <a:srgbClr val="284e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84e6a"/>
                </a:solidFill>
                <a:latin typeface="Segoe Condensed"/>
              </a:rPr>
              <a:t>Choose the fund charge that maximizes $ profit </a:t>
            </a:r>
            <a:endParaRPr b="0" lang="en-US" sz="2200" spc="-1" strike="noStrike">
              <a:solidFill>
                <a:srgbClr val="284e6a"/>
              </a:solidFill>
              <a:latin typeface="Segoe Condense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657600" cy="254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16A-EFB1-4F69-BD36-45183CAC93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e6a"/>
                </a:solidFill>
                <a:latin typeface="Bookman Old Style"/>
              </a:rPr>
              <a:t>Fund Selection</a:t>
            </a:r>
            <a:endParaRPr b="0" lang="en-US" sz="4000" spc="-1" strike="noStrike">
              <a:solidFill>
                <a:srgbClr val="284e6a"/>
              </a:solidFill>
              <a:latin typeface="Bookman Old Styl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89640" cy="378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9FB-B39A-4CDC-ABDE-7A68B2E0E0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e6a"/>
                </a:solidFill>
                <a:latin typeface="Bookman Old Style"/>
              </a:rPr>
              <a:t>Demand Function</a:t>
            </a:r>
            <a:endParaRPr b="0" lang="en-US" sz="3600" spc="-1" strike="noStrike">
              <a:solidFill>
                <a:srgbClr val="284e6a"/>
              </a:solidFill>
              <a:latin typeface="Bookman Old Style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143000"/>
            <a:ext cx="64008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284e6a"/>
                </a:solidFill>
                <a:uFillTx/>
                <a:latin typeface="Bookman Old Style"/>
              </a:rPr>
              <a:t>Market share: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   </a:t>
            </a: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10% if fund charge is 3%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   </a:t>
            </a: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10% x e</a:t>
            </a:r>
            <a:r>
              <a:rPr b="0" lang="en-US" sz="1400" spc="-1" strike="noStrike" baseline="30000">
                <a:solidFill>
                  <a:srgbClr val="284e6a"/>
                </a:solidFill>
                <a:latin typeface="Bookman Old Style"/>
              </a:rPr>
              <a:t>(fund charge – 3%)</a:t>
            </a:r>
            <a:r>
              <a:rPr b="0" lang="en-US" sz="1400" spc="-1" strike="noStrike" baseline="52000">
                <a:solidFill>
                  <a:srgbClr val="284e6a"/>
                </a:solidFill>
                <a:latin typeface="Bookman Old Style"/>
              </a:rPr>
              <a:t>0.2   </a:t>
            </a: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if fund charge &lt; 3%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   </a:t>
            </a: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10% x e</a:t>
            </a:r>
            <a:r>
              <a:rPr b="0" lang="en-US" sz="1400" spc="-1" strike="noStrike" baseline="30000">
                <a:solidFill>
                  <a:srgbClr val="284e6a"/>
                </a:solidFill>
                <a:latin typeface="Bookman Old Style"/>
              </a:rPr>
              <a:t>(fund charge – 3%)</a:t>
            </a:r>
            <a:r>
              <a:rPr b="0" lang="en-US" sz="1400" spc="-1" strike="noStrike">
                <a:solidFill>
                  <a:srgbClr val="284e6a"/>
                </a:solidFill>
                <a:latin typeface="Bookman Old Style"/>
              </a:rPr>
              <a:t>     if fund charge &gt; 3%</a:t>
            </a:r>
            <a:endParaRPr b="0" lang="en-US" sz="1400" spc="-1" strike="noStrike">
              <a:solidFill>
                <a:srgbClr val="000000"/>
              </a:solidFill>
              <a:latin typeface="Segoe Condense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6946920" cy="1587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629160" cy="2470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334120" y="297180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ket average</a:t>
            </a:r>
            <a:endParaRPr b="0" lang="en-US" sz="10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76560" y="32004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Segoe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110-1145-4753-9006-ABB18770DC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7:01Z</dcterms:created>
  <dc:creator/>
  <dc:description/>
  <dc:language>en-US</dc:language>
  <cp:lastModifiedBy/>
  <dcterms:modified xsi:type="dcterms:W3CDTF">2006-11-18T14:09:23Z</dcterms:modified>
  <cp:revision>72</cp:revision>
  <dc:subject/>
  <dc:title>Company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57487201</vt:r8>
  </property>
  <property fmtid="{D5CDD505-2E9C-101B-9397-08002B2CF9AE}" pid="3" name="_TemplateID">
    <vt:lpwstr>TC100819221033</vt:lpwstr>
  </property>
</Properties>
</file>