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BDE9-7893-4193-9E94-28062769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52A8-56C6-4090-AD94-46E48ADB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AADC-0E3A-4161-95EC-13E59B3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20AB-87EB-4064-93FA-466EC749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88FD-D7FE-4988-879D-757D12A4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B74F-87C9-4152-AEAA-29B75039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B2A-6A88-4793-A53A-4CD7802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8D3-7B97-4EDF-8DBF-9D531AB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0772-D39D-49C6-8E7F-9635412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6AA-36C9-4902-BD5B-85567C8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54A2-AB03-4668-BDDD-020468B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9C0C-84DC-4EDA-9F90-BFCDED8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46B9-126C-4D03-985A-AE1A428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46F-B631-410E-A8B0-79BBBB8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F25C-8036-45F4-8983-2059FA6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87F-C5CF-42AD-BC90-2E2D7415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ED55-F6A0-4B8B-AD59-A089EEFB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9806-856A-4784-AF11-F45A6A7A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868E-F8C0-4656-BB2E-81A57A3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7B99-EC48-486A-B186-01A905D0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1446-9C3C-4003-BFCC-9F52039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4789-C8E2-4CDA-BD6A-40F26151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0871-1485-4B51-913E-C0F5D2F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8F22-46E7-4251-B32C-BD65F31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51BB-DEF3-411A-8AA4-2E429DC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084A-1775-43B9-A9FA-827A7A054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D071-F806-41E5-B210-A66BF6CE4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7760" y="23619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w and When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o Invest in ETF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an L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onio Magg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Nov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120" y="2278080"/>
            <a:ext cx="77817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954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4267080"/>
            <a:ext cx="1523880" cy="533520"/>
          </a:xfrm>
          <a:prstGeom prst="wedgeRoundRectCallout">
            <a:avLst>
              <a:gd name="adj1" fmla="val -106250"/>
              <a:gd name="adj2" fmla="val 165180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952880"/>
            <a:ext cx="1524240" cy="533520"/>
          </a:xfrm>
          <a:prstGeom prst="wedgeRoundRectCallout">
            <a:avLst>
              <a:gd name="adj1" fmla="val 103750"/>
              <a:gd name="adj2" fmla="val 150893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6095880"/>
            <a:ext cx="1523880" cy="533520"/>
          </a:xfrm>
          <a:prstGeom prst="wedgeRoundRectCallout">
            <a:avLst>
              <a:gd name="adj1" fmla="val 47916"/>
              <a:gd name="adj2" fmla="val -147916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867280"/>
            <a:ext cx="1523880" cy="381240"/>
          </a:xfrm>
          <a:prstGeom prst="wedgeRoundRectCallout">
            <a:avLst>
              <a:gd name="adj1" fmla="val 79166"/>
              <a:gd name="adj2" fmla="val 96249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Key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with 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14828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467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797120"/>
            <a:ext cx="8991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120680"/>
            <a:ext cx="8839440" cy="3756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4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4924440"/>
            <a:ext cx="4724640" cy="1790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9981800">
            <a:off x="914400" y="3124080"/>
            <a:ext cx="1833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Consumer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112000">
            <a:off x="2666880" y="1904760"/>
            <a:ext cx="26179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Stap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135400">
            <a:off x="5181840" y="990360"/>
            <a:ext cx="28148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munica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B: Timing is Everything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often should you reallocate your investm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ften Should You Realloc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1: Reallocation and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start date 11/1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6 funds (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ata 2/04-10/31/05 determines initi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period of 1 yr: 11/05-11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t 4 and 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imes at 3, 6, 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allocation is based on historical data from 2/04 up to the date of new decision making (Standard Portfolio Solver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62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19739" b="42501"/>
          <a:stretch/>
        </p:blipFill>
        <p:spPr>
          <a:xfrm>
            <a:off x="0" y="6076800"/>
            <a:ext cx="4648320" cy="55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2636" t="58536" r="17103" b="1814"/>
          <a:stretch/>
        </p:blipFill>
        <p:spPr>
          <a:xfrm>
            <a:off x="4495680" y="6248520"/>
            <a:ext cx="46483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 TRADED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d as shares on most global stock ex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s try to replicate a stock market index such as the S&amp;P 500 or Hang Seng Index, or a market s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 structure allows for a diversified, low cost, low turnover index inves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eals to both institutional and retail inves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0802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desired return, select allocation that provides a low risk (daily stdev &lt;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630520"/>
            <a:ext cx="7848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69600"/>
            <a:ext cx="85345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unds we chose and our specific investment peri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nd semiannual decisions depend greatly on the timing of the allocation (more 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2813040"/>
          <a:ext cx="3429000" cy="1835280"/>
        </p:xfrm>
        <a:graphic>
          <a:graphicData uri="http://schemas.openxmlformats.org/drawingml/2006/table">
            <a:tbl>
              <a:tblPr/>
              <a:tblGrid>
                <a:gridCol w="1609560"/>
                <a:gridCol w="1103400"/>
                <a:gridCol w="71604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inv 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 Retur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rte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Risk?—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2: Reallocation and Crystal Ball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TF portfolio model, using random daily returns based on histo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returns fitted (chi-square) based on historical data for all 6 ETFs, taking into account cor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m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action costs not included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eallocation decision was made using Solver (based on historical data up to the date of the d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29718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33793"/>
          <a:stretch/>
        </p:blipFill>
        <p:spPr>
          <a:xfrm>
            <a:off x="76320" y="2195640"/>
            <a:ext cx="9067680" cy="2985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1447920"/>
            <a:ext cx="2590560" cy="761760"/>
          </a:xfrm>
          <a:prstGeom prst="wedgeRoundRectCallout">
            <a:avLst>
              <a:gd name="adj1" fmla="val 25305"/>
              <a:gd name="adj2" fmla="val 8895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Allocations (Fractions sum t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048120"/>
            <a:ext cx="4191120" cy="1066680"/>
          </a:xfrm>
          <a:prstGeom prst="wedgeEllipseCallout">
            <a:avLst>
              <a:gd name="adj1" fmla="val -48634"/>
              <a:gd name="adj2" fmla="val 614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llocation decision based on all historical data to tha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2195640"/>
            <a:ext cx="9067680" cy="4510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3600" y="122400"/>
            <a:ext cx="2971800" cy="1869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86600" y="4419720"/>
            <a:ext cx="1828800" cy="1066680"/>
          </a:xfrm>
          <a:prstGeom prst="wedgeRoundRectCallout">
            <a:avLst>
              <a:gd name="adj1" fmla="val -43518"/>
              <a:gd name="adj2" fmla="val 67111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returns for each ETF (sim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6720" y="5638680"/>
            <a:ext cx="822600" cy="1219320"/>
            <a:chOff x="396720" y="5638680"/>
            <a:chExt cx="822600" cy="1219320"/>
          </a:xfrm>
        </p:grpSpPr>
        <p:sp>
          <p:nvSpPr>
            <p:cNvPr id="190" name=""/>
            <p:cNvSpPr/>
            <p:nvPr/>
          </p:nvSpPr>
          <p:spPr>
            <a:xfrm>
              <a:off x="838080" y="5638680"/>
              <a:ext cx="381240" cy="1219320"/>
            </a:xfrm>
            <a:prstGeom prst="downArrow">
              <a:avLst>
                <a:gd name="adj1" fmla="val 50000"/>
                <a:gd name="adj2" fmla="val 79958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880" y="6035400"/>
              <a:ext cx="1119600" cy="368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81480" y="4419720"/>
            <a:ext cx="1828800" cy="761760"/>
          </a:xfrm>
          <a:prstGeom prst="wedgeRoundRectCallout">
            <a:avLst>
              <a:gd name="adj1" fmla="val -38282"/>
              <a:gd name="adj2" fmla="val 10041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each E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520" y="4952880"/>
            <a:ext cx="1828800" cy="762120"/>
            <a:chOff x="533520" y="4952880"/>
            <a:chExt cx="1828800" cy="762120"/>
          </a:xfrm>
        </p:grpSpPr>
        <p:sp>
          <p:nvSpPr>
            <p:cNvPr id="194" name=""/>
            <p:cNvSpPr/>
            <p:nvPr/>
          </p:nvSpPr>
          <p:spPr>
            <a:xfrm flipV="1">
              <a:off x="838080" y="5334120"/>
              <a:ext cx="990720" cy="3808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4952880"/>
              <a:ext cx="1828800" cy="368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l Al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and Crystal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1609560"/>
          <a:ext cx="4952880" cy="5127840"/>
        </p:xfrm>
        <a:graphic>
          <a:graphicData uri="http://schemas.openxmlformats.org/drawingml/2006/table">
            <a:tbl>
              <a:tblPr/>
              <a:tblGrid>
                <a:gridCol w="1447560"/>
                <a:gridCol w="1168560"/>
                <a:gridCol w="1168200"/>
                <a:gridCol w="11685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 (Ann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ding Value (Quarter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onth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9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kew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Kur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eff. of Var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4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g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5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5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 Std.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76320" y="2057400"/>
            <a:ext cx="3809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returns may reflect specific re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standard deviation: More frequent reallocation may help protect against the vagaries of timing of the initial allocation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ng short-term economic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ransaction fees (and time and effort) can be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F Portfolio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timing of historical data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3610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28800" y="5410080"/>
            <a:ext cx="5410080" cy="1341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0040" y="4495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2/04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ocation is based on historical data, correlation may work, but only in the short te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lationship between historical performance and future retu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 Em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future return based on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actual return 11/05-1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= -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76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historical data to predict future returns may be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ying on history, short-term economic momentum means more frequent reallocation may reduc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decisions may be better off timed to factors other than time, such a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(mechanical real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rations in amounts of capital inflows into stock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or underperformance of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69200" y="6361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discussion with Prof. Ok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ELEC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main US economic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market wid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availability of at least 1 year (many of the 250 ETFs have been introduced very recen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Geographic coverage: European, Latin American and Asia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to our model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anks to the contributions of Professor Ok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2333160"/>
            <a:ext cx="77817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product 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variance with S&amp;P only when the economy grow….dan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factors count: should include only Country Indexes (No Sectors) due to high correlation of Industries within a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dexes for concentration risk: are they representative of the country or only of specific indu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tend to specialize in one industry (e.g. Oil). Need to account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year of historical return is a very short peri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of 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interactions between country and secto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base our portfolio only on Country indexes (no Sector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s to identify the countries with strong expected growth (using GDP, infl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valuate weighting of historical data vs economic data (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historical data are good to identify economic cycles (e.g. first year after elections are historically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145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A: Portfolio Optim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is the efficient fronti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rtfolio composed of the above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all closing daily prices for the last year for all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the daily changes in price and have used excel to calculate the mean, standard deviation and variance of each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ORM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158920"/>
            <a:ext cx="7620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allocate 100% of the available funds to the 37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inimiz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n each run, the expected return on the portfolio must be at least equal to the specified retu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ll of the money must be inv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o shorting i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Form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o be the proportion of the portfolio allocated to ET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variables are 37 proportion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….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nce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dard deviation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Z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          for all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3876840"/>
            <a:ext cx="7691400" cy="27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64960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7010640" cy="32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895480" y="4441680"/>
            <a:ext cx="6019920" cy="27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362320" y="4997520"/>
            <a:ext cx="3352680" cy="25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362320" y="5181480"/>
            <a:ext cx="669960" cy="4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676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438280" y="5638680"/>
            <a:ext cx="41940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3:30Z</dcterms:created>
  <dc:creator>Vivian Lee, M.D., Ph.D.</dc:creator>
  <dc:description/>
  <dc:language>en-US</dc:language>
  <cp:lastModifiedBy>Vivian Lee, M.D., Ph.D.</cp:lastModifiedBy>
  <dcterms:modified xsi:type="dcterms:W3CDTF">2006-11-18T14:40:04Z</dcterms:modified>
  <cp:revision>32</cp:revision>
  <dc:subject/>
  <dc:title>How and When to Invest in ETFs</dc:title>
</cp:coreProperties>
</file>