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4FDD-B00C-4663-96FA-E01B69FBD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ision variables are in B51:AM5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F56 is used to input the required annualize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56 transform the annualized return in daily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56 keep track of the constrain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P 51 keeps track of constrain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mply with constraint 3 by selecting “assume nonnegative” in the Solver Options bo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nge C4:AM6 and C9:AM45 is referenced to the “Covariance Matrix” worksheet and display all the Means, Standard Deviation, Variances and Covariances from that sh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2743-177E-4C5A-BFCA-64467323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5B22-D589-46BD-B089-37488692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B653-5385-4B7B-B241-67B40E42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51DB-D07C-4818-8841-A53B3FB7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31C1-5850-4D5A-90D6-366E3D71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044D-F904-46F5-91BF-EBBE7783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90CB-8F09-4A6F-B41A-282C004C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FCB0-6571-4EB8-9BA2-A8A83F45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CBC3-3243-4E01-A8B9-08A26DF6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4E01-BCF9-4AB7-808D-E4C1534E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8139-7187-43CE-865D-C5F9F68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B69B-4266-421F-96D6-078A62CD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04E8-BD1A-405F-998D-81E7B078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DEC9-8B23-4E77-8A18-D57CF097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0618-2724-40E0-A722-62F0C13C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ADB9-B9DA-4B1C-9A8D-0BCED484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193B-F003-4F89-B022-C1A562A3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D4C2-36C2-4077-B495-F9C411C0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0C11-A336-41DF-8BED-C75827DD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C287-BC24-407C-8290-38D91905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5DCE-D439-4141-AF6C-FCAE2DD3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2367-EB1A-4EEF-8298-7B42997A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4643-489B-48CA-B5B7-BF5A3D42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7124-53DE-45EF-91D2-2191BCE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94A2-834F-4CEB-AB6A-903481EFA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A766-8712-4CBD-9904-E1836A9BB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7760" y="2361960"/>
            <a:ext cx="6553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How and When 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o Invest in ETF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vian L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onio Magg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 Nov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120" y="2278080"/>
            <a:ext cx="77817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82240" cy="4954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477120" y="4267080"/>
            <a:ext cx="1523880" cy="533520"/>
          </a:xfrm>
          <a:prstGeom prst="wedgeRoundRectCallout">
            <a:avLst>
              <a:gd name="adj1" fmla="val -106250"/>
              <a:gd name="adj2" fmla="val 165180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952880"/>
            <a:ext cx="1524240" cy="533520"/>
          </a:xfrm>
          <a:prstGeom prst="wedgeRoundRectCallout">
            <a:avLst>
              <a:gd name="adj1" fmla="val 103750"/>
              <a:gd name="adj2" fmla="val 150893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aint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6095880"/>
            <a:ext cx="1523880" cy="533520"/>
          </a:xfrm>
          <a:prstGeom prst="wedgeRoundRectCallout">
            <a:avLst>
              <a:gd name="adj1" fmla="val 47916"/>
              <a:gd name="adj2" fmla="val -147916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ai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5867280"/>
            <a:ext cx="1523880" cy="381240"/>
          </a:xfrm>
          <a:prstGeom prst="wedgeRoundRectCallout">
            <a:avLst>
              <a:gd name="adj1" fmla="val 79166"/>
              <a:gd name="adj2" fmla="val 96249"/>
              <a:gd name="adj3" fmla="val 16667"/>
            </a:avLst>
          </a:prstGeom>
          <a:solidFill>
            <a:srgbClr val="ffff0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: Key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ision variables are in B51:AM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F56 is used to input the required annualized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E56 transform the annualized return in daily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C56 keep track of the constrain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P 51 keeps track of constraint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omply with constraint 3 by selecting “assume nonnegative” in the Solver Options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nge C4:AM6 and C9:AM45 is referenced to the “Covariance Matrix” worksheet and display all the Means, Standard Deviation, Variances and Covariances from that she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with Solv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71600" y="148284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Tabl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1809720"/>
            <a:ext cx="74674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a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1797120"/>
            <a:ext cx="89917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280" y="1120680"/>
            <a:ext cx="8839440" cy="37562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45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4924440"/>
            <a:ext cx="4724640" cy="1790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9981800">
            <a:off x="914400" y="3124080"/>
            <a:ext cx="1833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Consumer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112000">
            <a:off x="2666880" y="1904760"/>
            <a:ext cx="26179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Estat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c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Staple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135400">
            <a:off x="5181840" y="990360"/>
            <a:ext cx="28148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communica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xic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t B: Timing is Everything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often should you reallocate your investment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Often Should You Realloc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1: Reallocation and R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start date 11/1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6 funds (Sol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data 2/04-10/31/05 determines initi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period of 1 yr: 11/05-11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ocation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t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t 4 and 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imes at 3, 6, 9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allocation is based on historical data from 2/04 up to the date of new decision making (Standard Portfolio Solver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Solv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6274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0" t="0" r="19739" b="42501"/>
          <a:stretch/>
        </p:blipFill>
        <p:spPr>
          <a:xfrm>
            <a:off x="0" y="6076800"/>
            <a:ext cx="4648320" cy="552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2636" t="58536" r="17103" b="1814"/>
          <a:stretch/>
        </p:blipFill>
        <p:spPr>
          <a:xfrm>
            <a:off x="4495680" y="6248520"/>
            <a:ext cx="46483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 TRADED 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d as shares on most global stock excha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Fs try to replicate a stock market index such as the S&amp;P 500 or Hang Seng Index, or a market sect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F structure allows for a diversified, low cost, low turnover index invest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ppeals to both institutional and retail inves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19280"/>
            <a:ext cx="808020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desired return, select allocation that provides a low risk (daily stdev &lt; 0.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630520"/>
            <a:ext cx="78487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ocation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69600"/>
            <a:ext cx="85345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funds we chose and our specific investment peri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and semiannual decisions depend greatly on the timing of the allocation (more vari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743200" y="2813040"/>
          <a:ext cx="3429000" cy="1835280"/>
        </p:xfrm>
        <a:graphic>
          <a:graphicData uri="http://schemas.openxmlformats.org/drawingml/2006/table">
            <a:tbl>
              <a:tblPr/>
              <a:tblGrid>
                <a:gridCol w="1609560"/>
                <a:gridCol w="1103400"/>
                <a:gridCol w="71604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einv interv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nnual Retur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n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iann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 month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Quarter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nth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bout Risk?—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2: Reallocation and Crystal Ball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ETF portfolio model, using random daily returns based on historic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returns fitted (chi-square) based on historical data for all 6 ETFs, taking into account cor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time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re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ransaction costs not included I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eallocation decision was made using Solver (based on historical data up to the date of the dec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867280" y="3200400"/>
            <a:ext cx="29718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33793"/>
          <a:stretch/>
        </p:blipFill>
        <p:spPr>
          <a:xfrm>
            <a:off x="76320" y="2195640"/>
            <a:ext cx="9067680" cy="2985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362320" y="1447920"/>
            <a:ext cx="2590560" cy="761760"/>
          </a:xfrm>
          <a:prstGeom prst="wedgeRoundRectCallout">
            <a:avLst>
              <a:gd name="adj1" fmla="val 25305"/>
              <a:gd name="adj2" fmla="val 8895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Allocations (Fractions sum to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3048120"/>
            <a:ext cx="4191120" cy="1066680"/>
          </a:xfrm>
          <a:prstGeom prst="wedgeEllipseCallout">
            <a:avLst>
              <a:gd name="adj1" fmla="val -48634"/>
              <a:gd name="adj2" fmla="val 6145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llocation decision based on all historical data to tha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 Ba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6320" y="2195640"/>
            <a:ext cx="9067680" cy="4510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3600" y="122400"/>
            <a:ext cx="2971800" cy="1869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86600" y="4419720"/>
            <a:ext cx="1828800" cy="1066680"/>
          </a:xfrm>
          <a:prstGeom prst="wedgeRoundRectCallout">
            <a:avLst>
              <a:gd name="adj1" fmla="val -43518"/>
              <a:gd name="adj2" fmla="val 67111"/>
              <a:gd name="adj3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ily returns for each ETF (sim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96720" y="5638680"/>
            <a:ext cx="822600" cy="1219320"/>
            <a:chOff x="396720" y="5638680"/>
            <a:chExt cx="822600" cy="1219320"/>
          </a:xfrm>
        </p:grpSpPr>
        <p:sp>
          <p:nvSpPr>
            <p:cNvPr id="190" name=""/>
            <p:cNvSpPr/>
            <p:nvPr/>
          </p:nvSpPr>
          <p:spPr>
            <a:xfrm>
              <a:off x="838080" y="5638680"/>
              <a:ext cx="381240" cy="1219320"/>
            </a:xfrm>
            <a:prstGeom prst="downArrow">
              <a:avLst>
                <a:gd name="adj1" fmla="val 50000"/>
                <a:gd name="adj2" fmla="val 79958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20880" y="6035400"/>
              <a:ext cx="1119600" cy="36828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y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181480" y="4419720"/>
            <a:ext cx="1828800" cy="761760"/>
          </a:xfrm>
          <a:prstGeom prst="wedgeRoundRectCallout">
            <a:avLst>
              <a:gd name="adj1" fmla="val -38282"/>
              <a:gd name="adj2" fmla="val 100416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each E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33520" y="4952880"/>
            <a:ext cx="1828800" cy="762120"/>
            <a:chOff x="533520" y="4952880"/>
            <a:chExt cx="1828800" cy="762120"/>
          </a:xfrm>
        </p:grpSpPr>
        <p:sp>
          <p:nvSpPr>
            <p:cNvPr id="194" name=""/>
            <p:cNvSpPr/>
            <p:nvPr/>
          </p:nvSpPr>
          <p:spPr>
            <a:xfrm flipV="1">
              <a:off x="838080" y="5334120"/>
              <a:ext cx="990720" cy="38088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20" y="4952880"/>
              <a:ext cx="1828800" cy="3682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itial Allo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ocation and Crystal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1609560"/>
          <a:ext cx="4952880" cy="5127840"/>
        </p:xfrm>
        <a:graphic>
          <a:graphicData uri="http://schemas.openxmlformats.org/drawingml/2006/table">
            <a:tbl>
              <a:tblPr/>
              <a:tblGrid>
                <a:gridCol w="1447560"/>
                <a:gridCol w="1168560"/>
                <a:gridCol w="1168200"/>
                <a:gridCol w="116856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ing Value (Ann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ding Value (Quarter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ding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onth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.09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8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d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.0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0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99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andard Dev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9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09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9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0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kew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6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Kurto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eff. of Vari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8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8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8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8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4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.4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.4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ange Wid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6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58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5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ean Std.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0.0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0.0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76320" y="2057400"/>
            <a:ext cx="3809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returns may reflect specific reallocation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standard deviation: More frequent reallocation may help protect against the vagaries of timing of the initial allocation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ing short-term economic mo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ransaction fees (and time and effort) can be cos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F Portfolio F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does timing of historical data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3610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828800" y="5410080"/>
            <a:ext cx="5410080" cy="1341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30040" y="44956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2/04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location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ocation is based on historical data, correlation may work, but only in the short ter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elationship between historical performance and future retu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eat Emp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ed future return based on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d with actual return 11/05-11/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= -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676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and 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historical data to predict future returns may be fla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lying on history, short-term economic momentum means more frequent reallocation may reduc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ocation decisions may be better off timed to factors other than time, such a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ation (mechanical reallo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rrations in amounts of capital inflows into stock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or underperformance of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69200" y="63612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Based on discussion with Prof. Ok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ELECTION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25440"/>
            <a:ext cx="82296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 of the main US economic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d market wide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data availability of at least 1 year (many of the 250 ETFs have been introduced very recent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Geographic coverage: European, Latin American and Asian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848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ques to our model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anks to the contributions of Professor Ok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1120" y="2333160"/>
            <a:ext cx="77817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product 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ovariance with S&amp;P only when the economy grow….dang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 factors count: should include only Country Indexes (No Sectors) due to high correlation of Industries within a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dexes for concentration risk: are they representative of the country or only of specific indus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tend to specialize in one industry (e.g. Oil). Need to account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8148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year of historical return is a very short peri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ques of 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interactions between country and sector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base our portfolio only on Country indexes (no Sector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models to identify the countries with strong expected growth (using GDP, inflatio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valuate weighting of historical data vs economic data (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how historical data are good to identify economic cycles (e.g. first year after elections are historically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1143000"/>
            <a:ext cx="4145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t A: Portfolio Optimiz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re is the efficient frontie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portfolio composed of the above 37 ETF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ed all closing daily prices for the last year for all 37 ETF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the daily changes in price and have used excel to calculate the mean, standard deviation and variance of each sto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 FORM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2158920"/>
            <a:ext cx="76201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ial Formul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allocate 100% of the available funds to the 37 st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minimize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On each run, the expected return on the portfolio must be at least equal to the specified retur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ll of the money must be inves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No shorting is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Form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o be the proportion of the portfolio allocated to ET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variables are 37 proportions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….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pected return on the portfolio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ance of the return on the portfolio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ndard deviation of the return on the portfolio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Z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          for all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3876840"/>
            <a:ext cx="7691400" cy="279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71600" y="2819520"/>
            <a:ext cx="264960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7010640" cy="327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895480" y="4441680"/>
            <a:ext cx="6019920" cy="279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362320" y="4997520"/>
            <a:ext cx="3352680" cy="257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362320" y="5181480"/>
            <a:ext cx="669960" cy="428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0"/>
                <a:ext cx="676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2438280" y="5638680"/>
            <a:ext cx="41940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5:43:30Z</dcterms:created>
  <dc:creator>Vivian Lee, M.D., Ph.D.</dc:creator>
  <dc:description/>
  <dc:language>en-US</dc:language>
  <cp:lastModifiedBy>Vivian Lee, M.D., Ph.D.</cp:lastModifiedBy>
  <dcterms:modified xsi:type="dcterms:W3CDTF">2006-11-18T14:40:04Z</dcterms:modified>
  <cp:revision>32</cp:revision>
  <dc:subject/>
  <dc:title>How and When to Invest in ETFs</dc:title>
</cp:coreProperties>
</file>