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26.png" ContentType="image/png"/>
  <Override PartName="/ppt/media/image7.png" ContentType="image/png"/>
  <Override PartName="/ppt/media/image6.png" ContentType="image/png"/>
  <Override PartName="/ppt/media/image29.png" ContentType="image/png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.png" ContentType="image/png"/>
  <Override PartName="/ppt/media/image25.png" ContentType="image/png"/>
  <Override PartName="/ppt/media/image28.png" ContentType="image/png"/>
  <Override PartName="/ppt/media/image16.png" ContentType="image/png"/>
  <Override PartName="/ppt/media/image27.png" ContentType="image/png"/>
  <Override PartName="/ppt/media/image15.png" ContentType="image/png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EF00-EA25-4378-A0D5-C7ECF12DF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9CF7-5BA2-4D88-A38C-F74210F30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F52D-8224-4079-A2B8-D5D785F23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64E9-7EF2-4E5D-A09C-C0D418D75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42BA4-8F61-43DA-9B90-AD7E3DA8E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cd5f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29698-E42C-48BB-A238-F572C2A5C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6D5DE-F5EB-4C0F-AFB2-DC527A25C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05CFA-3051-4AE9-A4AC-42ABCD079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15A8D-9449-48AA-9520-8D67D2C76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cd5f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44A20-8F6A-4E4F-9400-9CDBCB2EF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B8DD5-1BB4-4472-99B9-5195DF77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cd5f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9846-4C96-4A5C-9D52-033F7C753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F59EE-2092-437D-9A74-4CE64475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E1AE1-B8F0-444B-9023-EAD633CF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1AC6B-9A69-4E5A-8ED5-CE123027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460C8-B8BC-4347-9163-F00DB473B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3AC35-4E60-49B6-AFB7-D04E3D119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78CF-6E6D-472B-828F-2934D2DCE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A608-DEFC-41C5-8103-978884EA0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1669-416B-4ED9-9673-28067F59A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cd5f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6957-9539-4639-A592-5345B77C2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12AA-32F2-44D5-B3AF-85D6B5A6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F949-E801-41B7-B0A5-7FE95A96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5541-0330-40E5-BD25-5B23D103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d5f4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cd5f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cd5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d5f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cd5f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BCAE9-9727-4783-A347-3FBB114122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66688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35162-BA6E-4401-AACB-1BEB4E3480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cd5f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9cd5f4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cd5f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d5f4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cd5f4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3.wmf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16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6.xml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5.wmf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66688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Tradeshow Connections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95280" y="39621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cd5f4"/>
                </a:solidFill>
                <a:latin typeface="Arial"/>
              </a:rPr>
              <a:t>Angelique Destruel  &amp; Ronald Staugaard</a:t>
            </a:r>
            <a:endParaRPr b="0" lang="en-US" sz="2400" spc="-1" strike="noStrike">
              <a:solidFill>
                <a:srgbClr val="9cd5f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d5f4"/>
                </a:solidFill>
                <a:latin typeface="Verdana"/>
              </a:rPr>
              <a:t>Projection</a:t>
            </a: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0" y="1905120"/>
          <a:ext cx="9144000" cy="2913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905120"/>
                    <a:ext cx="9144000" cy="29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8686800" y="2133720"/>
            <a:ext cx="38088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838080" y="457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380880"/>
            <a:ext cx="7467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st Plus Pricing – Analyzing scen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80880" y="838080"/>
            <a:ext cx="8458200" cy="21337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457200" y="3249720"/>
            <a:ext cx="8305920" cy="32623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838080" y="3254400"/>
            <a:ext cx="7467840" cy="34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33520" y="762120"/>
            <a:ext cx="4495680" cy="20541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533520" y="3200400"/>
            <a:ext cx="4647960" cy="21686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5257800" y="1981080"/>
            <a:ext cx="3657600" cy="23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838080" y="0"/>
            <a:ext cx="7620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icing Selection – based on estimated annual s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57200" y="695160"/>
          <a:ext cx="8001000" cy="5400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695160"/>
                    <a:ext cx="800100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457200" y="632448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ertainty of 80% uses for above CB calculations (see backu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d5f4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9cd5f4"/>
                </a:solidFill>
                <a:latin typeface="Verdana"/>
              </a:rPr>
              <a:t>Final Decision</a:t>
            </a: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 rot="20241600">
            <a:off x="1077480" y="2309400"/>
            <a:ext cx="6853320" cy="280368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2a99ec"/>
              </a:gs>
              <a:gs pos="100000">
                <a:srgbClr val="eaf4fc"/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48120" y="1849320"/>
            <a:ext cx="1284120" cy="1274760"/>
          </a:xfrm>
          <a:prstGeom prst="ellipse">
            <a:avLst/>
          </a:prstGeom>
          <a:gradFill rotWithShape="0">
            <a:gsLst>
              <a:gs pos="0">
                <a:srgbClr val="dbeacf"/>
              </a:gs>
              <a:gs pos="100000">
                <a:srgbClr val="70b04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14400" y="3886200"/>
            <a:ext cx="1282680" cy="1274760"/>
          </a:xfrm>
          <a:prstGeom prst="ellipse">
            <a:avLst/>
          </a:prstGeom>
          <a:gradFill rotWithShape="0">
            <a:gsLst>
              <a:gs pos="0">
                <a:srgbClr val="cae5f9"/>
              </a:gs>
              <a:gs pos="100000">
                <a:srgbClr val="2a99e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040360" y="3962520"/>
            <a:ext cx="1284120" cy="1274760"/>
          </a:xfrm>
          <a:prstGeom prst="ellipse">
            <a:avLst/>
          </a:prstGeom>
          <a:gradFill rotWithShape="0">
            <a:gsLst>
              <a:gs pos="0">
                <a:srgbClr val="9cd5f4"/>
              </a:gs>
              <a:gs pos="100000">
                <a:srgbClr val="678da2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200196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dae2f3"/>
              </a:gs>
              <a:gs pos="100000">
                <a:srgbClr val="6b8ed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370680" y="2306520"/>
            <a:ext cx="6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52a83"/>
                </a:solidFill>
                <a:latin typeface="Verdana"/>
              </a:rPr>
              <a:t>C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87880" y="250812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52a83"/>
                </a:solidFill>
                <a:latin typeface="Verdana"/>
              </a:rPr>
              <a:t>Foreca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57880" y="441972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52a83"/>
                </a:solidFill>
                <a:latin typeface="Verdana"/>
              </a:rPr>
              <a:t>Pr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82960" y="4336920"/>
            <a:ext cx="7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52a83"/>
                </a:solidFill>
                <a:latin typeface="Verdana"/>
              </a:rPr>
              <a:t>Prof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429000" y="3433680"/>
            <a:ext cx="2590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b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21387600">
            <a:off x="5257800" y="18288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ystal Ba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581280" y="1981080"/>
            <a:ext cx="21672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5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66688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Back-up Slides</a:t>
            </a:r>
            <a:endParaRPr b="1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295280" y="39621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cd5f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d5f4"/>
                </a:solidFill>
                <a:latin typeface="Verdana"/>
              </a:rPr>
              <a:t>Basic Service</a:t>
            </a: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173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ion and coordination of project plan includ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9cd5f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mely/accurate paper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9cd5f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herence to regul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9cd5f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gistic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9cd5f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otograph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9cd5f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dio/visu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9cd5f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w services - plants, a water cooler, coffee service, chairs, phone and fax lines, electrical outle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9cd5f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taurant reservation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9cd5f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ok extra meeting room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9cd5f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der the catering and déc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9cd5f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ow Kit” – Easy access infor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9cd5f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t-meeting statistics and summary repo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ationships with Associ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d5f4"/>
                </a:solidFill>
                <a:latin typeface="Verdana"/>
              </a:rPr>
              <a:t>Start Up Costs</a:t>
            </a: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732312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d5f4"/>
                </a:solidFill>
                <a:latin typeface="Verdana"/>
              </a:rPr>
              <a:t>Monthly Overhead</a:t>
            </a: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066680" y="1676520"/>
            <a:ext cx="717084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d5f4"/>
                </a:solidFill>
                <a:latin typeface="Verdana"/>
              </a:rPr>
              <a:t>Venti – Cost Estimate</a:t>
            </a: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677880" y="1558800"/>
            <a:ext cx="778032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d5f4"/>
                </a:solidFill>
                <a:latin typeface="Verdana"/>
              </a:rPr>
              <a:t>Agenda</a:t>
            </a: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85" name=""/>
          <p:cNvSpPr/>
          <p:nvPr/>
        </p:nvSpPr>
        <p:spPr>
          <a:xfrm>
            <a:off x="2057400" y="1752480"/>
            <a:ext cx="541008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574617"/>
              </a:gs>
              <a:gs pos="50000">
                <a:srgbClr val="be9932"/>
              </a:gs>
              <a:gs pos="100000">
                <a:srgbClr val="574617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Overview of C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57400" y="2514600"/>
            <a:ext cx="541008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13466c"/>
              </a:gs>
              <a:gs pos="50000">
                <a:srgbClr val="2a99ec"/>
              </a:gs>
              <a:gs pos="100000">
                <a:srgbClr val="13466c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Cost Analy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057400" y="3276720"/>
            <a:ext cx="541008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33511d"/>
              </a:gs>
              <a:gs pos="50000">
                <a:srgbClr val="70b040"/>
              </a:gs>
              <a:gs pos="100000">
                <a:srgbClr val="33511d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Pricing Analy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57400" y="4038480"/>
            <a:ext cx="541008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314161"/>
              </a:gs>
              <a:gs pos="50000">
                <a:srgbClr val="6b8ed3"/>
              </a:gs>
              <a:gs pos="100000">
                <a:srgbClr val="314161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. Sales Projec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057400" y="4826160"/>
            <a:ext cx="541008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0f5a16"/>
              </a:gs>
              <a:gs pos="50000">
                <a:srgbClr val="21c531"/>
              </a:gs>
              <a:gs pos="100000">
                <a:srgbClr val="0f5a16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 Business Vi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4800600"/>
            <a:ext cx="38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d5f4"/>
                </a:solidFill>
                <a:latin typeface="Verdana"/>
              </a:rPr>
              <a:t>Grande - Cost Estimate</a:t>
            </a: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830160" y="1706400"/>
            <a:ext cx="7628040" cy="42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d5f4"/>
                </a:solidFill>
                <a:latin typeface="Verdana"/>
              </a:rPr>
              <a:t>Tall – Cost Estimate</a:t>
            </a: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601560" y="1676520"/>
            <a:ext cx="8008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d5f4"/>
                </a:solidFill>
                <a:latin typeface="Verdana"/>
              </a:rPr>
              <a:t>Personnel Requirements</a:t>
            </a: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752480" y="2209680"/>
          <a:ext cx="5105520" cy="2911680"/>
        </p:xfrm>
        <a:graphic>
          <a:graphicData uri="http://schemas.openxmlformats.org/drawingml/2006/table">
            <a:tbl>
              <a:tblPr/>
              <a:tblGrid>
                <a:gridCol w="1109520"/>
                <a:gridCol w="1320840"/>
                <a:gridCol w="1352520"/>
                <a:gridCol w="1322640"/>
              </a:tblGrid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atistic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ffffff"/>
                      </a:solidFill>
                    </a:lnL>
                    <a:lnR>
                      <a:noFill/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"Regular" (10x10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"Large" (10x20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"Big Gulp" (20x20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ial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ffffff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Mea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1.2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2.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5.2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andard Devia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4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7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5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inimu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4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9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.0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7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ximu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.5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.2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.9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720">
                      <a:solidFill>
                        <a:srgbClr val="ffffff"/>
                      </a:solidFill>
                    </a:lnR>
                    <a:lnT>
                      <a:noFill/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0" y="304920"/>
          <a:ext cx="9144000" cy="2227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04920"/>
                    <a:ext cx="9144000" cy="22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228600" y="3413160"/>
            <a:ext cx="611172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1371600" y="457200"/>
            <a:ext cx="6477120" cy="29592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1371600" y="3505320"/>
            <a:ext cx="647712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533520" y="533520"/>
            <a:ext cx="7467480" cy="28605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609480" y="3657600"/>
            <a:ext cx="739152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609480" y="533520"/>
            <a:ext cx="3981600" cy="24699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4724280" y="622440"/>
            <a:ext cx="3810240" cy="24256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685800" y="3657600"/>
            <a:ext cx="3657600" cy="23274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5"/>
          <a:stretch/>
        </p:blipFill>
        <p:spPr>
          <a:xfrm>
            <a:off x="4648320" y="3581280"/>
            <a:ext cx="365760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d5f4"/>
                </a:solidFill>
                <a:latin typeface="Verdana"/>
              </a:rPr>
              <a:t>Concept Overview</a:t>
            </a: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deshow Conn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8,000 medical device compan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0,000 medical tradeshows per y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5% Marketing Budget to tradesho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190440" y="3975120"/>
            <a:ext cx="1513080" cy="1511280"/>
            <a:chOff x="190440" y="3975120"/>
            <a:chExt cx="1513080" cy="1511280"/>
          </a:xfrm>
        </p:grpSpPr>
        <p:sp>
          <p:nvSpPr>
            <p:cNvPr id="94" name=""/>
            <p:cNvSpPr/>
            <p:nvPr/>
          </p:nvSpPr>
          <p:spPr>
            <a:xfrm>
              <a:off x="190440" y="397512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cd5f4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90440" y="397512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9cd5f4"/>
                </a:gs>
                <a:gs pos="100000">
                  <a:srgbClr val="b9e0f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89440" y="407376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547283"/>
                </a:gs>
                <a:gs pos="50000">
                  <a:srgbClr val="9cd5f4"/>
                </a:gs>
                <a:gs pos="100000">
                  <a:srgbClr val="54728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89440" y="407376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4b6776"/>
                </a:gs>
                <a:gs pos="100000">
                  <a:srgbClr val="9cd5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320" y="4139640"/>
              <a:ext cx="1183320" cy="1181880"/>
            </a:xfrm>
            <a:prstGeom prst="ellipse">
              <a:avLst/>
            </a:prstGeom>
            <a:gradFill rotWithShape="0">
              <a:gsLst>
                <a:gs pos="0">
                  <a:srgbClr val="476270"/>
                </a:gs>
                <a:gs pos="100000">
                  <a:srgbClr val="9cd5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1463760" y="2198520"/>
            <a:ext cx="5759280" cy="2159280"/>
          </a:xfrm>
          <a:prstGeom prst="upArrow">
            <a:avLst>
              <a:gd name="adj1" fmla="val 57296"/>
              <a:gd name="adj2" fmla="val 62796"/>
            </a:avLst>
          </a:prstGeom>
          <a:gradFill rotWithShape="0">
            <a:gsLst>
              <a:gs pos="0">
                <a:srgbClr val="9cd5f4"/>
              </a:gs>
              <a:gs pos="100000">
                <a:srgbClr val="ddf0f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7516800" y="3909960"/>
            <a:ext cx="1513080" cy="1511280"/>
            <a:chOff x="7516800" y="3909960"/>
            <a:chExt cx="1513080" cy="1511280"/>
          </a:xfrm>
        </p:grpSpPr>
        <p:sp>
          <p:nvSpPr>
            <p:cNvPr id="101" name=""/>
            <p:cNvSpPr/>
            <p:nvPr/>
          </p:nvSpPr>
          <p:spPr>
            <a:xfrm>
              <a:off x="7516800" y="390996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be9932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16800" y="390996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be9932"/>
                </a:gs>
                <a:gs pos="100000">
                  <a:srgbClr val="d8c3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15800" y="400860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66521a"/>
                </a:gs>
                <a:gs pos="50000">
                  <a:srgbClr val="be9932"/>
                </a:gs>
                <a:gs pos="100000">
                  <a:srgbClr val="66521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615800" y="400860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5c4a18"/>
                </a:gs>
                <a:gs pos="100000">
                  <a:srgbClr val="be993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681680" y="4074480"/>
              <a:ext cx="1183320" cy="1181880"/>
            </a:xfrm>
            <a:prstGeom prst="ellipse">
              <a:avLst/>
            </a:prstGeom>
            <a:gradFill rotWithShape="0">
              <a:gsLst>
                <a:gs pos="0">
                  <a:srgbClr val="574617"/>
                </a:gs>
                <a:gs pos="100000">
                  <a:srgbClr val="be99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1943280" y="3922560"/>
            <a:ext cx="1512720" cy="1511280"/>
            <a:chOff x="1943280" y="3922560"/>
            <a:chExt cx="1512720" cy="1511280"/>
          </a:xfrm>
        </p:grpSpPr>
        <p:sp>
          <p:nvSpPr>
            <p:cNvPr id="107" name=""/>
            <p:cNvSpPr/>
            <p:nvPr/>
          </p:nvSpPr>
          <p:spPr>
            <a:xfrm>
              <a:off x="1943280" y="392256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70b040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943280" y="392256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70b040"/>
                </a:gs>
                <a:gs pos="100000">
                  <a:srgbClr val="9ac77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042280" y="402120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3c5e22"/>
                </a:gs>
                <a:gs pos="50000">
                  <a:srgbClr val="70b040"/>
                </a:gs>
                <a:gs pos="100000">
                  <a:srgbClr val="3c5e2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42280" y="402120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36551f"/>
                </a:gs>
                <a:gs pos="100000">
                  <a:srgbClr val="70b04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108160" y="4087080"/>
              <a:ext cx="1182960" cy="1181880"/>
            </a:xfrm>
            <a:prstGeom prst="ellipse">
              <a:avLst/>
            </a:prstGeom>
            <a:gradFill rotWithShape="0">
              <a:gsLst>
                <a:gs pos="0">
                  <a:srgbClr val="33511d"/>
                </a:gs>
                <a:gs pos="100000">
                  <a:srgbClr val="70b04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1523880" y="1014480"/>
            <a:ext cx="5639040" cy="10033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cd5f4"/>
              </a:gs>
              <a:gs pos="50000">
                <a:srgbClr val="476270"/>
              </a:gs>
              <a:gs pos="100000">
                <a:srgbClr val="9cd5f4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ccessful Tradesh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5440" y="454644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eat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907040" y="453384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ff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305800" y="454644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o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64320" y="3922560"/>
            <a:ext cx="1512720" cy="1511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6b8ed3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64320" y="3922560"/>
            <a:ext cx="1512720" cy="1511280"/>
          </a:xfrm>
          <a:prstGeom prst="ellipse">
            <a:avLst/>
          </a:prstGeom>
          <a:gradFill rotWithShape="0">
            <a:gsLst>
              <a:gs pos="0">
                <a:srgbClr val="0066cc"/>
              </a:gs>
              <a:gs pos="100000">
                <a:srgbClr val="5498d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862600" y="4021200"/>
            <a:ext cx="1315800" cy="1314360"/>
            <a:chOff x="5862600" y="4021200"/>
            <a:chExt cx="1315800" cy="1314360"/>
          </a:xfrm>
        </p:grpSpPr>
        <p:sp>
          <p:nvSpPr>
            <p:cNvPr id="119" name=""/>
            <p:cNvSpPr/>
            <p:nvPr/>
          </p:nvSpPr>
          <p:spPr>
            <a:xfrm>
              <a:off x="5862600" y="4021200"/>
              <a:ext cx="1315800" cy="1314360"/>
            </a:xfrm>
            <a:prstGeom prst="ellipse">
              <a:avLst/>
            </a:prstGeom>
            <a:gradFill rotWithShape="0">
              <a:gsLst>
                <a:gs pos="0">
                  <a:srgbClr val="394c71"/>
                </a:gs>
                <a:gs pos="50000">
                  <a:srgbClr val="6b8ed3"/>
                </a:gs>
                <a:gs pos="100000">
                  <a:srgbClr val="394c7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862600" y="4021200"/>
              <a:ext cx="1315800" cy="1314360"/>
            </a:xfrm>
            <a:prstGeom prst="ellipse">
              <a:avLst/>
            </a:prstGeom>
            <a:gradFill rotWithShape="0">
              <a:gsLst>
                <a:gs pos="0">
                  <a:srgbClr val="003162"/>
                </a:gs>
                <a:gs pos="100000">
                  <a:srgbClr val="0066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929200" y="4087800"/>
              <a:ext cx="1182600" cy="1181160"/>
            </a:xfrm>
            <a:prstGeom prst="ellipse">
              <a:avLst/>
            </a:prstGeom>
            <a:gradFill rotWithShape="0">
              <a:gsLst>
                <a:gs pos="0">
                  <a:srgbClr val="002f5e"/>
                </a:gs>
                <a:gs pos="100000">
                  <a:srgbClr val="00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36120" y="4532400"/>
              <a:ext cx="9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oduc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3848040" y="3909960"/>
            <a:ext cx="1513080" cy="1511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6b8ed3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59200" y="3909960"/>
            <a:ext cx="1513080" cy="1511280"/>
          </a:xfrm>
          <a:prstGeom prst="ellipse">
            <a:avLst/>
          </a:prstGeom>
          <a:gradFill rotWithShape="0">
            <a:gsLst>
              <a:gs pos="0">
                <a:srgbClr val="b13cb4"/>
              </a:gs>
              <a:gs pos="100000">
                <a:srgbClr val="ca7c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946680" y="4008600"/>
            <a:ext cx="1315800" cy="1314360"/>
            <a:chOff x="3946680" y="4008600"/>
            <a:chExt cx="1315800" cy="1314360"/>
          </a:xfrm>
        </p:grpSpPr>
        <p:sp>
          <p:nvSpPr>
            <p:cNvPr id="126" name=""/>
            <p:cNvSpPr/>
            <p:nvPr/>
          </p:nvSpPr>
          <p:spPr>
            <a:xfrm>
              <a:off x="3946680" y="4008600"/>
              <a:ext cx="1315800" cy="1314360"/>
            </a:xfrm>
            <a:prstGeom prst="ellipse">
              <a:avLst/>
            </a:prstGeom>
            <a:gradFill rotWithShape="0">
              <a:gsLst>
                <a:gs pos="0">
                  <a:srgbClr val="394c71"/>
                </a:gs>
                <a:gs pos="50000">
                  <a:srgbClr val="6b8ed3"/>
                </a:gs>
                <a:gs pos="100000">
                  <a:srgbClr val="394c7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946680" y="4008600"/>
              <a:ext cx="1315800" cy="1314360"/>
            </a:xfrm>
            <a:prstGeom prst="ellipse">
              <a:avLst/>
            </a:prstGeom>
            <a:gradFill rotWithShape="0">
              <a:gsLst>
                <a:gs pos="0">
                  <a:srgbClr val="551d57"/>
                </a:gs>
                <a:gs pos="100000">
                  <a:srgbClr val="b13cb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013280" y="4075200"/>
              <a:ext cx="1182600" cy="1181160"/>
            </a:xfrm>
            <a:prstGeom prst="ellipse">
              <a:avLst/>
            </a:prstGeom>
            <a:gradFill rotWithShape="0">
              <a:gsLst>
                <a:gs pos="0">
                  <a:srgbClr val="511b52"/>
                </a:gs>
                <a:gs pos="100000">
                  <a:srgbClr val="b13cb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079160" y="4519440"/>
              <a:ext cx="106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70b040"/>
                  </a:solidFill>
                  <a:uFillTx/>
                  <a:latin typeface="Arial"/>
                  <a:hlinkClick r:id="rId2" action="ppaction://hlinksldjump"/>
                </a:rPr>
                <a:t>Logistic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d5f4"/>
                </a:solidFill>
                <a:latin typeface="Verdana"/>
              </a:rPr>
              <a:t>Concept Overview</a:t>
            </a: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deshow Conn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8ed3"/>
                </a:solidFill>
                <a:latin typeface="Arial"/>
              </a:rPr>
              <a:t>38,000 medical device compan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6b8ed3"/>
                </a:solidFill>
                <a:uFillTx/>
                <a:latin typeface="Arial"/>
              </a:rPr>
              <a:t>50,000</a:t>
            </a:r>
            <a:r>
              <a:rPr b="0" lang="en-US" sz="3200" spc="-1" strike="noStrike">
                <a:solidFill>
                  <a:srgbClr val="6b8ed3"/>
                </a:solidFill>
                <a:latin typeface="Arial"/>
              </a:rPr>
              <a:t> medical tradeshows per y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8ed3"/>
                </a:solidFill>
                <a:latin typeface="Arial"/>
              </a:rPr>
              <a:t>75% Marketing Budget to tradesho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asonal (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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load on current resourc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sk re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che: small to mid-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rget: management and/or sta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d5f4"/>
                </a:solidFill>
                <a:latin typeface="Verdana"/>
              </a:rPr>
              <a:t>Cost Analysis</a:t>
            </a: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04920" y="2308320"/>
          <a:ext cx="8610480" cy="1272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2308320"/>
                    <a:ext cx="8610480" cy="12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0" y="152280"/>
          <a:ext cx="9144000" cy="3355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52280"/>
                    <a:ext cx="9144000" cy="33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0" y="3803760"/>
          <a:ext cx="9144000" cy="28256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3803760"/>
                    <a:ext cx="9144000" cy="28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1295280" y="2514600"/>
            <a:ext cx="6485040" cy="32655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7"/>
          <a:stretch/>
        </p:blipFill>
        <p:spPr>
          <a:xfrm>
            <a:off x="2666880" y="3249720"/>
            <a:ext cx="647712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600200" y="3780000"/>
            <a:ext cx="6111720" cy="307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2" name=""/>
          <p:cNvGraphicFramePr/>
          <p:nvPr/>
        </p:nvGraphicFramePr>
        <p:xfrm>
          <a:off x="0" y="601560"/>
          <a:ext cx="9144000" cy="2225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01560"/>
                    <a:ext cx="9144000" cy="22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2514600" y="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s: “Grande” (10x2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600200" y="3413160"/>
            <a:ext cx="6111720" cy="3444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0" y="601560"/>
          <a:ext cx="9144000" cy="2225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01560"/>
                    <a:ext cx="9144000" cy="22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2514600" y="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s: “Grande” (10x2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6T19:00:48Z</dcterms:created>
  <dc:creator>Angelique Destruel</dc:creator>
  <dc:description/>
  <cp:keywords/>
  <dc:language>en-US</dc:language>
  <cp:lastModifiedBy>Angelique Destruel</cp:lastModifiedBy>
  <dcterms:modified xsi:type="dcterms:W3CDTF">2006-11-30T19:29:33Z</dcterms:modified>
  <cp:revision>23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51033</vt:lpwstr>
  </property>
</Properties>
</file>