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4.wmf" ContentType="image/x-wmf"/>
  <Override PartName="/ppt/media/image12.wmf" ContentType="image/x-wmf"/>
  <Override PartName="/ppt/media/image13.png" ContentType="image/png"/>
  <Override PartName="/ppt/media/image33.wmf" ContentType="image/x-wmf"/>
  <Override PartName="/ppt/media/image2.png" ContentType="image/png"/>
  <Override PartName="/ppt/media/image10.wmf" ContentType="image/x-wmf"/>
  <Override PartName="/ppt/media/image31.wmf" ContentType="image/x-wmf"/>
  <Override PartName="/ppt/media/image32.wmf" ContentType="image/x-wmf"/>
  <Override PartName="/ppt/media/image35.wmf" ContentType="image/x-wmf"/>
  <Override PartName="/ppt/media/image9.png" ContentType="image/png"/>
  <Override PartName="/ppt/media/image42.wmf" ContentType="image/x-wmf"/>
  <Override PartName="/ppt/media/image39.png" ContentType="image/png"/>
  <Override PartName="/ppt/media/image38.wmf" ContentType="image/x-wmf"/>
  <Override PartName="/ppt/media/image40.wmf" ContentType="image/x-wmf"/>
  <Override PartName="/ppt/media/image11.jpeg" ContentType="image/jpeg"/>
  <Override PartName="/ppt/media/image41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5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.png" ContentType="image/png"/>
  <Override PartName="/ppt/media/image17.jpeg" ContentType="image/jpeg"/>
  <Override PartName="/ppt/media/image29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CB6A-9760-4E6B-B470-27491DA4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5E34-1650-458D-96D1-1813AA16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CDC-F2A2-47E4-B95E-7B64CC46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29A9-52B3-40E2-AF24-891D2EE5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727E-F45E-43B4-B140-5D23700E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E266-FB01-4185-81E0-8C4B84AD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B75F-12AC-4297-9DDE-F7194BD0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FF08-8A8D-4A76-BAFB-C754C79F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167C-68E4-4739-85B3-27A4DB16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6FF1-F11D-4E70-9E86-29889D3D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059E-0136-4A20-B4C6-57A9C67E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52ED-B33D-4543-800E-EB5FA85C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34EE-F707-4893-9CE6-B1A1A552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C26A-DB8B-4A49-AC52-0F7D467D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2069-89D1-4727-A2DF-D5143AFF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083C-E96B-47ED-A1CD-C816D555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366C-E516-4FDD-93A5-1B4853DA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8171-F46D-44E8-99B1-DF1590B6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68BA-4EDD-49F6-9D9F-D06C96FF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FDC1-5841-4B31-B1D5-39495A7A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1486-0E8F-4089-B6CE-ABF3D7C8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F7CC-28EB-4718-8641-97761C61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CD43-7CF6-4494-8B36-BB9A067C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A40B-CCB3-4153-875F-5C7BA701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0618-8C89-463B-9DB6-ED2FBE5E4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3716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15200" y="228600"/>
            <a:ext cx="1600200" cy="12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5B97-52E7-48AC-9CE6-4DF282DAA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9.png"/><Relationship Id="rId6" Type="http://schemas.openxmlformats.org/officeDocument/2006/relationships/image" Target="../media/image15.png"/><Relationship Id="rId7" Type="http://schemas.openxmlformats.org/officeDocument/2006/relationships/image" Target="../media/image17.jpeg"/><Relationship Id="rId8" Type="http://schemas.openxmlformats.org/officeDocument/2006/relationships/image" Target="../media/image11.jpeg"/><Relationship Id="rId9" Type="http://schemas.openxmlformats.org/officeDocument/2006/relationships/image" Target="../media/image8.png"/><Relationship Id="rId10" Type="http://schemas.openxmlformats.org/officeDocument/2006/relationships/image" Target="../media/image21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jpeg"/><Relationship Id="rId12" Type="http://schemas.openxmlformats.org/officeDocument/2006/relationships/image" Target="../media/image12.wmf"/><Relationship Id="rId13" Type="http://schemas.openxmlformats.org/officeDocument/2006/relationships/image" Target="../media/image13.png"/><Relationship Id="rId14" Type="http://schemas.openxmlformats.org/officeDocument/2006/relationships/image" Target="../media/image14.wmf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wmf"/><Relationship Id="rId2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5562720" cy="4176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 rot="640800">
            <a:off x="4571640" y="3044160"/>
            <a:ext cx="3886200" cy="21366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th American Tour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800600" y="5867280"/>
            <a:ext cx="3733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zanne Girolami, Matt Hefner, Josh How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nathan Reckers, and Jonathan C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733800">
            <a:off x="4495680" y="464832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733800">
            <a:off x="4829040" y="28036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733800">
            <a:off x="8458200" y="350532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733800">
            <a:off x="8077320" y="5333760"/>
            <a:ext cx="7596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54160" y="1459080"/>
            <a:ext cx="5065920" cy="52401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s and Hotel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90040" y="3187800"/>
            <a:ext cx="4336560" cy="1068840"/>
          </a:xfrm>
          <a:prstGeom prst="rect">
            <a:avLst/>
          </a:prstGeom>
          <a:solidFill>
            <a:srgbClr val="ff505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tal Gas &amp; Hote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6,9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59440" y="3311640"/>
            <a:ext cx="2596320" cy="1068840"/>
          </a:xfrm>
          <a:prstGeom prst="rect">
            <a:avLst/>
          </a:prstGeom>
          <a:solidFill>
            <a:srgbClr val="cc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urrent 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387,6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ptimal Tour Rou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8920" y="1778040"/>
            <a:ext cx="7543800" cy="4800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flipV="1">
            <a:off x="6848640" y="3057480"/>
            <a:ext cx="457200" cy="37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715080" y="3067200"/>
            <a:ext cx="53352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295680" y="3067200"/>
            <a:ext cx="399960" cy="42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924160" y="3505320"/>
            <a:ext cx="39996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019840" y="3505320"/>
            <a:ext cx="914400" cy="47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314960" y="2905200"/>
            <a:ext cx="704880" cy="62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057040" y="2581200"/>
            <a:ext cx="225756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886040" y="2581200"/>
            <a:ext cx="171360" cy="10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99760" y="3648240"/>
            <a:ext cx="1266840" cy="47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28560" y="3685680"/>
            <a:ext cx="1238400" cy="47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933480" y="3666960"/>
            <a:ext cx="952560" cy="115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933480" y="4695480"/>
            <a:ext cx="1590480" cy="114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95520" y="4714920"/>
            <a:ext cx="1390680" cy="55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95560" y="5295960"/>
            <a:ext cx="1724040" cy="28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3905280" y="5248080"/>
            <a:ext cx="1714320" cy="28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24360" y="4200120"/>
            <a:ext cx="895320" cy="1047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19680" y="3571560"/>
            <a:ext cx="19044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67360" y="3552840"/>
            <a:ext cx="857160" cy="38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943600" y="3561840"/>
            <a:ext cx="361800" cy="5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343560" y="3114360"/>
            <a:ext cx="371520" cy="39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15080" y="3114720"/>
            <a:ext cx="133560" cy="25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143760" y="3429000"/>
            <a:ext cx="704880" cy="428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62840" y="3857760"/>
            <a:ext cx="285480" cy="923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838840" y="4781520"/>
            <a:ext cx="590400" cy="295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629320" y="5095800"/>
            <a:ext cx="209520" cy="39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81800" y="5076720"/>
            <a:ext cx="218880" cy="400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5562720" y="4524480"/>
            <a:ext cx="257040" cy="542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572080" y="3876840"/>
            <a:ext cx="552600" cy="66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05600" y="3867120"/>
            <a:ext cx="285840" cy="895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477120" y="3486240"/>
            <a:ext cx="390240" cy="1285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8623440" y="6300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9.0)">
                                      <p:cBhvr>
                                        <p:cTn id="109" dur="198154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8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su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Performances = 30 (19 Unique Ven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Revenue = $394,5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Hotel &amp; Gas Cost = $6,9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= $387,6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 Member Cut = $25,000 * 9 = $22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Juran’s Take = $162,6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 Income = $125,273.0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O ON TOU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is Juran forgetting somet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s. Juran Pushes Bac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 Juran is concerned that her husband’s model is in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has engaged us to consider some additional factor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s. Juran Pushes Bac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s. Juran is concerned that if band members are not getting their preferred food and drink or “creative stimulants” their overall utility will d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happens band members may miss shows and potential revenue streams could be aff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worries that ticket revenue alone may not be su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n, Juran Has an Epiph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. Juran convinces Jonathan Cain to quit his consulting career and instead sell Juran Juran officially licensed merchandise on the t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57200" y="3965400"/>
            <a:ext cx="8228160" cy="260208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each concertgoer will buy one merchandise 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Merchandise Profit = Venue Capacity * Average Merchandise Item 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ximum Merchandise Pro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3160" y="1811160"/>
            <a:ext cx="8818560" cy="43596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s. Juran’s Conc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 Member 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upon Availability of Desired Food, Drink and “Creative Stimulant” at a Particular Ve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% Chance that Each Band Member is Unsatisfied with Either Food or Stimulant at Each Ven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angular Distribution with “Likeliest” Value of Satisfaction by Band Me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ran Assumed 100%, Others are not So Agree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mulative Satisfaction = Food Satisfaction * Stimulant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mulative Satisfaction &lt; 3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and Member Does Not Play S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Band Member Does Not Play a Particular Show, Ticket Sales for that Show are Decreased by a “Penalty” Percentage, and Less Merchandise is S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07800" y="2036880"/>
            <a:ext cx="8506080" cy="2322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rchandise Penal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Less than 10 Members Play, a Percentage of Max Merchandise Profit is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271680" y="3062160"/>
            <a:ext cx="2806920" cy="2789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. Juran is keen to go on tour instead of teaching yet another semester of Decision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 Juran is prepared to let him go for a semester provided he can earn more money than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28600" y="1650960"/>
            <a:ext cx="8124840" cy="1581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Satisfactio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28600" y="5156280"/>
            <a:ext cx="5749920" cy="1442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228600" y="3479760"/>
            <a:ext cx="8583480" cy="1514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Merchandise Pro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06400" y="1349280"/>
            <a:ext cx="7696080" cy="52624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385040" y="1525680"/>
            <a:ext cx="838080" cy="217440"/>
          </a:xfrm>
          <a:prstGeom prst="wedgeRectCallout">
            <a:avLst>
              <a:gd name="adj1" fmla="val -39962"/>
              <a:gd name="adj2" fmla="val 316421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82,3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62440" y="1862280"/>
            <a:ext cx="365040" cy="365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900840" y="1843200"/>
            <a:ext cx="365040" cy="365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cted Merchandise Pro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6280" y="1784520"/>
            <a:ext cx="6019920" cy="41893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rcRect l="74738" t="3827" r="0" b="62718"/>
          <a:stretch/>
        </p:blipFill>
        <p:spPr>
          <a:xfrm>
            <a:off x="3851280" y="1647720"/>
            <a:ext cx="355284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cket Sales Penal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Less than 10 Members Play, a Percentage of Max Ticket Sales is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427560" y="3125880"/>
            <a:ext cx="275112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optimal tour route already identified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justed Ticket S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33360" y="1649520"/>
            <a:ext cx="8504280" cy="49053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811160" y="2449440"/>
            <a:ext cx="5521680" cy="19605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242080" y="3057480"/>
            <a:ext cx="4816800" cy="581400"/>
          </a:xfrm>
          <a:prstGeom prst="rect">
            <a:avLst/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45,292 &gt; $125,273.04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nal Curt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847800" y="4599000"/>
            <a:ext cx="1160280" cy="1673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430360" y="4597560"/>
            <a:ext cx="1116000" cy="1672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4013280" y="4597560"/>
            <a:ext cx="1116000" cy="1672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5595840" y="4597560"/>
            <a:ext cx="1116000" cy="1672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7180200" y="4597560"/>
            <a:ext cx="1116000" cy="1672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4035600" y="2592360"/>
            <a:ext cx="1116000" cy="1673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2498760" y="2592360"/>
            <a:ext cx="1114560" cy="1673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47" name="" descr=""/>
          <p:cNvPicPr/>
          <p:nvPr/>
        </p:nvPicPr>
        <p:blipFill>
          <a:blip r:embed="rId8"/>
          <a:stretch/>
        </p:blipFill>
        <p:spPr>
          <a:xfrm>
            <a:off x="7199280" y="2592360"/>
            <a:ext cx="1116000" cy="1673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9"/>
          <a:stretch/>
        </p:blipFill>
        <p:spPr>
          <a:xfrm>
            <a:off x="5616720" y="2592360"/>
            <a:ext cx="1116000" cy="1673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49" name="" descr=""/>
          <p:cNvPicPr/>
          <p:nvPr/>
        </p:nvPicPr>
        <p:blipFill>
          <a:blip r:embed="rId10"/>
          <a:stretch/>
        </p:blipFill>
        <p:spPr>
          <a:xfrm>
            <a:off x="830160" y="2592360"/>
            <a:ext cx="1251000" cy="1673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50" name=""/>
          <p:cNvSpPr/>
          <p:nvPr/>
        </p:nvSpPr>
        <p:spPr>
          <a:xfrm>
            <a:off x="3132000" y="1601640"/>
            <a:ext cx="2889000" cy="703440"/>
          </a:xfrm>
          <a:prstGeom prst="rect">
            <a:avLst/>
          </a:prstGeom>
          <a:solidFill>
            <a:srgbClr val="cc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on Tou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1"/>
          <a:stretch/>
        </p:blipFill>
        <p:spPr>
          <a:xfrm>
            <a:off x="165240" y="152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80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9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7" nodeType="afterEffect" fill="hold" presetClass="entr" presetID="2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3360" y="1803240"/>
            <a:ext cx="7543800" cy="4800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6848640" y="3057480"/>
            <a:ext cx="457200" cy="37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6715080" y="3067200"/>
            <a:ext cx="53352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6295680" y="3067200"/>
            <a:ext cx="399960" cy="42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924160" y="3505320"/>
            <a:ext cx="39996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019840" y="3505320"/>
            <a:ext cx="914400" cy="47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314960" y="2905200"/>
            <a:ext cx="704880" cy="62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2057040" y="2581200"/>
            <a:ext cx="225756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886040" y="2581200"/>
            <a:ext cx="171360" cy="10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99760" y="3648240"/>
            <a:ext cx="1266840" cy="47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28560" y="3685680"/>
            <a:ext cx="1238400" cy="47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933480" y="3666960"/>
            <a:ext cx="952560" cy="115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933480" y="4695480"/>
            <a:ext cx="1590480" cy="114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95520" y="4714920"/>
            <a:ext cx="1390680" cy="55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95560" y="5295960"/>
            <a:ext cx="1724040" cy="28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3905280" y="5248080"/>
            <a:ext cx="1714320" cy="28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924360" y="4200120"/>
            <a:ext cx="895320" cy="1047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819680" y="3571560"/>
            <a:ext cx="19044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67360" y="3552840"/>
            <a:ext cx="857160" cy="38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943600" y="3561840"/>
            <a:ext cx="361800" cy="5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343560" y="3114360"/>
            <a:ext cx="371520" cy="39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15080" y="3114720"/>
            <a:ext cx="133560" cy="25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143760" y="3429000"/>
            <a:ext cx="704880" cy="428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62840" y="3857760"/>
            <a:ext cx="285480" cy="923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838840" y="4781520"/>
            <a:ext cx="590400" cy="295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629320" y="5095800"/>
            <a:ext cx="209520" cy="39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581800" y="5076720"/>
            <a:ext cx="218880" cy="400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5562720" y="4524480"/>
            <a:ext cx="257040" cy="542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572080" y="3876840"/>
            <a:ext cx="552600" cy="66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105600" y="3867120"/>
            <a:ext cx="285840" cy="895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477120" y="3486240"/>
            <a:ext cx="390240" cy="1285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599240" y="2928960"/>
            <a:ext cx="1143000" cy="914400"/>
          </a:xfrm>
          <a:prstGeom prst="wedgeRoundRectCallout">
            <a:avLst>
              <a:gd name="adj1" fmla="val -108398"/>
              <a:gd name="adj2" fmla="val 24324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1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avannah Steak, Newark, N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715160" y="1722600"/>
            <a:ext cx="1143000" cy="914400"/>
          </a:xfrm>
          <a:prstGeom prst="wedgeRoundRectCallout">
            <a:avLst>
              <a:gd name="adj1" fmla="val -90000"/>
              <a:gd name="adj2" fmla="val 95833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2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rvard Lampoon Awards Dinner, Boston, 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46800" y="1701720"/>
            <a:ext cx="1143000" cy="914400"/>
          </a:xfrm>
          <a:prstGeom prst="wedgeRoundRectCallout">
            <a:avLst>
              <a:gd name="adj1" fmla="val 55833"/>
              <a:gd name="adj2" fmla="val 98439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3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.H. Matt Fall Festival, Utica, 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96000" y="2274840"/>
            <a:ext cx="1143000" cy="914400"/>
          </a:xfrm>
          <a:prstGeom prst="wedgeRoundRectCallout">
            <a:avLst>
              <a:gd name="adj1" fmla="val 70833"/>
              <a:gd name="adj2" fmla="val 80731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4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oners, Pittsburgh, 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49720" y="1969920"/>
            <a:ext cx="1143000" cy="914400"/>
          </a:xfrm>
          <a:prstGeom prst="wedgeRoundRectCallout">
            <a:avLst>
              <a:gd name="adj1" fmla="val 28472"/>
              <a:gd name="adj2" fmla="val 126564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5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ossom Music Center, Akron, O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24160" y="1654200"/>
            <a:ext cx="1143000" cy="914400"/>
          </a:xfrm>
          <a:prstGeom prst="wedgeRoundRectCallout">
            <a:avLst>
              <a:gd name="adj1" fmla="val 28611"/>
              <a:gd name="adj2" fmla="val 154861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6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llywood Casino, Aurora, 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68720" y="1434960"/>
            <a:ext cx="1143000" cy="914400"/>
          </a:xfrm>
          <a:prstGeom prst="wedgeRoundRectCallout">
            <a:avLst>
              <a:gd name="adj1" fmla="val 51111"/>
              <a:gd name="adj2" fmla="val 110069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7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ig Cheese, Minneapolis, M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24200" y="1338120"/>
            <a:ext cx="1143000" cy="914400"/>
          </a:xfrm>
          <a:prstGeom prst="wedgeRoundRectCallout">
            <a:avLst>
              <a:gd name="adj1" fmla="val -39861"/>
              <a:gd name="adj2" fmla="val 87328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8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side Tavern, Butte, M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79480" y="2058840"/>
            <a:ext cx="1143000" cy="914400"/>
          </a:xfrm>
          <a:prstGeom prst="wedgeRoundRectCallout">
            <a:avLst>
              <a:gd name="adj1" fmla="val 37777"/>
              <a:gd name="adj2" fmla="val 125175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9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lby Court, Salt Lake City, 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0040" y="3371760"/>
            <a:ext cx="1143000" cy="914400"/>
          </a:xfrm>
          <a:prstGeom prst="wedgeRoundRectCallout">
            <a:avLst>
              <a:gd name="adj1" fmla="val -13055"/>
              <a:gd name="adj2" fmla="val 106425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12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Gaslighter, Chula Vista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73360" y="2112840"/>
            <a:ext cx="1143000" cy="914400"/>
          </a:xfrm>
          <a:prstGeom prst="wedgeRoundRectCallout">
            <a:avLst>
              <a:gd name="adj1" fmla="val -45416"/>
              <a:gd name="adj2" fmla="val 117013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11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lby Court, Salt Lake City, 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2101680"/>
            <a:ext cx="1143000" cy="914400"/>
          </a:xfrm>
          <a:prstGeom prst="wedgeRoundRectCallout">
            <a:avLst>
              <a:gd name="adj1" fmla="val 2916"/>
              <a:gd name="adj2" fmla="val 121527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10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24 Gilman St., Modesto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46400" y="3103560"/>
            <a:ext cx="1143000" cy="914400"/>
          </a:xfrm>
          <a:prstGeom prst="wedgeRoundRectCallout">
            <a:avLst>
              <a:gd name="adj1" fmla="val -29166"/>
              <a:gd name="adj2" fmla="val 122745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13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mmage Auditorium, Albuquerque, N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87880" y="3675240"/>
            <a:ext cx="1143000" cy="914400"/>
          </a:xfrm>
          <a:prstGeom prst="wedgeRoundRectCallout">
            <a:avLst>
              <a:gd name="adj1" fmla="val 0"/>
              <a:gd name="adj2" fmla="val 120314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14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irnoff Music Center, Plano, T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19480" y="5495760"/>
            <a:ext cx="1143000" cy="914400"/>
          </a:xfrm>
          <a:prstGeom prst="wedgeRoundRectCallout">
            <a:avLst>
              <a:gd name="adj1" fmla="val 82083"/>
              <a:gd name="adj2" fmla="val -44615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15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nnaker Beach Club, Panama City Beach, F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603600" y="2843280"/>
            <a:ext cx="1143000" cy="914400"/>
          </a:xfrm>
          <a:prstGeom prst="wedgeRoundRectCallout">
            <a:avLst>
              <a:gd name="adj1" fmla="val 57499"/>
              <a:gd name="adj2" fmla="val 98611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17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lo Bar, East St. Louis, 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82880" y="3889440"/>
            <a:ext cx="1143000" cy="914400"/>
          </a:xfrm>
          <a:prstGeom prst="wedgeRoundRectCallout">
            <a:avLst>
              <a:gd name="adj1" fmla="val 37916"/>
              <a:gd name="adj2" fmla="val 100000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16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irnoff Music Center, Plano, T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76800" y="1806480"/>
            <a:ext cx="1143000" cy="914400"/>
          </a:xfrm>
          <a:prstGeom prst="wedgeRoundRectCallout">
            <a:avLst>
              <a:gd name="adj1" fmla="val 12500"/>
              <a:gd name="adj2" fmla="val 141319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18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llywood Casino, Aurora, 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202360" y="2122560"/>
            <a:ext cx="1143000" cy="914400"/>
          </a:xfrm>
          <a:prstGeom prst="wedgeRoundRectCallout">
            <a:avLst>
              <a:gd name="adj1" fmla="val 13333"/>
              <a:gd name="adj2" fmla="val 104861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19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ossom Music Center, Akron, O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89520" y="2070000"/>
            <a:ext cx="1143000" cy="914400"/>
          </a:xfrm>
          <a:prstGeom prst="wedgeRoundRectCallout">
            <a:avLst>
              <a:gd name="adj1" fmla="val -4861"/>
              <a:gd name="adj2" fmla="val 103648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20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oners, Pittsburgh, 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254640" y="1471680"/>
            <a:ext cx="1143000" cy="914400"/>
          </a:xfrm>
          <a:prstGeom prst="wedgeRoundRectCallout">
            <a:avLst>
              <a:gd name="adj1" fmla="val -11249"/>
              <a:gd name="adj2" fmla="val 126736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21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.H. Matt Fall Festival, Utica, 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18520" y="3267000"/>
            <a:ext cx="1143000" cy="914400"/>
          </a:xfrm>
          <a:prstGeom prst="wedgeRoundRectCallout">
            <a:avLst>
              <a:gd name="adj1" fmla="val -100694"/>
              <a:gd name="adj2" fmla="val -33333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22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avannah Steak, Newark, N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213680" y="3579840"/>
            <a:ext cx="1143000" cy="914400"/>
          </a:xfrm>
          <a:prstGeom prst="wedgeRoundRectCallout">
            <a:avLst>
              <a:gd name="adj1" fmla="val -142916"/>
              <a:gd name="adj2" fmla="val -18055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23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nandoah Center Stage, Morgantown, W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61080" y="3745080"/>
            <a:ext cx="1143000" cy="914400"/>
          </a:xfrm>
          <a:prstGeom prst="wedgeRoundRectCallout">
            <a:avLst>
              <a:gd name="adj1" fmla="val -65138"/>
              <a:gd name="adj2" fmla="val 56425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24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lly Parton’s Dixie Stampede, Myrtle Beach, 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627960" y="4489560"/>
            <a:ext cx="1143000" cy="914400"/>
          </a:xfrm>
          <a:prstGeom prst="wedgeRoundRectCallout">
            <a:avLst>
              <a:gd name="adj1" fmla="val -119166"/>
              <a:gd name="adj2" fmla="val 11981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25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ddle Georgia Concert Band Hall, Macon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742080" y="4665600"/>
            <a:ext cx="1143000" cy="914400"/>
          </a:xfrm>
          <a:prstGeom prst="wedgeRoundRectCallout">
            <a:avLst>
              <a:gd name="adj1" fmla="val -132083"/>
              <a:gd name="adj2" fmla="val -4166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27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ddle Georgia Concert Band Hall, Macon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42080" y="5684760"/>
            <a:ext cx="1143000" cy="914400"/>
          </a:xfrm>
          <a:prstGeom prst="wedgeRoundRectCallout">
            <a:avLst>
              <a:gd name="adj1" fmla="val -71388"/>
              <a:gd name="adj2" fmla="val -66148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26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nnaker Beach Club, Panama City Beach, F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16800" y="4205160"/>
            <a:ext cx="1143000" cy="914400"/>
          </a:xfrm>
          <a:prstGeom prst="wedgeRoundRectCallout">
            <a:avLst>
              <a:gd name="adj1" fmla="val -143055"/>
              <a:gd name="adj2" fmla="val -16319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28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ompson / Boling, Knoxville, T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01040" y="4275000"/>
            <a:ext cx="1143000" cy="914400"/>
          </a:xfrm>
          <a:prstGeom prst="wedgeRoundRectCallout">
            <a:avLst>
              <a:gd name="adj1" fmla="val -181805"/>
              <a:gd name="adj2" fmla="val -97569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29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nandoah Center Stage, Morgantown, W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13720" y="3897360"/>
            <a:ext cx="1143000" cy="914400"/>
          </a:xfrm>
          <a:prstGeom prst="wedgeRoundRectCallout">
            <a:avLst>
              <a:gd name="adj1" fmla="val -79166"/>
              <a:gd name="adj2" fmla="val 43055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30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lly Parton’s Dixie Stampede, Myrtle Beach, 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704000" y="2709720"/>
            <a:ext cx="1143000" cy="914400"/>
          </a:xfrm>
          <a:prstGeom prst="wedgeRoundRectCallout">
            <a:avLst>
              <a:gd name="adj1" fmla="val -122361"/>
              <a:gd name="adj2" fmla="val 32120"/>
              <a:gd name="adj3" fmla="val 16667"/>
            </a:avLst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TURN H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7000"/>
                            </p:stCondLst>
                            <p:childTnLst>
                              <p:par>
                                <p:cTn id="4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7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8000"/>
                            </p:stCondLst>
                            <p:childTnLst>
                              <p:par>
                                <p:cTn id="46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9500"/>
                            </p:stCondLst>
                            <p:childTnLst>
                              <p:par>
                                <p:cTn id="4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4500"/>
                            </p:stCondLst>
                            <p:childTnLst>
                              <p:par>
                                <p:cTn id="4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75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9500"/>
                            </p:stCondLst>
                            <p:childTnLst>
                              <p:par>
                                <p:cTn id="5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500"/>
                            </p:stCondLst>
                            <p:childTnLst>
                              <p:par>
                                <p:cTn id="52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2000"/>
                            </p:stCondLst>
                            <p:childTnLst>
                              <p:par>
                                <p:cTn id="5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2500"/>
                            </p:stCondLst>
                            <p:childTnLst>
                              <p:par>
                                <p:cTn id="5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3000"/>
                            </p:stCondLst>
                            <p:childTnLst>
                              <p:par>
                                <p:cTn id="53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5500"/>
                            </p:stCondLst>
                            <p:childTnLst>
                              <p:par>
                                <p:cTn id="55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7000"/>
                            </p:stCondLst>
                            <p:childTnLst>
                              <p:par>
                                <p:cTn id="5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7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8000"/>
                            </p:stCondLst>
                            <p:childTnLst>
                              <p:par>
                                <p:cTn id="56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95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300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0500"/>
                            </p:stCondLst>
                            <p:childTnLst>
                              <p:par>
                                <p:cTn id="57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2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32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33000"/>
                            </p:stCondLst>
                            <p:childTnLst>
                              <p:par>
                                <p:cTn id="5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4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5000"/>
                            </p:stCondLst>
                            <p:childTnLst>
                              <p:par>
                                <p:cTn id="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35500"/>
                            </p:stCondLst>
                            <p:childTnLst>
                              <p:par>
                                <p:cTn id="59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7000"/>
                            </p:stCondLst>
                            <p:childTnLst>
                              <p:par>
                                <p:cTn id="6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75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38000"/>
                            </p:stCondLst>
                            <p:childTnLst>
                              <p:par>
                                <p:cTn id="61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395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0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0500"/>
                            </p:stCondLst>
                            <p:childTnLst>
                              <p:par>
                                <p:cTn id="62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42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425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43000"/>
                            </p:stCondLst>
                            <p:childTnLst>
                              <p:par>
                                <p:cTn id="63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45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50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500"/>
                            </p:stCondLst>
                            <p:childTnLst>
                              <p:par>
                                <p:cTn id="64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70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47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48000"/>
                            </p:stCondLst>
                            <p:childTnLst>
                              <p:par>
                                <p:cTn id="65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495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500"/>
                            </p:stCondLst>
                            <p:childTnLst>
                              <p:par>
                                <p:cTn id="67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20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25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3000"/>
                            </p:stCondLst>
                            <p:childTnLst>
                              <p:par>
                                <p:cTn id="68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4500"/>
                            </p:stCondLst>
                            <p:childTnLst>
                              <p:par>
                                <p:cTn id="6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50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5500"/>
                            </p:stCondLst>
                            <p:childTnLst>
                              <p:par>
                                <p:cTn id="69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70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7500"/>
                            </p:stCondLst>
                            <p:childTnLst>
                              <p:par>
                                <p:cTn id="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8000"/>
                            </p:stCondLst>
                            <p:childTnLst>
                              <p:par>
                                <p:cTn id="70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9500"/>
                            </p:stCondLst>
                            <p:childTnLst>
                              <p:par>
                                <p:cTn id="7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600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60500"/>
                            </p:stCondLst>
                            <p:childTnLst>
                              <p:par>
                                <p:cTn id="71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2000"/>
                            </p:stCondLst>
                            <p:childTnLst>
                              <p:par>
                                <p:cTn id="7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2500"/>
                            </p:stCondLst>
                            <p:childTnLst>
                              <p:par>
                                <p:cTn id="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63000"/>
                            </p:stCondLst>
                            <p:childTnLst>
                              <p:par>
                                <p:cTn id="73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64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65000"/>
                            </p:stCondLst>
                            <p:childTnLst>
                              <p:par>
                                <p:cTn id="7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65500"/>
                            </p:stCondLst>
                            <p:childTnLst>
                              <p:par>
                                <p:cTn id="74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67000"/>
                            </p:stCondLst>
                            <p:childTnLst>
                              <p:par>
                                <p:cTn id="7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67500"/>
                            </p:stCondLst>
                            <p:childTnLst>
                              <p:par>
                                <p:cTn id="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8000"/>
                            </p:stCondLst>
                            <p:childTnLst>
                              <p:par>
                                <p:cTn id="75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69500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70000"/>
                            </p:stCondLst>
                            <p:childTnLst>
                              <p:par>
                                <p:cTn id="7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70500"/>
                            </p:stCondLst>
                            <p:childTnLst>
                              <p:par>
                                <p:cTn id="76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7200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72500"/>
                            </p:stCondLst>
                            <p:childTnLst>
                              <p:par>
                                <p:cTn id="7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73000"/>
                            </p:stCondLst>
                            <p:childTnLst>
                              <p:par>
                                <p:cTn id="77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74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750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xelclr" descr=""/>
          <p:cNvPicPr/>
          <p:nvPr/>
        </p:nvPicPr>
        <p:blipFill>
          <a:blip r:embed="rId1"/>
          <a:stretch/>
        </p:blipFill>
        <p:spPr>
          <a:xfrm>
            <a:off x="4003560" y="3516480"/>
            <a:ext cx="95400" cy="190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94200" y="3506760"/>
            <a:ext cx="0" cy="56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3448080"/>
            <a:ext cx="0" cy="56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7760" y="4451400"/>
            <a:ext cx="1855800" cy="2198520"/>
            <a:chOff x="77760" y="4451400"/>
            <a:chExt cx="1855800" cy="2198520"/>
          </a:xfrm>
        </p:grpSpPr>
        <p:pic>
          <p:nvPicPr>
            <p:cNvPr id="98" name="pixelclr" descr=""/>
            <p:cNvPicPr/>
            <p:nvPr/>
          </p:nvPicPr>
          <p:blipFill>
            <a:blip r:embed="rId2"/>
            <a:stretch/>
          </p:blipFill>
          <p:spPr>
            <a:xfrm>
              <a:off x="85680" y="4451400"/>
              <a:ext cx="954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77760" y="4952880"/>
              <a:ext cx="914400" cy="13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4"/>
            <a:stretch/>
          </p:blipFill>
          <p:spPr>
            <a:xfrm>
              <a:off x="1019160" y="5025960"/>
              <a:ext cx="914400" cy="11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7760" y="6329520"/>
              <a:ext cx="1644840" cy="32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dward Melnic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uxiliary Percuss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670720" y="2895480"/>
            <a:ext cx="1644480" cy="1755720"/>
            <a:chOff x="5670720" y="2895480"/>
            <a:chExt cx="1644480" cy="1755720"/>
          </a:xfrm>
        </p:grpSpPr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5670720" y="2895480"/>
              <a:ext cx="9144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 rot="16200000">
              <a:off x="6562800" y="3438720"/>
              <a:ext cx="914400" cy="2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670720" y="4330800"/>
              <a:ext cx="1644480" cy="32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aveen Nayy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rump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981080" y="4815000"/>
            <a:ext cx="1895040" cy="1724040"/>
            <a:chOff x="1981080" y="4815000"/>
            <a:chExt cx="1895040" cy="1724040"/>
          </a:xfrm>
        </p:grpSpPr>
        <p:pic>
          <p:nvPicPr>
            <p:cNvPr id="107" name="" descr=""/>
            <p:cNvPicPr/>
            <p:nvPr/>
          </p:nvPicPr>
          <p:blipFill>
            <a:blip r:embed="rId7"/>
            <a:stretch/>
          </p:blipFill>
          <p:spPr>
            <a:xfrm rot="17887800">
              <a:off x="2856600" y="5109480"/>
              <a:ext cx="914400" cy="785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" name=""/>
            <p:cNvGrpSpPr/>
            <p:nvPr/>
          </p:nvGrpSpPr>
          <p:grpSpPr>
            <a:xfrm>
              <a:off x="1981080" y="4815000"/>
              <a:ext cx="1644840" cy="1724040"/>
              <a:chOff x="1981080" y="4815000"/>
              <a:chExt cx="1644840" cy="1724040"/>
            </a:xfrm>
          </p:grpSpPr>
          <p:pic>
            <p:nvPicPr>
              <p:cNvPr id="10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981080" y="4815000"/>
                <a:ext cx="91440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1981080" y="6218280"/>
                <a:ext cx="1644840" cy="320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Vishal Gau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Rhythm Guit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7391520" y="4952880"/>
            <a:ext cx="1945440" cy="1724040"/>
            <a:chOff x="7391520" y="4952880"/>
            <a:chExt cx="1945440" cy="1724040"/>
          </a:xfrm>
        </p:grpSpPr>
        <p:pic>
          <p:nvPicPr>
            <p:cNvPr id="112" name="" descr=""/>
            <p:cNvPicPr/>
            <p:nvPr/>
          </p:nvPicPr>
          <p:blipFill>
            <a:blip r:embed="rId9"/>
            <a:stretch/>
          </p:blipFill>
          <p:spPr>
            <a:xfrm>
              <a:off x="7391520" y="4952880"/>
              <a:ext cx="9144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10"/>
            <a:stretch/>
          </p:blipFill>
          <p:spPr>
            <a:xfrm rot="19019400">
              <a:off x="8215200" y="5156280"/>
              <a:ext cx="9144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391520" y="6356520"/>
              <a:ext cx="1644480" cy="32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effrey Simono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ead Guit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824280" y="3914640"/>
            <a:ext cx="1644480" cy="1724040"/>
            <a:chOff x="3824280" y="3914640"/>
            <a:chExt cx="1644480" cy="1724040"/>
          </a:xfrm>
        </p:grpSpPr>
        <p:sp>
          <p:nvSpPr>
            <p:cNvPr id="116" name=""/>
            <p:cNvSpPr/>
            <p:nvPr/>
          </p:nvSpPr>
          <p:spPr>
            <a:xfrm>
              <a:off x="3994200" y="4067280"/>
              <a:ext cx="1003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1"/>
            <a:stretch/>
          </p:blipFill>
          <p:spPr>
            <a:xfrm>
              <a:off x="3824280" y="3914640"/>
              <a:ext cx="9144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12"/>
            <a:stretch/>
          </p:blipFill>
          <p:spPr>
            <a:xfrm rot="16200000">
              <a:off x="4633920" y="4292640"/>
              <a:ext cx="9144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824280" y="5318280"/>
              <a:ext cx="1644480" cy="32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arry Cherno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6320" y="1692360"/>
            <a:ext cx="1947600" cy="1755720"/>
            <a:chOff x="76320" y="1692360"/>
            <a:chExt cx="1947600" cy="1755720"/>
          </a:xfrm>
        </p:grpSpPr>
        <p:pic>
          <p:nvPicPr>
            <p:cNvPr id="121" name="" descr=""/>
            <p:cNvPicPr/>
            <p:nvPr/>
          </p:nvPicPr>
          <p:blipFill>
            <a:blip r:embed="rId13"/>
            <a:stretch/>
          </p:blipFill>
          <p:spPr>
            <a:xfrm>
              <a:off x="76320" y="1692360"/>
              <a:ext cx="9144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14"/>
            <a:stretch/>
          </p:blipFill>
          <p:spPr>
            <a:xfrm>
              <a:off x="1109520" y="1857240"/>
              <a:ext cx="91440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6320" y="3127320"/>
              <a:ext cx="1644480" cy="32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ridhar Seshadr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ru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638680" y="4784760"/>
            <a:ext cx="1644840" cy="1754280"/>
            <a:chOff x="5638680" y="4784760"/>
            <a:chExt cx="1644840" cy="1754280"/>
          </a:xfrm>
        </p:grpSpPr>
        <p:pic>
          <p:nvPicPr>
            <p:cNvPr id="125" name="" descr=""/>
            <p:cNvPicPr/>
            <p:nvPr/>
          </p:nvPicPr>
          <p:blipFill>
            <a:blip r:embed="rId15"/>
            <a:stretch/>
          </p:blipFill>
          <p:spPr>
            <a:xfrm>
              <a:off x="5638680" y="4784760"/>
              <a:ext cx="914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638680" y="6218280"/>
              <a:ext cx="1644840" cy="32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aron Tenenbe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Keyboard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16"/>
            <a:stretch/>
          </p:blipFill>
          <p:spPr>
            <a:xfrm rot="15662400">
              <a:off x="6510960" y="5250600"/>
              <a:ext cx="914400" cy="4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1955880" y="2878200"/>
            <a:ext cx="1644480" cy="1832040"/>
            <a:chOff x="1955880" y="2878200"/>
            <a:chExt cx="1644480" cy="1832040"/>
          </a:xfrm>
        </p:grpSpPr>
        <p:pic>
          <p:nvPicPr>
            <p:cNvPr id="129" name="" descr=""/>
            <p:cNvPicPr/>
            <p:nvPr/>
          </p:nvPicPr>
          <p:blipFill>
            <a:blip r:embed="rId17"/>
            <a:stretch/>
          </p:blipFill>
          <p:spPr>
            <a:xfrm>
              <a:off x="1955880" y="2878200"/>
              <a:ext cx="914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955880" y="4389480"/>
              <a:ext cx="1644480" cy="32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ary Sim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ead Voca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8"/>
            <a:stretch/>
          </p:blipFill>
          <p:spPr>
            <a:xfrm>
              <a:off x="2917800" y="3157560"/>
              <a:ext cx="587520" cy="95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7238880" y="1752480"/>
            <a:ext cx="1854360" cy="1771560"/>
            <a:chOff x="7238880" y="1752480"/>
            <a:chExt cx="1854360" cy="1771560"/>
          </a:xfrm>
        </p:grpSpPr>
        <p:pic>
          <p:nvPicPr>
            <p:cNvPr id="133" name="" descr=""/>
            <p:cNvPicPr/>
            <p:nvPr/>
          </p:nvPicPr>
          <p:blipFill>
            <a:blip r:embed="rId19"/>
            <a:stretch/>
          </p:blipFill>
          <p:spPr>
            <a:xfrm>
              <a:off x="7238880" y="1752480"/>
              <a:ext cx="9144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20"/>
            <a:srcRect l="25004" t="3577" r="14291" b="7137"/>
            <a:stretch/>
          </p:blipFill>
          <p:spPr>
            <a:xfrm>
              <a:off x="8178840" y="1766520"/>
              <a:ext cx="91440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238880" y="3203280"/>
              <a:ext cx="1644840" cy="32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lliam Silb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wb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733920" y="1424880"/>
            <a:ext cx="2113560" cy="1699200"/>
            <a:chOff x="3733920" y="1424880"/>
            <a:chExt cx="2113560" cy="1699200"/>
          </a:xfrm>
        </p:grpSpPr>
        <p:pic>
          <p:nvPicPr>
            <p:cNvPr id="137" name="" descr=""/>
            <p:cNvPicPr/>
            <p:nvPr/>
          </p:nvPicPr>
          <p:blipFill>
            <a:blip r:embed="rId21"/>
            <a:stretch/>
          </p:blipFill>
          <p:spPr>
            <a:xfrm>
              <a:off x="3733920" y="1547640"/>
              <a:ext cx="914400" cy="12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2"/>
            <a:stretch/>
          </p:blipFill>
          <p:spPr>
            <a:xfrm rot="20695800">
              <a:off x="4799160" y="1523520"/>
              <a:ext cx="914400" cy="11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3733920" y="2803680"/>
              <a:ext cx="1644480" cy="32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vid Jur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bjecti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ran aims to maximize his profits from the t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wife will let him go on tour if earnings exceed his teaching salary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$273.0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 his substantial income from consulting to Harvard MBA’s of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$12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n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cket sales = venue capacity x venue ticket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= (mileage between venues / miles per gallon) x gas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el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 Member Sal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ur 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 members were used to working only two days a week, so the tour will only have shows on Tuesdays and Thursdays from 3:00 to 4:20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 members will each require a “cut” for their musical services, $25,000 each for the 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members arriving after the concert start time of 3:00 PM will be locked out with Silber’s 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ur will be 15 weeks long, so the band will all be on sabbatical all sem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weeks, 2 shows a week = 30 sh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ues can be booked a maximum of twice for the tour, but not on consecutive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Tour Rou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8920" y="1778040"/>
            <a:ext cx="7543800" cy="480060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7010280" y="2922480"/>
            <a:ext cx="1905120" cy="1191240"/>
            <a:chOff x="7010280" y="2922480"/>
            <a:chExt cx="1905120" cy="1191240"/>
          </a:xfrm>
        </p:grpSpPr>
        <p:sp>
          <p:nvSpPr>
            <p:cNvPr id="147" name=""/>
            <p:cNvSpPr/>
            <p:nvPr/>
          </p:nvSpPr>
          <p:spPr>
            <a:xfrm>
              <a:off x="7467480" y="2922480"/>
              <a:ext cx="144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Tour will begin in New Y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10280" y="3379680"/>
              <a:ext cx="533520" cy="228600"/>
            </a:xfrm>
            <a:prstGeom prst="leftArrow">
              <a:avLst>
                <a:gd name="adj1" fmla="val 50000"/>
                <a:gd name="adj2" fmla="val 58346"/>
              </a:avLst>
            </a:prstGeom>
            <a:solidFill>
              <a:srgbClr val="f12f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62120" y="1778040"/>
            <a:ext cx="6019560" cy="40892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7467480" y="4038480"/>
            <a:ext cx="1447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ewark, New Jersey actually, at Savanna Stea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ance Between C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34880" y="17985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mileage between cities to calculate fue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model to move logically between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68200" y="3110040"/>
            <a:ext cx="869472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ptimized Tour Rou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34880" y="17985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ize Profit (Ticket Revenue – Gas and Hotel Co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0" t="0" r="1972" b="0"/>
          <a:stretch/>
        </p:blipFill>
        <p:spPr>
          <a:xfrm>
            <a:off x="79200" y="2365200"/>
            <a:ext cx="8836200" cy="4061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986200" y="3067200"/>
            <a:ext cx="3351240" cy="1433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ing Ticket Reven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248160" cy="5238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540520" y="3187800"/>
            <a:ext cx="4019760" cy="1068840"/>
          </a:xfrm>
          <a:prstGeom prst="rect">
            <a:avLst/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tal Ticket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394,5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8:06:03Z</dcterms:created>
  <dc:creator>Suzanne Girolami</dc:creator>
  <dc:description/>
  <dc:language>en-US</dc:language>
  <cp:lastModifiedBy>Matt Hefner</cp:lastModifiedBy>
  <dcterms:modified xsi:type="dcterms:W3CDTF">2006-11-29T18:02:26Z</dcterms:modified>
  <cp:revision>98</cp:revision>
  <dc:subject/>
  <dc:title>Slide 1</dc:title>
</cp:coreProperties>
</file>