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4664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E6AF-FA7D-4A59-B689-FC9DC3B1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5D8F-191D-482A-BFDA-3F01A2528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1661-39DE-4A59-A350-720CA4F87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ed the filter types to 2 – premium an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ypes – scented, corrugated, rice paper, beetle leaf etc. – 3 typ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Blend – treated, flavored, non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7658-3925-4DFA-88AC-5C2592561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598-0BF5-45F7-9ABE-B1B96F598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BBA1-DAD0-44B1-A445-67B47A2DF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985D-B208-4E2A-8A9E-47D88F707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D8B-04FF-426B-B444-E4A8F7361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1E41-F211-45AF-943A-7CD366278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2451-DD90-4273-AAFE-21328F99F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50BF-D196-4424-B021-4A3B65DA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2259-F74D-46D0-9E58-1865BEC5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D874-8111-43DD-9DC3-1458C264F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F1D4-DCCB-472C-88D0-15044BE5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tory conditions like ephizema, asthm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ACB8-FEE0-4285-98B8-AE9DEEE3E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, available, addi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ous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ing can offset parkinsons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1648-1FA0-4137-945F-DB5303DC2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F3C3-D9EF-4C1A-B9AD-AF5E400DC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CE13-D296-4F8D-9C8C-9D4AF5DCA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0C89-35E4-4A2A-935C-9970C822E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036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4980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7128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6036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4980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0851-0DA3-4FAC-965C-F677C62F4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771280" y="1773360"/>
            <a:ext cx="617220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73E8-3BE5-487E-AAD6-2C85EB70D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6036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4980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77128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6036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4980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2226-3990-46A0-9634-A3E924753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D1B9-BD0E-4F05-9E73-8DBA6C653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0786-B2DA-4527-9A59-F39125090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280" y="1773360"/>
            <a:ext cx="617220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CC87-1FDF-4E70-BA30-DE958BE9C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08F6-8892-4FA8-9BE9-E2A96C1D1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8BF1-AB58-49E7-BEAB-717E41661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ED5F-82AD-4569-A4D3-557EAC912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252a51"/>
              </a:buClr>
              <a:buSzPct val="11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252a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252a5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252a5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1640" y="6641640"/>
            <a:ext cx="360360" cy="1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428C-9CF3-48CB-A5F5-3E690FFC9FDD}" type="slidenum">
              <a:rPr b="0" lang="en-US" sz="9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400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52a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4664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c4664"/>
                </a:solidFill>
                <a:latin typeface="Garamond"/>
              </a:rPr>
              <a:t>Click to edit the outline text format</a:t>
            </a: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252a51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1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252a5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51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252a51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252a51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a51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252a51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a51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252a51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a51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252a5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NYU Stern School of Busines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Decision Models – Fall 2006</a:t>
            </a:r>
            <a:br>
              <a:rPr sz="20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odeling decisions in Smoking</a:t>
            </a:r>
            <a:endParaRPr b="0" lang="en-US" sz="36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315288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Michelle Rizk Canessa, Pragati Imam,</a:t>
            </a: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Mayank Toshniwal, Vinod Addidam </a:t>
            </a: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12/06/06</a:t>
            </a: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Managerial Problem definition.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5960" y="1582560"/>
            <a:ext cx="8992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Each cigarette brand is unique and so are the preferences of smoker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We have 3 decisions that needs help: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buClr>
                <a:srgbClr val="252a54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r. Harsh is an international consultant , a smoking enthusiast (addict)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travels extensively, and is faced with the decision of which brand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tastes, smells and feels (cool!) like the brand he smokes in U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buClr>
                <a:srgbClr val="252a54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r. Juran is an insurance agent and also an environmentalist.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His company covers Mr. Harsh’s health and he wants to know how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uch effect smoking can have on his life.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buClr>
                <a:srgbClr val="252a54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s. Pragati runs a tobacco firm, looking at expanding internationally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and wants to know the competitive landscape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Based on the data provided by Department of Health &amp; Hygiene and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voluntary declarations of cigarette composition by various tobacco firms,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we need to build a model that helps simplify the lives of all 3 above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entioned case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55B9-A2EC-4F56-B204-23E3FC3515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aramond"/>
              </a:rPr>
              <a:t>The Universal Model</a:t>
            </a:r>
            <a:endParaRPr b="0" lang="en-US" sz="36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Assumptions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Non-linear Multiple Optimization Model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825200"/>
            <a:ext cx="76183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Real time data provided by Department of Heath &amp; Hygiene is accurate – effect of each chemical, etc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For every location, top 10 brands have been selected. 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Out of the 599 additives (variables), we selected the 45 most notorious. 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3C7B-CF3E-47F8-82CB-D271A4B9E1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Formulation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Non-linear Multiple Optimization Model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Objective Func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Minimize sum of the squares of the difference between the characteristics of the favorite brand and the ideal brand.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52a51"/>
                </a:solidFill>
                <a:latin typeface="Arial Narrow"/>
              </a:rPr>
              <a:t>=SUMXMY2(C29:AX29;C32:AX32)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6934320" cy="157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92EC-C0E0-46C1-8DFA-6430859D8D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Formulation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Non-linear Multiple Optimization Model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18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Decision Variables: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Location (4)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Brand : Constituent Chemicals (45)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Constraints: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Selection set dynamically generated and constrained to only the top 10 brands in the location (10)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Integer non-negative representation used for brands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09480" y="5122800"/>
            <a:ext cx="7696440" cy="9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D609-F0C6-4CF0-8061-A1103E41F5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 Model</a:t>
            </a:r>
            <a:endParaRPr b="0" lang="en-US" sz="24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7720" y="24526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fe Expectancy Simulation Model</a:t>
            </a:r>
            <a:endParaRPr b="0" lang="en-US" sz="2400" spc="-1" strike="noStrike">
              <a:solidFill>
                <a:srgbClr val="252a54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38480" y="334476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505320" y="4890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52a54"/>
                </a:solidFill>
                <a:latin typeface="Arial"/>
              </a:rPr>
              <a:t>Time is running out!</a:t>
            </a:r>
            <a:endParaRPr b="0" lang="en-US" sz="18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65BE-7129-4CAA-8C34-B1BE0ACD1C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Simulation - </a:t>
            </a:r>
            <a:br>
              <a:rPr sz="3200"/>
            </a:b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endParaRPr b="0" lang="en-US" sz="24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601956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FC5C-0155-492E-8E9F-2C8B3ECA8B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Assumptions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28560" y="1676520"/>
            <a:ext cx="3791160" cy="2171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3409920" cy="2114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124080" y="4038480"/>
            <a:ext cx="5257800" cy="23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237C-8A9C-4654-9DEC-55032AC56C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932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Conclusion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Results – </a:t>
            </a:r>
            <a:br>
              <a:rPr sz="3200"/>
            </a:b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133720" y="1523880"/>
            <a:ext cx="5029200" cy="320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76520" y="51814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52a54"/>
                </a:solidFill>
                <a:latin typeface="Arial"/>
              </a:rPr>
              <a:t>There is a 18% probability that your life will be reduced by 1/3</a:t>
            </a:r>
            <a:r>
              <a:rPr b="0" i="1" lang="en-US" sz="2200" spc="-1" strike="noStrike" baseline="30000">
                <a:solidFill>
                  <a:srgbClr val="252a54"/>
                </a:solidFill>
                <a:latin typeface="Arial"/>
              </a:rPr>
              <a:t>rd</a:t>
            </a:r>
            <a:r>
              <a:rPr b="0" i="1" lang="en-US" sz="2200" spc="-1" strike="noStrike">
                <a:solidFill>
                  <a:srgbClr val="252a54"/>
                </a:solidFill>
                <a:latin typeface="Arial"/>
              </a:rPr>
              <a:t> or more.</a:t>
            </a:r>
            <a:endParaRPr b="0" lang="en-US" sz="22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7D43-1AD6-4A87-975D-483F996EE0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Agenda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085480"/>
            <a:ext cx="78483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Project Descrip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The Universal Model 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Demonstra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80880" y="1981080"/>
            <a:ext cx="609840" cy="470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06440" y="2476440"/>
            <a:ext cx="609480" cy="469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19040" y="2997360"/>
            <a:ext cx="609840" cy="469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20560" y="36576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520560" y="419112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503F-DFF0-4D4A-B203-6B8A4D4E6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Results – </a:t>
            </a:r>
            <a:br>
              <a:rPr sz="3200"/>
            </a:b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133720" y="1600200"/>
            <a:ext cx="5162400" cy="3286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76520" y="518148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52a54"/>
                </a:solidFill>
                <a:latin typeface="Arial"/>
              </a:rPr>
              <a:t>There is only a 13% probability that you will pass the average expected life of a normal non-smoking healthy human being (boring!)</a:t>
            </a:r>
            <a:endParaRPr b="0" lang="en-US" sz="22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54D4-6126-4C78-9A78-C740CADB15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Every man makes his own decisions.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Wish he used our model!!!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22200" indent="-32220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But, another disclaimer: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More accurate data results in more accurate results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Genetic predisposition and other side effects can be factored in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Psychological aspects can be factored in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Pricing, if relevant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Demographic and Gender bias can be included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Useful for any product: prescriptions, financial services, coffee , etc…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E049-3F62-4A34-A83B-8AB73B8952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0720" y="274320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Thank you!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1792440" cy="2057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56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Introduction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6858000" y="762120"/>
            <a:ext cx="129528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Disclaimer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6183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We are not advocates of smoking!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Nor do we represent a social organization despising  smokers/tobacco firms and working towards eradication of cigarettes from the face of earth!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We are Stern students of Prof. Juran – aiding ALL the confused decision makers - individual smokers or managers - in making their decisions with the help of our model.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81280" y="4800600"/>
            <a:ext cx="161928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7ECD-7536-4B55-B76C-DAE1777C3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The Science of Cigarettes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124080" y="2320920"/>
            <a:ext cx="2743200" cy="25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61520" y="4935960"/>
            <a:ext cx="452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Tobacco rod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Cigarette paper with adhesive seam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Filtration Material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Tipping paper with adhesive seam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Plug wrap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62840" y="1479600"/>
            <a:ext cx="659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a54"/>
                </a:solidFill>
                <a:latin typeface="Arial"/>
              </a:rPr>
              <a:t>A cigarette is a product manufactured out of cured and finely cut tobacco leaves, </a:t>
            </a:r>
            <a:endParaRPr b="0" lang="en-US" sz="14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a54"/>
                </a:solidFill>
                <a:latin typeface="Arial"/>
              </a:rPr>
              <a:t>which are rolled or stuffed into a paper-wrapped cylinder </a:t>
            </a:r>
            <a:endParaRPr b="0" lang="en-US" sz="14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a54"/>
                </a:solidFill>
                <a:latin typeface="Arial"/>
              </a:rPr>
              <a:t>(generally less than 120 mm in length and 10 mm in diameter)</a:t>
            </a:r>
            <a:endParaRPr b="0" lang="en-US" sz="14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724C-48F3-4DCD-AF62-3F81CEB753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The Science of Cigarettes (Contd.)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191120" y="6153120"/>
            <a:ext cx="838080" cy="62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45200" y="1447920"/>
            <a:ext cx="7965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Cigarettes have 599 additives in them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Chemicals ranging from Carcinogens (ex. benzo(a)pyrene), lethal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hydrogen cyanide till sweet lavender oil!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Each ingredient has a proven side effect on the metabolic,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nervous and immune system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ost popular and addictive additive is Nicotine! (Duh?)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Leave alone smoking, eating cigarettes itself is harmful for the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body – fire adds more diversity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Carbon-Monoxide (tar) is the most harmful ingredient of cigarette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smoke that binds to hemoglobin in red blood cells, preventing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affected cells from carrying a full load of oxygen.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Few diseases caused by cigarettes: cancer (in 8 different plausible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locations in the body), cataracts, chronic lung diseases, coronary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heart and cardiovascular diseases, as well as reproductive effects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and sudden infant death syndrome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0a01"/>
                </a:solidFill>
                <a:latin typeface="Arial"/>
              </a:rPr>
              <a:t>That’s not all!!!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D243-65A7-49A7-98D8-93791EA28A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Psychology of a smoker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368000"/>
            <a:ext cx="76183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a01"/>
                </a:solidFill>
                <a:latin typeface="Arial Narrow"/>
              </a:rPr>
              <a:t>Why do people start smoking?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ol” factor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Induction effect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a01"/>
                </a:solidFill>
                <a:latin typeface="Arial Narrow"/>
              </a:rPr>
              <a:t>Why do they continue smoking?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ddiction (Nicotine abstinence syndrome)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nditional attributes – Stress, anxiety, boredom etc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ssociation – Food, drink, fun and games, and even ***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a01"/>
                </a:solidFill>
                <a:latin typeface="Arial Narrow"/>
              </a:rPr>
              <a:t>Advanced smoker: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taste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smell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cigarette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Loyalty (Brand)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3884-B6BB-4B30-8A2E-866F100297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Brand nuances – Tobacco industry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5 major players in the tobacco industry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Philip Morris Inc.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merican Tobacco Company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Brown and Williamson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Liggett Group, Inc.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R.J. Reynolds Tobacco Company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86600" y="1523880"/>
            <a:ext cx="186516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28600" y="3048120"/>
            <a:ext cx="1676520" cy="1353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rcRect l="6782" t="4354" r="-1819" b="4354"/>
          <a:stretch/>
        </p:blipFill>
        <p:spPr>
          <a:xfrm>
            <a:off x="457200" y="472428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481720" y="4267080"/>
            <a:ext cx="1071360" cy="2210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6892920" y="4267080"/>
            <a:ext cx="133668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3276720" y="42670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8120" y="38098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And the brands ….</a:t>
            </a:r>
            <a:endParaRPr b="0" lang="en-US" sz="2400" spc="-1" strike="noStrike">
              <a:solidFill>
                <a:srgbClr val="252a54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1828800" y="44956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6260-82D1-4414-A6AF-54FA89300D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aramond"/>
              </a:rPr>
              <a:t>Project Description</a:t>
            </a:r>
            <a:endParaRPr b="0" lang="en-US" sz="36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7:23:42Z</dcterms:created>
  <dc:creator>Young Ban</dc:creator>
  <dc:description/>
  <dc:language>en-US</dc:language>
  <cp:lastModifiedBy>Michelle Rizk Canessa</cp:lastModifiedBy>
  <dcterms:modified xsi:type="dcterms:W3CDTF">2006-12-06T03:41:55Z</dcterms:modified>
  <cp:revision>86</cp:revision>
  <dc:subject/>
  <dc:title>NYU Stern School of Business Fall 2006  Relevant Investment Strategies</dc:title>
</cp:coreProperties>
</file>