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2D55-7E56-4207-B840-485C224E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72A4-BE47-4007-A57B-D0F8E83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9727-9363-41CA-9D7B-B4128F3F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BE38-7DF8-4F38-8D2D-15F9E17B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E546-A430-451F-83F0-0D570B79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EC27-9495-460D-86DE-06351C6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859-FF3C-42A8-8399-A990DDF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EA5B-2D93-4630-8128-17E4EA0D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62F-0363-4774-834F-8F11CF7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EF01-9F2E-4B3F-813B-E6E1DAE2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65F8-EE7B-4F93-939F-C11B544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43F3-FE93-4340-9F99-A931EA59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B3C-9298-4FF1-895D-DF59D31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5E5A-A1EB-4EFC-B202-B234FB0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2D5-FE0F-4F55-A84C-9D77E70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2360-231A-401D-834B-6327C396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E61-021E-440A-A368-8925374A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83FF-7201-402B-A171-0CCB568B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FD15-5B29-4066-8154-178FE5A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D3A2-1751-4206-81B5-9E66D9B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303D-658B-4ABB-8A4E-43E5F96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4849-0C35-4B83-9E15-E4291B5D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7B8A-215E-447F-B394-8A881BB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0982-4D29-4EF1-AA70-20E589B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CFC1-2F21-4129-8FB7-30A22F48B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3E5-7A40-4066-AD66-F44E8E280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yFnFPcqrAw" TargetMode="External"/><Relationship Id="rId2" Type="http://schemas.openxmlformats.org/officeDocument/2006/relationships/hyperlink" Target="http://www.youtube.com/watch?v=VyFnFPcqrAw" TargetMode="External"/><Relationship Id="rId3" Type="http://schemas.openxmlformats.org/officeDocument/2006/relationships/hyperlink" Target="http://www.youtube.com/watch?v=VyFnFPcqrAw" TargetMode="External"/><Relationship Id="rId4" Type="http://schemas.openxmlformats.org/officeDocument/2006/relationships/hyperlink" Target="http://www.youtube.com/watch?v=VyFnFPcqrAw" TargetMode="External"/><Relationship Id="rId5" Type="http://schemas.openxmlformats.org/officeDocument/2006/relationships/hyperlink" Target="http://www.youtube.com/watch?v=z-wLMyG7iuw" TargetMode="External"/><Relationship Id="rId6" Type="http://schemas.openxmlformats.org/officeDocument/2006/relationships/hyperlink" Target="http://www.youtube.com/watch?v=z-wLMyG7iuw" TargetMode="External"/><Relationship Id="rId7" Type="http://schemas.openxmlformats.org/officeDocument/2006/relationships/hyperlink" Target="http://www.youtube.com/watch?v=z-wLMyG7iuw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king Space Utilization Simulato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 Han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ar Sh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VyFnFPcqrAw</a:t>
            </a:r>
            <a:br>
              <a:rPr sz="1700"/>
            </a:b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www.youtube.com/watch?v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=z-wLMyG7iuw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 Model Feasibilit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4724280"/>
            <a:ext cx="1800360" cy="935280"/>
          </a:xfrm>
          <a:prstGeom prst="wedgeRectCallout">
            <a:avLst>
              <a:gd name="adj1" fmla="val 96384"/>
              <a:gd name="adj2" fmla="val -82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 Benchmark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700280"/>
            <a:ext cx="1728720" cy="79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Dis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5240" y="2062080"/>
            <a:ext cx="75535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icient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484280"/>
          <a:ext cx="7651800" cy="50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6518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data can not accommodate extraordinary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has a viable business potential     - Positiv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119720" cy="4564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557360"/>
            <a:ext cx="1079640" cy="1008000"/>
          </a:xfrm>
          <a:prstGeom prst="cloudCallout">
            <a:avLst>
              <a:gd name="adj1" fmla="val 73236"/>
              <a:gd name="adj2" fmla="val 433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588000" y="3789360"/>
            <a:ext cx="18288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crease the operating profit of parking garage by renting  monthly members space during their ab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28600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problem 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a monthly renter is gone the space can be rented for a short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the potential additional profit of this greedy operation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isk associated with our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27640" y="4867200"/>
            <a:ext cx="259740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renters are leaving their space mainly between 9:00 through 19: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Data of a parking lot traffic on hourly basis is given – normal d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0 penalty for unavailable space for monthly renter (reputation, customer base lo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charges by the hour ar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let customers in if the lot i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let customer in if the probability of a monthly renter arrival is higher then decision thres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of $200 for un served monthly r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26200" cy="468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2276640"/>
            <a:ext cx="2449440" cy="647640"/>
          </a:xfrm>
          <a:prstGeom prst="wedgeRectCallout">
            <a:avLst>
              <a:gd name="adj1" fmla="val -113902"/>
              <a:gd name="adj2" fmla="val 154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ustom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292640"/>
            <a:ext cx="2305080" cy="936720"/>
          </a:xfrm>
          <a:prstGeom prst="wedgeRectCallout">
            <a:avLst>
              <a:gd name="adj1" fmla="val 85125"/>
              <a:gd name="adj2" fmla="val -116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- Simulate Prob of space occup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950080"/>
            <a:ext cx="2449440" cy="647640"/>
          </a:xfrm>
          <a:prstGeom prst="wedgeRectCallout">
            <a:avLst>
              <a:gd name="adj1" fmla="val 133083"/>
              <a:gd name="adj2" fmla="val -892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767640" cy="442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32360" y="3213000"/>
            <a:ext cx="2232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80% of the time spots ar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3640" y="3645000"/>
            <a:ext cx="172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26200" cy="468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2276640"/>
            <a:ext cx="2449440" cy="647640"/>
          </a:xfrm>
          <a:prstGeom prst="wedgeRectCallout">
            <a:avLst>
              <a:gd name="adj1" fmla="val -113902"/>
              <a:gd name="adj2" fmla="val 154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ustom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292640"/>
            <a:ext cx="2305080" cy="936720"/>
          </a:xfrm>
          <a:prstGeom prst="wedgeRectCallout">
            <a:avLst>
              <a:gd name="adj1" fmla="val 85125"/>
              <a:gd name="adj2" fmla="val -116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- Simulate Prob of space occup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950080"/>
            <a:ext cx="2449440" cy="647640"/>
          </a:xfrm>
          <a:prstGeom prst="wedgeRectCallout">
            <a:avLst>
              <a:gd name="adj1" fmla="val 133083"/>
              <a:gd name="adj2" fmla="val -892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0:36:18Z</dcterms:created>
  <dc:creator>Zohar</dc:creator>
  <dc:description/>
  <dc:language>en-US</dc:language>
  <cp:lastModifiedBy>Zohar</cp:lastModifiedBy>
  <dcterms:modified xsi:type="dcterms:W3CDTF">2006-11-29T14:26:59Z</dcterms:modified>
  <cp:revision>15</cp:revision>
  <dc:subject/>
  <dc:title>Parking Optimizer</dc:title>
</cp:coreProperties>
</file>