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9.png" ContentType="image/png"/>
  <Override PartName="/ppt/media/image6.png" ContentType="image/png"/>
  <Override PartName="/ppt/media/image5.jpeg" ContentType="image/jpeg"/>
  <Override PartName="/ppt/media/image7.jpeg" ContentType="image/jpeg"/>
  <Override PartName="/ppt/media/image34.jpeg" ContentType="image/jpeg"/>
  <Override PartName="/ppt/media/image21.wmf" ContentType="image/x-wmf"/>
  <Override PartName="/ppt/media/image18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media/image28.jpeg" ContentType="image/jpeg"/>
  <Override PartName="/ppt/media/image23.wmf" ContentType="image/x-wmf"/>
  <Override PartName="/ppt/media/image31.jpeg" ContentType="image/jpeg"/>
  <Override PartName="/ppt/media/image4.jpeg" ContentType="image/jpeg"/>
  <Override PartName="/ppt/media/image12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E1D1-6A03-4BC5-9BD1-0B9A62501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hould we have the cannon shot come in for each bull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D3A-3D90-40B9-8CA8-26AEB090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5D9-C8AC-449D-8424-5099EA75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7F9-8BD7-4337-AFF1-590F2475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17C-EC39-42A2-8EE6-E9D3958C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040F-D96F-4BF4-A219-C527C01A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D5C5-5E1E-4D08-B578-463E7948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5B97-262E-4C75-880E-E7CB1DD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2C4-5A90-4956-88D5-E5FCA479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98A2-58CD-4819-8EC7-094D4DB4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EEC2-C949-416C-BF0F-9AFB809D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3DD8-03B1-4BC5-ADFC-3EAAF303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E46-8F86-4E31-9CAB-1F26D05C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A559-9DA9-429C-A2D9-212A3A3E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143F-24D3-41E0-B94E-5402DEBE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D470-C6BD-4F16-B187-51783605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990C-7796-46A5-8DC6-1B544E10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8169-C693-4368-AE40-EAF62D70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95A-1062-4E36-BB0E-66E3F14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B61-44A0-4462-90B9-CEF09BC6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A74-C945-4266-8908-5F686799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B42-B858-4EFF-85C8-0C943A04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254-2239-48CF-9AAE-0393F8B5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4EA-EEEA-40C1-97D7-1E61D7F2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FA9-CA80-4C93-BD0E-9FF5FC70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0BF4-F43F-4865-AAA7-64484E30A3C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F9D6-7B04-4F6C-B76E-5B9A0AB5027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video" Target="file:///tmp/home/.config/libreoffice/4/user/gallery/Embedded%20Sound%209" TargetMode="External"/><Relationship Id="rId7" Type="http://schemas.microsoft.com/office/2007/relationships/media" Target="file:///tmp/home/.config/libreoffice/4/user/gallery/Embedded%20Sound%209" TargetMode="Externa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video" Target="file:///tmp/home/.config/libreoffice/4/user/gallery/Embedded%20Sound%208" TargetMode="External"/><Relationship Id="rId5" Type="http://schemas.microsoft.com/office/2007/relationships/media" Target="file:///tmp/home/.config/libreoffice/4/user/gallery/Embedded%20Sound%208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video" Target="file:///tmp/home/.config/libreoffice/4/user/gallery/Whoosh" TargetMode="External"/><Relationship Id="rId3" Type="http://schemas.microsoft.com/office/2007/relationships/media" Target="file:///tmp/home/.config/libreoffice/4/user/gallery/Whoosh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PARTY TIME!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65360" y="4267080"/>
            <a:ext cx="6578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One group’s noble mission to help Juran throw the Decision Models party of a lifetime…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s well as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1600200"/>
          <a:ext cx="7620120" cy="4483080"/>
        </p:xfrm>
        <a:graphic>
          <a:graphicData uri="http://schemas.openxmlformats.org/drawingml/2006/table">
            <a:tbl>
              <a:tblPr/>
              <a:tblGrid>
                <a:gridCol w="3584520"/>
                <a:gridCol w="1346400"/>
                <a:gridCol w="1342800"/>
                <a:gridCol w="1346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E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C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VODKA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he Hairy Chest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Fancy Deli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ig  Sally's Liquor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Duane Read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Marty'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Crazy Eddie'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Joe'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Key Foo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ill's Bodega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685800" y="11937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188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99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Mode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5416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5345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99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Proces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4786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534520" y="6324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99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atisfying the Time Constrain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162920" cy="3352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53452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99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00640" cy="31176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582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99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lution!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6563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191120" y="4419720"/>
            <a:ext cx="3948120" cy="1757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990720" y="1295280"/>
            <a:ext cx="4343400" cy="2462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4582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6074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d The Party was a Success…!?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278160" cy="2458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7621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19920" y="1371600"/>
            <a:ext cx="2747880" cy="3378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5345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363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ith a little more time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could have done a Monte Carlo simulation on the expected time to each store in order to get a better estimat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could have made a model that would have allowed us to go to more than one store before returning hom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could have added a “financing” constraint, i.e., some stores only take cash, some people only have credit cards, etc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maybe should have gotten cups and mixers, chips and dip, etc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5820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83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y Questions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90560" y="55627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od discussion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666880" y="1542960"/>
            <a:ext cx="38102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etting the Stag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onday, December 11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, 2p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en, Dan and Jamaal are over at Brian &amp; Jeff’s apartment discussing the pros and cons of Evolutionary Solver, the merits of Crystal Ball, and how the geopolitical commentary embedded in Super Mario Bros. is still relevant toda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490760" cy="1673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1495440" cy="1673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1495440" cy="1668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410080" y="4114800"/>
            <a:ext cx="1417680" cy="168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>
            <a:grayscl/>
          </a:blip>
          <a:srcRect l="1056" t="7923" r="5282" b="1585"/>
          <a:stretch/>
        </p:blipFill>
        <p:spPr>
          <a:xfrm>
            <a:off x="3809880" y="4038480"/>
            <a:ext cx="1330560" cy="176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815328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8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uddenly, a phone call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bar where we were going to throw the decision models party cancelled on us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r mission, should you choose to accept it, will be to throw us a party at your sweet LES apartment!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2563560" cy="3429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29600" y="60958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2584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08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quire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need 50 cases of beer, 40 bags of ice, and 35 liters of vodka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’ll reimburse you for whatever you spend, but please try to minimize costs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13211"/>
          <a:stretch/>
        </p:blipFill>
        <p:spPr>
          <a:xfrm>
            <a:off x="1828800" y="4419720"/>
            <a:ext cx="2666880" cy="201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2" name="" descr=""/>
          <p:cNvPicPr/>
          <p:nvPr/>
        </p:nvPicPr>
        <p:blipFill>
          <a:blip r:embed="rId2"/>
          <a:srcRect l="30476" t="0" r="0" b="0"/>
          <a:stretch/>
        </p:blipFill>
        <p:spPr>
          <a:xfrm>
            <a:off x="838080" y="1563840"/>
            <a:ext cx="3124440" cy="2334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3" name="" descr=""/>
          <p:cNvPicPr/>
          <p:nvPr/>
        </p:nvPicPr>
        <p:blipFill>
          <a:blip r:embed="rId3"/>
          <a:srcRect l="0" t="0" r="13846" b="0"/>
          <a:stretch/>
        </p:blipFill>
        <p:spPr>
          <a:xfrm>
            <a:off x="380880" y="3200400"/>
            <a:ext cx="2438640" cy="1887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5908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6960" y="762120"/>
            <a:ext cx="7572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The Team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1066680"/>
            <a:ext cx="6299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ollee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Fast, nimble, able to fly short distances, Max wt: 25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4720" y="2057400"/>
            <a:ext cx="60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Jamaal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 Slow, lazy, hot breath, Max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t: 25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4191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Jeff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 Quick, very familiar with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ighborhood liquor stores, born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rom egg, Max wt: 30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4720" y="5853240"/>
            <a:ext cx="62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Bria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 Slow, controlled by evil forces,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x wt: 35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4720" y="3276720"/>
            <a:ext cx="61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Da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 Strong like ox, Max wt: 35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24080" y="4465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95280" y="5486400"/>
            <a:ext cx="1067040" cy="1197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1069920" cy="119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1073160" cy="1197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371600" y="4114800"/>
            <a:ext cx="1004760" cy="1197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>
            <a:grayscl/>
          </a:blip>
          <a:srcRect l="1056" t="7923" r="5282" b="1585"/>
          <a:stretch/>
        </p:blipFill>
        <p:spPr>
          <a:xfrm>
            <a:off x="1371600" y="2743200"/>
            <a:ext cx="901800" cy="1197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1371600" y="4114800"/>
            <a:ext cx="1004760" cy="1195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295280" y="5410080"/>
            <a:ext cx="1041480" cy="1289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1295280" y="2743200"/>
            <a:ext cx="978120" cy="1195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1219320" y="1447920"/>
            <a:ext cx="1261800" cy="1198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1371600" y="0"/>
            <a:ext cx="888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Nearby Stor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1598" t="28740" r="39940" b="19160"/>
          <a:stretch/>
        </p:blipFill>
        <p:spPr>
          <a:xfrm>
            <a:off x="1143000" y="1600200"/>
            <a:ext cx="6783480" cy="5040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0720" y="3373560"/>
            <a:ext cx="1139760" cy="685800"/>
          </a:xfrm>
          <a:prstGeom prst="wedgeRectCallout">
            <a:avLst>
              <a:gd name="adj1" fmla="val 90250"/>
              <a:gd name="adj2" fmla="val -44675"/>
            </a:avLst>
          </a:prstGeom>
          <a:solidFill>
            <a:srgbClr val="ffff9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Joe’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2535120"/>
            <a:ext cx="1139760" cy="914400"/>
          </a:xfrm>
          <a:prstGeom prst="wedgeRectCallout">
            <a:avLst>
              <a:gd name="adj1" fmla="val -104597"/>
              <a:gd name="adj2" fmla="val 56078"/>
            </a:avLst>
          </a:prstGeom>
          <a:solidFill>
            <a:srgbClr val="edfad2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The Hairy Ch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5659560"/>
            <a:ext cx="1752480" cy="609480"/>
          </a:xfrm>
          <a:prstGeom prst="wedgeRectCallout">
            <a:avLst>
              <a:gd name="adj1" fmla="val 57606"/>
              <a:gd name="adj2" fmla="val -176564"/>
            </a:avLst>
          </a:prstGeom>
          <a:solidFill>
            <a:srgbClr val="99cc00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Big Sally’s Liquor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5430960"/>
            <a:ext cx="1447920" cy="761760"/>
          </a:xfrm>
          <a:prstGeom prst="wedgeRectCallout">
            <a:avLst>
              <a:gd name="adj1" fmla="val -29712"/>
              <a:gd name="adj2" fmla="val -97083"/>
            </a:avLst>
          </a:prstGeom>
          <a:solidFill>
            <a:srgbClr val="ff9900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Bill’s Bodeg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3830760"/>
            <a:ext cx="380880" cy="38088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440240"/>
            <a:ext cx="1139760" cy="685800"/>
          </a:xfrm>
          <a:prstGeom prst="wedgeRectCallout">
            <a:avLst>
              <a:gd name="adj1" fmla="val 81337"/>
              <a:gd name="adj2" fmla="val -74305"/>
            </a:avLst>
          </a:prstGeom>
          <a:solidFill>
            <a:srgbClr val="ff99cc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Fancy Del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2077920"/>
            <a:ext cx="1140120" cy="685800"/>
          </a:xfrm>
          <a:prstGeom prst="wedgeRectCallout">
            <a:avLst>
              <a:gd name="adj1" fmla="val 72421"/>
              <a:gd name="adj2" fmla="val 99768"/>
            </a:avLst>
          </a:prstGeom>
          <a:solidFill>
            <a:srgbClr val="ffff00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Crazy Eddie’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3983040"/>
            <a:ext cx="1139760" cy="685800"/>
          </a:xfrm>
          <a:prstGeom prst="wedgeRectCallout">
            <a:avLst>
              <a:gd name="adj1" fmla="val -93592"/>
              <a:gd name="adj2" fmla="val -53935"/>
            </a:avLst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Marty’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1981080"/>
            <a:ext cx="1139760" cy="685800"/>
          </a:xfrm>
          <a:prstGeom prst="wedgeRectCallout">
            <a:avLst>
              <a:gd name="adj1" fmla="val -101393"/>
              <a:gd name="adj2" fmla="val -63888"/>
            </a:avLst>
          </a:prstGeom>
          <a:solidFill>
            <a:srgbClr val="33cccc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Key Food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5583240"/>
            <a:ext cx="1140120" cy="685800"/>
          </a:xfrm>
          <a:prstGeom prst="wedgeRectCallout">
            <a:avLst>
              <a:gd name="adj1" fmla="val -103620"/>
              <a:gd name="adj2" fmla="val -163194"/>
            </a:avLst>
          </a:prstGeom>
          <a:solidFill>
            <a:srgbClr val="cc99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Duane Rea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79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Criteri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819520" cy="2722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1673280" cy="2236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95480" y="46483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On a budget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please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ry to minimize costs.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981080"/>
            <a:ext cx="8001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utting it close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uran:  “Finish in 3 hours, by 5pm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 else!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we know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15120" cy="2697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848720" cy="2354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38188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99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e also happen to know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019560" cy="3191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582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830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7:20:50Z</dcterms:created>
  <dc:creator>Brian Curtin</dc:creator>
  <dc:description/>
  <dc:language>en-US</dc:language>
  <cp:lastModifiedBy>Stern School of Business</cp:lastModifiedBy>
  <dcterms:modified xsi:type="dcterms:W3CDTF">2006-12-20T20:17:30Z</dcterms:modified>
  <cp:revision>31</cp:revision>
  <dc:subject/>
  <dc:title>PARTY TIME!</dc:title>
</cp:coreProperties>
</file>