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0.wmf" ContentType="image/x-wmf"/>
  <Override PartName="/ppt/media/image33.jpeg" ContentType="image/jpeg"/>
  <Override PartName="/ppt/media/image24.wmf" ContentType="image/x-wmf"/>
  <Override PartName="/ppt/media/image22.wmf" ContentType="image/x-wmf"/>
  <Override PartName="/ppt/media/image20.jpeg" ContentType="image/jpeg"/>
  <Override PartName="/ppt/media/image29.png" ContentType="image/png"/>
  <Override PartName="/ppt/media/image6.png" ContentType="image/png"/>
  <Override PartName="/ppt/media/image5.jpeg" ContentType="image/jpeg"/>
  <Override PartName="/ppt/media/image7.jpeg" ContentType="image/jpeg"/>
  <Override PartName="/ppt/media/image34.jpeg" ContentType="image/jpeg"/>
  <Override PartName="/ppt/media/image21.wmf" ContentType="image/x-wmf"/>
  <Override PartName="/ppt/media/image18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1.jpeg" ContentType="image/jpeg"/>
  <Override PartName="/ppt/media/image28.jpeg" ContentType="image/jpeg"/>
  <Override PartName="/ppt/media/image23.wmf" ContentType="image/x-wmf"/>
  <Override PartName="/ppt/media/image31.jpeg" ContentType="image/jpeg"/>
  <Override PartName="/ppt/media/image4.jpeg" ContentType="image/jpeg"/>
  <Override PartName="/ppt/media/image12.png" ContentType="image/pn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32.jpeg" ContentType="image/jpeg"/>
  <Override PartName="/ppt/media/image17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7C47-4634-44B4-98A2-64188D8B1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hould we have the cannon shot come in for each bull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211-5EB6-4BE0-9A75-807F25E2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1D3C-23C0-4B98-B4EB-C10C359F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B29-C1D9-4A1E-9BC8-C5C7D846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7A2-472F-4218-83DC-16CE5F28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F2BF-1CD9-4C41-A80B-D4D8B313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806B-929F-4006-8D64-4E3EDC05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FF12-6008-426F-9D90-811D1472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9268-1BFB-4598-8725-BA5F2503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6055-233C-451C-9AFC-3B72457F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33A1-99FD-4D24-AF87-D08340A4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FB1B-B6FE-4008-972C-B747E1A4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35D-4179-43AC-B110-FB0761EF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3967-7754-4237-B4AB-3E016259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BA60-991E-4223-A594-4D3425D7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74AA-C137-4BA5-983B-DAA4C62E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012B-EA25-49AC-9FFC-C0AB5A7F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D66A-1F84-4D0B-A06E-84027209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EAC-39AE-442C-A7C0-1DC59DF1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904-AFCA-4B13-8F92-84D7B140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DBE7-2C98-435C-8A45-B0824228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49B-B17D-4262-887A-E7DA0141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2D15-84DF-4DEC-B0D1-08BE6645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C4A-2325-49E5-B1D7-470A7A68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C52-2E48-4E85-99A5-66CBDFD8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036B-D89F-49BB-9569-6CD2AE0A332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6B7B-EC30-41E6-A2FC-9738C0E21BA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video" Target="file:///tmp/home/.config/libreoffice/4/user/gallery/Embedded%20Sound%209" TargetMode="External"/><Relationship Id="rId7" Type="http://schemas.microsoft.com/office/2007/relationships/media" Target="file:///tmp/home/.config/libreoffice/4/user/gallery/Embedded%20Sound%209" TargetMode="External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video" Target="file:///tmp/home/.config/libreoffice/4/user/gallery/Embedded%20Sound%208" TargetMode="External"/><Relationship Id="rId5" Type="http://schemas.microsoft.com/office/2007/relationships/media" Target="file:///tmp/home/.config/libreoffice/4/user/gallery/Embedded%20Sound%208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video" Target="file:///tmp/home/.config/libreoffice/4/user/gallery/Whoosh" TargetMode="External"/><Relationship Id="rId3" Type="http://schemas.microsoft.com/office/2007/relationships/media" Target="file:///tmp/home/.config/libreoffice/4/user/gallery/Whoosh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PARTY TIME!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565360" y="4267080"/>
            <a:ext cx="65786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One group’s noble mission to help Juran throw the Decision Models party of a lifetime…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…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s well as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1600200"/>
          <a:ext cx="7620120" cy="4483080"/>
        </p:xfrm>
        <a:graphic>
          <a:graphicData uri="http://schemas.openxmlformats.org/drawingml/2006/table">
            <a:tbl>
              <a:tblPr/>
              <a:tblGrid>
                <a:gridCol w="3584520"/>
                <a:gridCol w="1346400"/>
                <a:gridCol w="1342800"/>
                <a:gridCol w="1346400"/>
              </a:tblGrid>
              <a:tr h="68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66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BEER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66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CE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VODKA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The Hairy Chest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Fancy Deli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ig  Sally's Liquors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Duane Reade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Marty's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Crazy Eddie's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Joe's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Key Food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ill's Bodega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685800" y="11937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38188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99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-30492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Model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54165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53452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99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Proces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257800" cy="47865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534520" y="6324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99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atisfying the Time Constraint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162920" cy="3352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534520" y="62485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99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300640" cy="31176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45820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99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olution!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6563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191120" y="4419720"/>
            <a:ext cx="3948120" cy="1757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990720" y="1295280"/>
            <a:ext cx="4343400" cy="24624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845820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6074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d The Party was a Success…!?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105520" y="4191120"/>
            <a:ext cx="3278160" cy="2458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3276720" y="15238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762120" y="40384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6019920" y="1371600"/>
            <a:ext cx="2747880" cy="33782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53452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3630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ith a little more time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e could have done a Monte Carlo simulation on the expected time to each store in order to get a better estimat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e could have made a model that would have allowed us to go to more than one store before returning hom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e could have added a “financing” constraint, i.e., some stores only take cash, some people only have credit cards, etc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e maybe should have gotten cups and mixers, chips and dip, etc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458200" y="62485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830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y Questions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90560" y="55627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ood discussion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666880" y="1542960"/>
            <a:ext cx="381024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etting the Stag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onday, December 11</a:t>
            </a:r>
            <a:r>
              <a:rPr b="0" lang="en-US" sz="2400" spc="-1" strike="noStrike" baseline="30000">
                <a:solidFill>
                  <a:srgbClr val="006699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, 2p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olleen, Dan and Jamaal are over at Brian &amp; Jeff’s apartment discussing the pros and cons of Evolutionary Solver, the merits of Crystal Ball, and how the geopolitical commentary embedded in Super Mario Bros. is still relevant toda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1490760" cy="1673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858000" y="4114800"/>
            <a:ext cx="1495440" cy="1673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133720" y="4114800"/>
            <a:ext cx="1495440" cy="1668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5410080" y="4114800"/>
            <a:ext cx="1417680" cy="1687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>
            <a:grayscl/>
          </a:blip>
          <a:srcRect l="1056" t="7923" r="5282" b="1585"/>
          <a:stretch/>
        </p:blipFill>
        <p:spPr>
          <a:xfrm>
            <a:off x="3809880" y="4038480"/>
            <a:ext cx="1330560" cy="1765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815328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58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uddenly, a phone call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bar where we were going to throw the decision models party cancelled on us.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Your mission, should you choose to accept it, will be to throw us a party at your sweet LES apartment!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2563560" cy="3429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29600" y="60958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447920" y="1981080"/>
            <a:ext cx="2584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908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quiremen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e need 50 cases of beer, 40 bags of ice, and 35 liters of vodka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’ll reimburse you for whatever you spend, but please try to minimize costs.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0" t="0" r="0" b="13211"/>
          <a:stretch/>
        </p:blipFill>
        <p:spPr>
          <a:xfrm>
            <a:off x="1828800" y="4419720"/>
            <a:ext cx="2666880" cy="2017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2" name="" descr=""/>
          <p:cNvPicPr/>
          <p:nvPr/>
        </p:nvPicPr>
        <p:blipFill>
          <a:blip r:embed="rId2"/>
          <a:srcRect l="30476" t="0" r="0" b="0"/>
          <a:stretch/>
        </p:blipFill>
        <p:spPr>
          <a:xfrm>
            <a:off x="838080" y="1563840"/>
            <a:ext cx="3124440" cy="2334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3" name="" descr=""/>
          <p:cNvPicPr/>
          <p:nvPr/>
        </p:nvPicPr>
        <p:blipFill>
          <a:blip r:embed="rId3"/>
          <a:srcRect l="0" t="0" r="13846" b="0"/>
          <a:stretch/>
        </p:blipFill>
        <p:spPr>
          <a:xfrm>
            <a:off x="380880" y="3200400"/>
            <a:ext cx="2438640" cy="1887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0592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5908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86960" y="762120"/>
            <a:ext cx="75726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The Team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1066680"/>
            <a:ext cx="6299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marL="123480" indent="-123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Colleen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: Fast, nimble, able to fly short distances, Max wt: 25 lb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123480" indent="-123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44720" y="2057400"/>
            <a:ext cx="608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Jamaal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:  Slow, lazy, hot breath, Max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t: 25 lb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4191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Jeff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:  Quick, very familiar with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eighborhood liquor stores, born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rom egg, Max wt: 30 lb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44720" y="5853240"/>
            <a:ext cx="62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Brian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:  Slow, controlled by evil forces,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ax wt: 35 lb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4720" y="3276720"/>
            <a:ext cx="61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Dan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:  Strong like ox, Max wt: 35 lb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24080" y="4465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295280" y="5486400"/>
            <a:ext cx="1067040" cy="1197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295280" y="152280"/>
            <a:ext cx="1069920" cy="1197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295280" y="1447920"/>
            <a:ext cx="1073160" cy="1197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1371600" y="4114800"/>
            <a:ext cx="1004760" cy="1197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>
            <a:grayscl/>
          </a:blip>
          <a:srcRect l="1056" t="7923" r="5282" b="1585"/>
          <a:stretch/>
        </p:blipFill>
        <p:spPr>
          <a:xfrm>
            <a:off x="1371600" y="2743200"/>
            <a:ext cx="901800" cy="1197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1371600" y="4114800"/>
            <a:ext cx="1004760" cy="1195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1295280" y="5410080"/>
            <a:ext cx="1041480" cy="1289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1295280" y="2743200"/>
            <a:ext cx="978120" cy="1195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1219320" y="1447920"/>
            <a:ext cx="1261800" cy="1198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1371600" y="0"/>
            <a:ext cx="888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Nearby Stor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1598" t="28740" r="39940" b="19160"/>
          <a:stretch/>
        </p:blipFill>
        <p:spPr>
          <a:xfrm>
            <a:off x="1143000" y="1600200"/>
            <a:ext cx="6783480" cy="5040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90720" y="3373560"/>
            <a:ext cx="1139760" cy="685800"/>
          </a:xfrm>
          <a:prstGeom prst="wedgeRectCallout">
            <a:avLst>
              <a:gd name="adj1" fmla="val 90250"/>
              <a:gd name="adj2" fmla="val -44675"/>
            </a:avLst>
          </a:prstGeom>
          <a:solidFill>
            <a:srgbClr val="ffff99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entury Gothic"/>
                <a:ea typeface="Arial"/>
              </a:rPr>
              <a:t>Joe’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91320" y="2535120"/>
            <a:ext cx="1139760" cy="914400"/>
          </a:xfrm>
          <a:prstGeom prst="wedgeRectCallout">
            <a:avLst>
              <a:gd name="adj1" fmla="val -104597"/>
              <a:gd name="adj2" fmla="val 56078"/>
            </a:avLst>
          </a:prstGeom>
          <a:solidFill>
            <a:srgbClr val="edfad2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entury Gothic"/>
                <a:ea typeface="Arial"/>
              </a:rPr>
              <a:t>The Hairy Ches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5659560"/>
            <a:ext cx="1752480" cy="609480"/>
          </a:xfrm>
          <a:prstGeom prst="wedgeRectCallout">
            <a:avLst>
              <a:gd name="adj1" fmla="val 57606"/>
              <a:gd name="adj2" fmla="val -176564"/>
            </a:avLst>
          </a:prstGeom>
          <a:solidFill>
            <a:srgbClr val="99cc00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entury Gothic"/>
                <a:ea typeface="Arial"/>
              </a:rPr>
              <a:t>Big Sally’s Liquor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5430960"/>
            <a:ext cx="1447920" cy="761760"/>
          </a:xfrm>
          <a:prstGeom prst="wedgeRectCallout">
            <a:avLst>
              <a:gd name="adj1" fmla="val -29712"/>
              <a:gd name="adj2" fmla="val -97083"/>
            </a:avLst>
          </a:prstGeom>
          <a:solidFill>
            <a:srgbClr val="ff9900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entury Gothic"/>
                <a:ea typeface="Arial"/>
              </a:rPr>
              <a:t>Bill’s Bodeg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3830760"/>
            <a:ext cx="380880" cy="38088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4440240"/>
            <a:ext cx="1139760" cy="685800"/>
          </a:xfrm>
          <a:prstGeom prst="wedgeRectCallout">
            <a:avLst>
              <a:gd name="adj1" fmla="val 81337"/>
              <a:gd name="adj2" fmla="val -74305"/>
            </a:avLst>
          </a:prstGeom>
          <a:solidFill>
            <a:srgbClr val="ff99cc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entury Gothic"/>
                <a:ea typeface="Arial"/>
              </a:rPr>
              <a:t>Fancy Del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2077920"/>
            <a:ext cx="1140120" cy="685800"/>
          </a:xfrm>
          <a:prstGeom prst="wedgeRectCallout">
            <a:avLst>
              <a:gd name="adj1" fmla="val 72421"/>
              <a:gd name="adj2" fmla="val 99768"/>
            </a:avLst>
          </a:prstGeom>
          <a:solidFill>
            <a:srgbClr val="ffff00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entury Gothic"/>
                <a:ea typeface="Arial"/>
              </a:rPr>
              <a:t>Crazy Eddie’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3983040"/>
            <a:ext cx="1139760" cy="685800"/>
          </a:xfrm>
          <a:prstGeom prst="wedgeRectCallout">
            <a:avLst>
              <a:gd name="adj1" fmla="val -93592"/>
              <a:gd name="adj2" fmla="val -53935"/>
            </a:avLst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entury Gothic"/>
                <a:ea typeface="Arial"/>
              </a:rPr>
              <a:t>Marty’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1981080"/>
            <a:ext cx="1139760" cy="685800"/>
          </a:xfrm>
          <a:prstGeom prst="wedgeRectCallout">
            <a:avLst>
              <a:gd name="adj1" fmla="val -101393"/>
              <a:gd name="adj2" fmla="val -63888"/>
            </a:avLst>
          </a:prstGeom>
          <a:solidFill>
            <a:srgbClr val="33cccc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entury Gothic"/>
                <a:ea typeface="Arial"/>
              </a:rPr>
              <a:t>Key Food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81680" y="5583240"/>
            <a:ext cx="1140120" cy="685800"/>
          </a:xfrm>
          <a:prstGeom prst="wedgeRectCallout">
            <a:avLst>
              <a:gd name="adj1" fmla="val -103620"/>
              <a:gd name="adj2" fmla="val -163194"/>
            </a:avLst>
          </a:prstGeom>
          <a:solidFill>
            <a:srgbClr val="cc99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entury Gothic"/>
                <a:ea typeface="Arial"/>
              </a:rPr>
              <a:t>Duane Read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4520" y="62485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2794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Criteri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867280" y="2362320"/>
            <a:ext cx="2819520" cy="27223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066680" y="3962520"/>
            <a:ext cx="1673280" cy="2236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895480" y="46483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On a budget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nd please,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ry to minimize costs.”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1981080"/>
            <a:ext cx="8001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Cutting it close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Juran:  “Finish in 3 hours, by 5pm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r else!”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at we know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215120" cy="2697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7848720" cy="2354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838188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99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e also happen to know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019560" cy="31910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458200" y="6172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830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7:20:50Z</dcterms:created>
  <dc:creator>Brian Curtin</dc:creator>
  <dc:description/>
  <dc:language>en-US</dc:language>
  <cp:lastModifiedBy>Stern School of Business</cp:lastModifiedBy>
  <dcterms:modified xsi:type="dcterms:W3CDTF">2006-12-20T20:17:30Z</dcterms:modified>
  <cp:revision>31</cp:revision>
  <dc:subject/>
  <dc:title>PARTY TIME!</dc:title>
</cp:coreProperties>
</file>