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6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5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E10-E07D-4655-A53B-C1D05AEA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371-71E1-4133-A60F-2B5013BC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C0F-A657-4793-8A68-AFCD135B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CE39-2753-47A6-8CD3-90C56D79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0BB5-7832-4FD1-A399-C42A6FBF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B823-A610-49EA-86C8-3C843030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C535-B848-4BBF-85B3-7C17BC0B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04F-0FB8-4F54-AB0E-4343CB8E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76A4-C7AB-41F7-A48A-6274F5E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AB4A-9296-4997-BC87-F008D25D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0580-3E07-4BFC-BAA1-5FA1607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8D1-215B-4817-9DD8-178D8173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CF81-7766-4308-81DC-67A99C6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B032-ACF4-4D24-8448-1E59A274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7A04-6D20-45CB-BF9E-91FE5A7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C6C6-0177-4896-BB0F-24131B4F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B39-39F8-4A8C-88BC-A723B3EA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1B32-BBD0-4908-B6ED-6049C64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79E-64B2-435B-A59B-C4FB22B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51A-B9BB-493F-AE06-1A786FC7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FD5-B6B5-456D-9A4D-EABB20BC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7A2-AD0B-4543-B446-BF08281A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BD4-55BD-4D09-95E1-129155F4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14B-DBA7-412C-ACE4-7B47AE0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E41A-6281-4099-96FF-400B98666D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00D-CB86-4E35-9CB0-7CDFBE1263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sb.columbia.edu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gsb.columbia.edu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985320"/>
            <a:ext cx="83059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Project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Model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Way</a:t>
            </a:r>
            <a:endParaRPr b="1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am 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illian Bordeau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a Gersho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onica Hs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nnifer Hu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aroopa Redd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Run Solver to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ize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penalties 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100240" y="2209680"/>
            <a:ext cx="57484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Crashing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parameter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31840" y="1822320"/>
            <a:ext cx="7783560" cy="348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5657760"/>
            <a:ext cx="739152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ver concludes that we can still complete the project by crashing certain activities and lose only 7.5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Ru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Solver Table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to see trade-off i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quality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vs.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374920"/>
            <a:ext cx="3181320" cy="3492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72000" y="3873600"/>
            <a:ext cx="1295280" cy="6984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48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How optimal quality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decreases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with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less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6000" y="1289160"/>
            <a:ext cx="8145720" cy="556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8150000">
            <a:off x="6508440" y="4507920"/>
            <a:ext cx="609480" cy="381240"/>
          </a:xfrm>
          <a:prstGeom prst="leftArrow">
            <a:avLst>
              <a:gd name="adj1" fmla="val 50000"/>
              <a:gd name="adj2" fmla="val 399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23680" y="415908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7.5 points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teams’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models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" descr="Columbia Business School home page">
            <a:hlinkClick r:id="rId1"/>
          </p:cNvPr>
          <p:cNvPicPr/>
          <p:nvPr/>
        </p:nvPicPr>
        <p:blipFill>
          <a:blip r:embed="rId2"/>
          <a:srcRect l="9599" t="8347" r="0" b="16694"/>
          <a:stretch/>
        </p:blipFill>
        <p:spPr>
          <a:xfrm>
            <a:off x="7391520" y="4572000"/>
            <a:ext cx="1371600" cy="1308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447920" y="2297160"/>
            <a:ext cx="1447560" cy="903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124080" y="22384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figuring out the activities that could be crashed whil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nimiz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amount of points that would be lost, the Stern team completed a model that would have been scored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2.5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419720"/>
            <a:ext cx="670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olumbia team, unlike the Stern team, spent too much tim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ailing their friend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their laptops during class, an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ailed to minimiz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ir penalties when determining the activities to crash. As a result, they developed a model that would have been scored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1%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3886200"/>
            <a:ext cx="61722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Judgment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day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981080" cy="1320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057400" y="1781280"/>
            <a:ext cx="49528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l of 300 Ju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55480" y="2822400"/>
            <a:ext cx="7730640" cy="2374200"/>
            <a:chOff x="555480" y="2822400"/>
            <a:chExt cx="7730640" cy="2374200"/>
          </a:xfrm>
        </p:grpSpPr>
        <p:sp>
          <p:nvSpPr>
            <p:cNvPr id="207" name=""/>
            <p:cNvSpPr/>
            <p:nvPr/>
          </p:nvSpPr>
          <p:spPr>
            <a:xfrm>
              <a:off x="555480" y="4676760"/>
              <a:ext cx="2347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biased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CBS 4 add’l poin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4676760"/>
              <a:ext cx="32004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biased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Stern 1 add’l poi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5200" y="4676760"/>
              <a:ext cx="196092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100 neutral judg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(Will assign points fairl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" descr="Columbia Business School home page">
              <a:hlinkClick r:id="rId2"/>
            </p:cNvPr>
            <p:cNvPicPr/>
            <p:nvPr/>
          </p:nvPicPr>
          <p:blipFill>
            <a:blip r:embed="rId3"/>
            <a:srcRect l="9599" t="8347" r="0" b="16694"/>
            <a:stretch/>
          </p:blipFill>
          <p:spPr>
            <a:xfrm>
              <a:off x="1066680" y="3457440"/>
              <a:ext cx="1371600" cy="13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4"/>
            <a:stretch/>
          </p:blipFill>
          <p:spPr>
            <a:xfrm>
              <a:off x="6724800" y="3505320"/>
              <a:ext cx="11253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"/>
            <a:stretch/>
          </p:blipFill>
          <p:spPr>
            <a:xfrm>
              <a:off x="3719520" y="3762360"/>
              <a:ext cx="137160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flipH="1">
              <a:off x="1828440" y="2822400"/>
              <a:ext cx="685800" cy="622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3080" y="2847960"/>
              <a:ext cx="685800" cy="622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9720" y="3000240"/>
              <a:ext cx="0" cy="703440"/>
            </a:xfrm>
            <a:prstGeom prst="line">
              <a:avLst/>
            </a:prstGeom>
            <a:ln w="255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 rot="5400000">
            <a:off x="4323960" y="2152080"/>
            <a:ext cx="228600" cy="6743880"/>
          </a:xfrm>
          <a:custGeom>
            <a:avLst/>
            <a:gdLst>
              <a:gd name="textAreaLeft" fmla="*/ 0 w 228600"/>
              <a:gd name="textAreaRight" fmla="*/ 160560 w 228600"/>
              <a:gd name="textAreaTop" fmla="*/ 86040 h 6743880"/>
              <a:gd name="textAreaBottom" fmla="*/ 6657840 h 674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77"/>
                  <a:pt x="21600" y="553"/>
                </a:cubicBezTo>
                <a:lnTo>
                  <a:pt x="21600" y="21047"/>
                </a:lnTo>
                <a:cubicBezTo>
                  <a:pt x="21600" y="21324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638680"/>
            <a:ext cx="0" cy="228600"/>
          </a:xfrm>
          <a:prstGeom prst="line">
            <a:avLst/>
          </a:prstGeom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943600"/>
            <a:ext cx="8470800" cy="609480"/>
          </a:xfrm>
          <a:prstGeom prst="rect">
            <a:avLst/>
          </a:prstGeom>
          <a:solidFill>
            <a:srgbClr val="006666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Seven judg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ill be selecte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at rando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judge the compet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Judging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injus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8487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Due to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biase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, whenever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4 or mor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the judges are from Columbia,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 will wi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32767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other combinatio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judges wil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guarante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tern victory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4724280"/>
            <a:ext cx="891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ing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rystal Ball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, we determined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probability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4 or mor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of the judges would be from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809880" y="5864400"/>
            <a:ext cx="1371600" cy="612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00200" y="3048120"/>
            <a:ext cx="58672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4343400"/>
            <a:ext cx="632448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764400">
            <a:off x="7497360" y="2819160"/>
            <a:ext cx="11127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ystal B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resul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154160" y="2743200"/>
            <a:ext cx="7380000" cy="3340080"/>
            <a:chOff x="1154160" y="2743200"/>
            <a:chExt cx="7380000" cy="33400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1154160" y="2743200"/>
              <a:ext cx="73800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603600" y="571500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Forecast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86920" y="5715000"/>
              <a:ext cx="2145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Assumption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3400" y="3124080"/>
              <a:ext cx="914400" cy="133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2938" y="43277"/>
                  </a:moveTo>
                  <a:lnTo>
                    <a:pt x="-1800" y="18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4586040"/>
              <a:ext cx="9144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2275" y="110400"/>
                  </a:moveTo>
                  <a:lnTo>
                    <a:pt x="-1800" y="108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595680" y="2057400"/>
            <a:ext cx="22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1000 tri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ystal B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etu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38280" y="1712880"/>
            <a:ext cx="4496040" cy="31640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14600" y="5105520"/>
            <a:ext cx="43434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Columbia will (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unfairly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) win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18%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of the tim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9320" y="1905120"/>
            <a:ext cx="7553160" cy="3724200"/>
            <a:chOff x="1219320" y="1905120"/>
            <a:chExt cx="7553160" cy="37242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1219320" y="1905120"/>
              <a:ext cx="755316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810240" y="4376520"/>
              <a:ext cx="1371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66000" y="401940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Verdana"/>
                </a:rPr>
                <a:t>1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uper-nerd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MBA Olympics,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Stern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battle it out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eck-and-neck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first plac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9599" r="0" b="0"/>
          <a:stretch/>
        </p:blipFill>
        <p:spPr>
          <a:xfrm>
            <a:off x="3276720" y="2862360"/>
            <a:ext cx="2743200" cy="247176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600200" y="5791320"/>
            <a:ext cx="6858000" cy="761760"/>
          </a:xfrm>
          <a:prstGeom prst="rect">
            <a:avLst/>
          </a:prstGeom>
          <a:noFill/>
          <a:ln w="316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nly one event remains . . .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In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conclusion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. . 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7845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 though there is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8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hance that, despite all our hard work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lumbi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ight st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fairly w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5943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think Juran is worth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 rot="20234400">
            <a:off x="2879640" y="3340080"/>
            <a:ext cx="2305080" cy="2065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>
            <a:lum bright="8000"/>
          </a:blip>
          <a:stretch/>
        </p:blipFill>
        <p:spPr>
          <a:xfrm rot="921600">
            <a:off x="4419360" y="2743200"/>
            <a:ext cx="1419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Question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84600" y="2286000"/>
            <a:ext cx="1392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Juran’s 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modeling</a:t>
            </a: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 competition</a:t>
            </a:r>
            <a:r>
              <a:rPr b="1" lang="en-US" sz="3200" spc="-1" strike="noStrike">
                <a:solidFill>
                  <a:srgbClr val="99cccc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1373040"/>
          </a:xfrm>
          <a:prstGeom prst="rect">
            <a:avLst/>
          </a:prstGeom>
          <a:noFill/>
          <a:ln w="0">
            <a:noFill/>
          </a:ln>
        </p:spPr>
        <p:txBody>
          <a:bodyPr l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Ru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v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project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sig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 model,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esent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to the board 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4 hou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les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600" y="3198960"/>
            <a:ext cx="7467480" cy="3503880"/>
            <a:chOff x="1371600" y="3198960"/>
            <a:chExt cx="7467480" cy="3503880"/>
          </a:xfrm>
        </p:grpSpPr>
        <p:grpSp>
          <p:nvGrpSpPr>
            <p:cNvPr id="99" name=""/>
            <p:cNvGrpSpPr/>
            <p:nvPr/>
          </p:nvGrpSpPr>
          <p:grpSpPr>
            <a:xfrm>
              <a:off x="1371600" y="3198960"/>
              <a:ext cx="7467480" cy="3278160"/>
              <a:chOff x="1371600" y="3198960"/>
              <a:chExt cx="7467480" cy="3278160"/>
            </a:xfrm>
          </p:grpSpPr>
          <p:sp>
            <p:nvSpPr>
              <p:cNvPr id="100" name=""/>
              <p:cNvSpPr/>
              <p:nvPr/>
            </p:nvSpPr>
            <p:spPr>
              <a:xfrm>
                <a:off x="1371600" y="3198960"/>
                <a:ext cx="7467480" cy="19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he Priz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The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winning schoo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gets to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keep Juran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all to themselves -- no more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sending email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to one school from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Verdana"/>
                  </a:rPr>
                  <a:t>another school’s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 email account!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" descr="Photo of David C. Juran"/>
              <p:cNvPicPr/>
              <p:nvPr/>
            </p:nvPicPr>
            <p:blipFill>
              <a:blip r:embed="rId1"/>
              <a:stretch/>
            </p:blipFill>
            <p:spPr>
              <a:xfrm>
                <a:off x="3886200" y="4876920"/>
                <a:ext cx="130968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rot="20517000">
              <a:off x="3276720" y="4647960"/>
              <a:ext cx="838080" cy="59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 rot="1754400">
              <a:off x="4800240" y="5943240"/>
              <a:ext cx="838080" cy="59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The necessary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step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1835280"/>
          <a:ext cx="7618320" cy="3498840"/>
        </p:xfrm>
        <a:graphic>
          <a:graphicData uri="http://schemas.openxmlformats.org/drawingml/2006/table">
            <a:tbl>
              <a:tblPr/>
              <a:tblGrid>
                <a:gridCol w="636480"/>
                <a:gridCol w="4543560"/>
                <a:gridCol w="914400"/>
                <a:gridCol w="15238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6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ration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18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 hou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bjective function and decision 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the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 the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,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 with Ju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,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066680" y="55627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ur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present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eal 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needed to spend on each step in order t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sure a proje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est qual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would receive 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fect grad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10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Network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represent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6680" y="1828800"/>
            <a:ext cx="8478720" cy="4747320"/>
            <a:chOff x="436680" y="1828800"/>
            <a:chExt cx="8478720" cy="4747320"/>
          </a:xfrm>
        </p:grpSpPr>
        <p:sp>
          <p:nvSpPr>
            <p:cNvPr id="109" name=""/>
            <p:cNvSpPr/>
            <p:nvPr/>
          </p:nvSpPr>
          <p:spPr>
            <a:xfrm>
              <a:off x="2035080" y="1981080"/>
              <a:ext cx="53352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45320" y="1828800"/>
              <a:ext cx="53316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78240" y="5772240"/>
              <a:ext cx="533160" cy="5331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endCxn id="109" idx="3"/>
            </p:cNvCxnSpPr>
            <p:nvPr/>
          </p:nvCxnSpPr>
          <p:spPr>
            <a:xfrm flipV="1">
              <a:off x="1484280" y="2455200"/>
              <a:ext cx="6292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/>
            <p:nvPr/>
          </p:nvCxnSpPr>
          <p:spPr>
            <a:xfrm>
              <a:off x="2415960" y="2514600"/>
              <a:ext cx="268920" cy="324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5" idx="7"/>
            </p:cNvCxnSpPr>
            <p:nvPr/>
          </p:nvCxnSpPr>
          <p:spPr>
            <a:xfrm flipV="1">
              <a:off x="4928760" y="2285640"/>
              <a:ext cx="994680" cy="165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/>
            <p:nvPr/>
          </p:nvCxnSpPr>
          <p:spPr>
            <a:xfrm flipH="1">
              <a:off x="6027480" y="2362320"/>
              <a:ext cx="46800" cy="13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1445040" y="2673360"/>
              <a:ext cx="3909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59800" y="3808440"/>
              <a:ext cx="374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49520" y="2666880"/>
              <a:ext cx="354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49640" y="3054240"/>
              <a:ext cx="3546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50080" y="5409360"/>
              <a:ext cx="1165320" cy="11667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endCxn id="115" idx="1"/>
            </p:cNvCxnSpPr>
            <p:nvPr/>
          </p:nvCxnSpPr>
          <p:spPr>
            <a:xfrm>
              <a:off x="2568600" y="2417760"/>
              <a:ext cx="1983240" cy="152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/>
            <p:nvPr/>
          </p:nvSpPr>
          <p:spPr>
            <a:xfrm>
              <a:off x="3336480" y="2743200"/>
              <a:ext cx="3848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3720" y="3886200"/>
              <a:ext cx="533160" cy="53352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endCxn id="115" idx="3"/>
            </p:cNvCxnSpPr>
            <p:nvPr/>
          </p:nvCxnSpPr>
          <p:spPr>
            <a:xfrm flipV="1">
              <a:off x="2949480" y="4360320"/>
              <a:ext cx="1602720" cy="14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392280" y="4730760"/>
              <a:ext cx="40644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26200" y="4419720"/>
              <a:ext cx="533520" cy="53316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6" idx="5"/>
              <a:endCxn id="121" idx="1"/>
            </p:cNvCxnSpPr>
            <p:nvPr/>
          </p:nvCxnSpPr>
          <p:spPr>
            <a:xfrm>
              <a:off x="6681600" y="4894200"/>
              <a:ext cx="1238760" cy="66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endCxn id="126" idx="1"/>
            </p:cNvCxnSpPr>
            <p:nvPr/>
          </p:nvCxnSpPr>
          <p:spPr>
            <a:xfrm>
              <a:off x="6043320" y="3885840"/>
              <a:ext cx="261000" cy="59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endCxn id="126" idx="7"/>
            </p:cNvCxnSpPr>
            <p:nvPr/>
          </p:nvCxnSpPr>
          <p:spPr>
            <a:xfrm flipH="1">
              <a:off x="6681240" y="3504960"/>
              <a:ext cx="454680" cy="973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7004880" y="4800600"/>
              <a:ext cx="4140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02520" y="22860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720" y="2901960"/>
              <a:ext cx="40176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 Antiqu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680" y="3209040"/>
              <a:ext cx="1164960" cy="1684440"/>
            </a:xfrm>
            <a:prstGeom prst="ellipse">
              <a:avLst/>
            </a:prstGeom>
            <a:solidFill>
              <a:srgbClr val="ff99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1000" y="2209680"/>
              <a:ext cx="82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Planning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eet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3840" y="22734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fine objective function,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cision variab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680" y="3527280"/>
              <a:ext cx="790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2320" y="426708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fine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91120" y="222264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Design 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64240" y="2776680"/>
              <a:ext cx="914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Meet Jur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6800" y="2622600"/>
              <a:ext cx="1066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Create p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0" y="449568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Verdana"/>
                </a:rPr>
                <a:t>Practice pr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846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Run Solver to find the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critical path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and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um hours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required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22480" y="2327400"/>
            <a:ext cx="574992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Critical path in </a:t>
            </a:r>
            <a:r>
              <a:rPr b="1" lang="en-US" sz="3600" spc="-1" strike="noStrike">
                <a:solidFill>
                  <a:srgbClr val="0000cc"/>
                </a:solidFill>
                <a:latin typeface="Verdana"/>
              </a:rPr>
              <a:t>bl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5080" y="1981080"/>
            <a:ext cx="53352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45320" y="182880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78240" y="575784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5" idx="3"/>
          </p:cNvCxnSpPr>
          <p:nvPr/>
        </p:nvCxnSpPr>
        <p:spPr>
          <a:xfrm flipV="1">
            <a:off x="1484280" y="2455200"/>
            <a:ext cx="629280" cy="1189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2415960" y="2514600"/>
            <a:ext cx="268920" cy="32407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7"/>
          </p:cNvCxnSpPr>
          <p:nvPr/>
        </p:nvCxnSpPr>
        <p:spPr>
          <a:xfrm flipV="1">
            <a:off x="4928760" y="2285640"/>
            <a:ext cx="994680" cy="1659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>
            <a:off x="6027480" y="2362320"/>
            <a:ext cx="4680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445040" y="2673360"/>
            <a:ext cx="3909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59800" y="3808440"/>
            <a:ext cx="374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49520" y="2666880"/>
            <a:ext cx="354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49640" y="3054240"/>
            <a:ext cx="354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50080" y="5409360"/>
            <a:ext cx="1165320" cy="11667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endCxn id="151" idx="1"/>
          </p:cNvCxnSpPr>
          <p:nvPr/>
        </p:nvCxnSpPr>
        <p:spPr>
          <a:xfrm>
            <a:off x="2568600" y="2417760"/>
            <a:ext cx="1983240" cy="152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3336480" y="2743200"/>
            <a:ext cx="3848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73720" y="3886200"/>
            <a:ext cx="533160" cy="53352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endCxn id="151" idx="3"/>
          </p:cNvCxnSpPr>
          <p:nvPr/>
        </p:nvCxnSpPr>
        <p:spPr>
          <a:xfrm flipV="1">
            <a:off x="2949480" y="4360320"/>
            <a:ext cx="1602720" cy="14720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392280" y="4730760"/>
            <a:ext cx="4064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6200" y="4419720"/>
            <a:ext cx="533520" cy="53316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5"/>
            <a:endCxn id="157" idx="1"/>
          </p:cNvCxnSpPr>
          <p:nvPr/>
        </p:nvCxnSpPr>
        <p:spPr>
          <a:xfrm>
            <a:off x="6681600" y="4894200"/>
            <a:ext cx="1238760" cy="667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endCxn id="162" idx="1"/>
          </p:cNvCxnSpPr>
          <p:nvPr/>
        </p:nvCxnSpPr>
        <p:spPr>
          <a:xfrm>
            <a:off x="6043320" y="3885840"/>
            <a:ext cx="261000" cy="59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endCxn id="162" idx="7"/>
          </p:cNvCxnSpPr>
          <p:nvPr/>
        </p:nvCxnSpPr>
        <p:spPr>
          <a:xfrm flipH="1">
            <a:off x="6681240" y="3504960"/>
            <a:ext cx="454680" cy="9738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004880" y="4800600"/>
            <a:ext cx="41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2520" y="2286000"/>
            <a:ext cx="68580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720" y="2901960"/>
            <a:ext cx="4017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3209040"/>
            <a:ext cx="1164960" cy="1684440"/>
          </a:xfrm>
          <a:prstGeom prst="ellipse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51000" y="2209680"/>
            <a:ext cx="82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lanning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63840" y="22734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fine objective function,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cision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7680" y="3527280"/>
            <a:ext cx="79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42670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fine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22264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ign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64240" y="2776680"/>
            <a:ext cx="914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eet J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16800" y="2622600"/>
            <a:ext cx="1066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Create p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449568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ractice p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Minimum</a:t>
            </a:r>
            <a:r>
              <a:rPr b="1" lang="en-US" sz="3000" spc="-1" strike="noStrike">
                <a:solidFill>
                  <a:srgbClr val="006666"/>
                </a:solidFill>
                <a:latin typeface="Verdana"/>
              </a:rPr>
              <a:t> time required is </a:t>
            </a:r>
            <a:r>
              <a:rPr b="1" lang="en-US" sz="3000" spc="-1" strike="noStrike">
                <a:solidFill>
                  <a:srgbClr val="99cccc"/>
                </a:solidFill>
                <a:latin typeface="Verdana"/>
              </a:rPr>
              <a:t>28 hrs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238880" cy="4064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14400" y="5851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member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hat for th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competition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, we ar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limit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4 hours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to complete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l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of these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All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activities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can be </a:t>
            </a:r>
            <a:r>
              <a:rPr b="1" lang="en-US" sz="3600" spc="-1" strike="noStrike">
                <a:solidFill>
                  <a:srgbClr val="99cccc"/>
                </a:solidFill>
                <a:latin typeface="Verdana"/>
              </a:rPr>
              <a:t>reduced</a:t>
            </a: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3271680"/>
          <a:ext cx="8229600" cy="3052800"/>
        </p:xfrm>
        <a:graphic>
          <a:graphicData uri="http://schemas.openxmlformats.org/drawingml/2006/table">
            <a:tbl>
              <a:tblPr/>
              <a:tblGrid>
                <a:gridCol w="457200"/>
                <a:gridCol w="4267080"/>
                <a:gridCol w="1524240"/>
                <a:gridCol w="19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red 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nts L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 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anning Mee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bjective function &amp; decision 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the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ign the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 with Ju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 the 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576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5760">
                      <a:solidFill>
                        <a:srgbClr val="006666"/>
                      </a:solidFill>
                    </a:lnT>
                    <a:lnB w="1368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295280" y="1827360"/>
            <a:ext cx="7620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b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ore than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erent activi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ol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ying penalti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the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1:04:48Z</dcterms:created>
  <dc:creator>Veronica N. Hsia</dc:creator>
  <dc:description/>
  <dc:language>en-US</dc:language>
  <cp:lastModifiedBy>Noa Gershony</cp:lastModifiedBy>
  <dcterms:modified xsi:type="dcterms:W3CDTF">2006-12-04T04:09:09Z</dcterms:modified>
  <cp:revision>42</cp:revision>
  <dc:subject/>
  <dc:title>Project Modeling</dc:title>
</cp:coreProperties>
</file>