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5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2D8D-5204-4F34-AD1C-E6A8083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65A-7BB4-4D13-84D9-385D7801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3AA-B141-40C3-A914-33F8967B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C02-D9F8-419D-8861-117DC7E1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F72C-B088-4B7F-86D5-E140E096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793-6FAB-4416-8BE4-F8B091EC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585E-F0D2-45EB-ACA0-A84DE6AD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65D-16A5-4804-90DF-B38B176F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004E-4773-48A8-9417-2F2A0766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4479-9B57-4F63-80A8-E1B761FC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DFF5-BE59-4D80-A9A4-B59A18C3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B3A-6049-452B-AFF7-D1C4463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1934-C7D2-42F5-947A-4B2219D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233-BAC7-4C2D-9CFF-61638053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FF8B-89D1-4531-8894-99F7AF85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98BC-6502-48E0-9323-B998F631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8F74-8B9E-4061-9146-105B001D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CBE-F18E-4714-838D-C9782555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778-6037-4FCD-882F-CD7379B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8D8-23BA-46FF-B443-BB89709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F74-61B9-45A5-83B5-5004597E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4E8-4BAE-4290-89E8-DC149CE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07F1-3C72-4F64-94C0-485C12B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AF5-2D6C-447D-AFA9-15A84EA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3B95-7738-40AC-A991-2D53CE61267A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a86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7BBB-9B54-455F-9B4C-4E51C71C95EC}" type="slidenum">
              <a:rPr b="0" lang="en-US" sz="1200" spc="-1" strike="noStrike">
                <a:solidFill>
                  <a:srgbClr val="5a86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5a867b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a867b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5a867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5a867b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3915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867b"/>
                </a:solidFill>
                <a:latin typeface="Tahoma"/>
              </a:rPr>
              <a:t>Our Goofy Model</a:t>
            </a:r>
            <a:endParaRPr b="0" lang="en-US" sz="54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047760"/>
            <a:ext cx="4724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a867b"/>
                </a:solidFill>
                <a:uFillTx/>
                <a:latin typeface="Tahoma"/>
              </a:rPr>
              <a:t>Presented by the Goof Troop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Carlos Andonair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Jane Agbontae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Uzo Enyinna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Vasudha Ramachandran 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Meisha Robinson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4500" t="0" r="9001" b="0"/>
          <a:stretch/>
        </p:blipFill>
        <p:spPr>
          <a:xfrm>
            <a:off x="5878440" y="2743200"/>
            <a:ext cx="1687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2679840"/>
            <a:ext cx="7620120" cy="2654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Back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09680"/>
            <a:ext cx="701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e Distanc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Back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010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Objective and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93432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The Kiosk Scree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15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The Kiosk Screen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9080"/>
            <a:ext cx="7848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Resul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3784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3403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 Fast Pass for The Haunted Mansion and ride Liberty Square Riverboat, Buzz Lightyear's Space Ranger Spin, Pirates of the Caribbean, and then The Haunted Man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anks from The Goof Troop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222200" y="51195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Tahoma"/>
              </a:rPr>
              <a:t>Now, we are going to Disney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Improving Customer Service</a:t>
            </a: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Bob’s New Year’s Resolution is to improve customer satisfaction at the Walt Disney Parks. He’s hired the credible and ultra intelligent Goof Troop Consulting Firm to assist him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6668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657600" y="4571640"/>
            <a:ext cx="2895480" cy="978120"/>
            <a:chOff x="3657600" y="4571640"/>
            <a:chExt cx="2895480" cy="978120"/>
          </a:xfrm>
        </p:grpSpPr>
        <p:sp>
          <p:nvSpPr>
            <p:cNvPr id="91" name=""/>
            <p:cNvSpPr/>
            <p:nvPr/>
          </p:nvSpPr>
          <p:spPr>
            <a:xfrm>
              <a:off x="3657600" y="51814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867b"/>
                  </a:solidFill>
                  <a:latin typeface="Arial"/>
                </a:rPr>
                <a:t>This is Bo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257800" y="4571640"/>
              <a:ext cx="1295280" cy="685800"/>
            </a:xfrm>
            <a:prstGeom prst="line">
              <a:avLst/>
            </a:prstGeom>
            <a:ln w="9360">
              <a:solidFill>
                <a:srgbClr val="5a867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Happy, Grumpy, or Dopey…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ustomers don’t enjoy waiting in lines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Don’t know what rides to ride.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 Pass further complicates ride decision making.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434960" cy="1524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09480" y="461628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174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ustomers want the best experience and their money’s w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Goofy Fun Maximizer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mart Kiosks located around the park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al-time information 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Attraction waiting tim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Availability of Fast-pas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Index of customer satisfaction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Relative attraction distance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0" y="2438280"/>
            <a:ext cx="1415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762120" y="4800600"/>
            <a:ext cx="7619760" cy="992160"/>
            <a:chOff x="762120" y="4800600"/>
            <a:chExt cx="7619760" cy="992160"/>
          </a:xfrm>
        </p:grpSpPr>
        <p:sp>
          <p:nvSpPr>
            <p:cNvPr id="101" name=""/>
            <p:cNvSpPr/>
            <p:nvPr/>
          </p:nvSpPr>
          <p:spPr>
            <a:xfrm>
              <a:off x="762120" y="5272200"/>
              <a:ext cx="761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cc"/>
                  </a:solidFill>
                  <a:latin typeface="Tahoma"/>
                </a:rPr>
                <a:t>Personalized Goofy Fun Map and Sched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4152960" y="4610160"/>
              <a:ext cx="533520" cy="9144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a867b"/>
            </a:solidFill>
            <a:ln w="9360">
              <a:solidFill>
                <a:srgbClr val="d1b4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“Goof” of the Troop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8487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867b"/>
                </a:solidFill>
                <a:latin typeface="Tahoma"/>
              </a:rPr>
              <a:t>Our CEO advised us to use Excel Solver!</a:t>
            </a:r>
            <a:endParaRPr b="0" lang="en-US" sz="32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5" name="" descr="Emacs!"/>
          <p:cNvPicPr/>
          <p:nvPr/>
        </p:nvPicPr>
        <p:blipFill>
          <a:blip r:embed="rId1"/>
          <a:srcRect l="28571" t="27858" r="28571" b="17143"/>
          <a:stretch/>
        </p:blipFill>
        <p:spPr>
          <a:xfrm>
            <a:off x="3581280" y="2490840"/>
            <a:ext cx="1524240" cy="261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8890" t="0" r="8890" b="21571"/>
          <a:stretch/>
        </p:blipFill>
        <p:spPr>
          <a:xfrm rot="2422200">
            <a:off x="4647960" y="233856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1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 Objective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Maximizing Fun!!! =  Highest Satisfaction Rating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4419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867b"/>
                </a:solidFill>
                <a:latin typeface="Tahoma"/>
              </a:rPr>
              <a:t>The Goofy Model: Decision Variables</a:t>
            </a:r>
            <a:endParaRPr b="0" lang="en-US" sz="36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All day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ide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-pas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Rides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67b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943600" y="2052720"/>
            <a:ext cx="2286000" cy="1638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15000" y="4110120"/>
            <a:ext cx="2514600" cy="168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7471" t="0" r="0" b="0"/>
          <a:stretch/>
        </p:blipFill>
        <p:spPr>
          <a:xfrm>
            <a:off x="4952880" y="3043080"/>
            <a:ext cx="1287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Constraints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ime availability is based on park hour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ast-pass imposes additional time restrictions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Walking distanc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Queue time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13600" y="3352680"/>
            <a:ext cx="20923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751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The Goofy Model: Demo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55:46Z</dcterms:created>
  <dc:creator>Vasudha</dc:creator>
  <dc:description/>
  <cp:keywords/>
  <dc:language>en-US</dc:language>
  <cp:lastModifiedBy>Vasudha</cp:lastModifiedBy>
  <dcterms:modified xsi:type="dcterms:W3CDTF">2006-12-04T19:04:35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33</vt:lpwstr>
  </property>
</Properties>
</file>