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billandted.wav" ContentType="audio/x-wav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83ED24B-3F43-427D-ACEC-0A67CD12E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our optimal output is plotted on the this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ing at the hotel, we travel to the Bam Café in Brookl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re, we hit the Galapagos, also in Brookl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on to Southpaw, still in Brookl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head back to Manhattan to C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, the long trip to Staten Island to play at Danny Boy’s, where we finish up for the 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tting a total of 5 clubs and making revenues of $3197, while playing for approximately 1211 people in 8.86 h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making the most money is always good, we had a few other potential objectives for our t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: playing for the most possible fans, and making a certain amount of money as quickly as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ing for the largest number of fans, we set out to maximize show attendance, while all previous constraints remained in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as b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objective led us to the following tou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hotel, we head to Southpaw in Brookl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on to Bam Café in Brookl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re, we head to the Beer Garden in Quee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go to Coda in Manhatt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finish up the night at BB King’s in Manhatt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is tour, while we only made $2569, we played in front of 1536 people in 8.2 h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, our Lazy Bastard Tour, where our objective was to clear $1500 in the shortest amount o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our objective was to minimize cell P28, while adding a new constraint of revenue of at least $1500 in cell R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zy bastard tour took us from the hotel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paw in Brookl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re we hit up Galapagos, also in Brookly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on to Bam Café in Brookl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wrapping up at the Green Lounge, which is also in Brookl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as you can see, this decision model kept us relatively local while hitting up some decent revenue generating clu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played 4 bars, in 5.17 hours, while surpassing our target revenue goal and earning $15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thing we did was plot the 26 clubs that we can play at on an XY coordinate grid that we superimposed over a map of New York City and Hobo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this grid we came up with relative distances between from each club to every other club and our hotel (our starting po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we had mapped out the clubs in the area, we established maximum capacities and expected attendance for ea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estimated the expected attendance numbers using a randomizer program, with a constraint that all the clubs must be at least 50% f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hen took the clubs cover charge policy and percent of cover that goes to the band to determine potential revenue at each cl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this info, we developed our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rting point (our hotel) is fix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olumn I we have our 9 potential gig sl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olumn K we have our adjustable cells, the output to which will show us our revenue maximizing tour ro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olumn L we have our unique constraints to ensure that we only play each club o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maining columns (M-S) are linked to the values in column K, which pull from our grid map and our venue 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vent that solver assigns a zero in column K, we do not play a gig in this slot (as our entire tour can only be nine hours, and it is impossible to play a gig in every slot when you factor in travel time to and from each ven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ee here our evolutionary solver para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objective function is to maximize revenue and will be output to cell R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variable cells are the different clubs we will 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not play a partial g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unique constraint prevents us from playing the same venue tw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, the whole tour must be concluded in 9 h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0D4F4-94CD-45D1-A2AC-601D0B7AF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0F7BD-13E6-40DD-A2FB-16CCFFD3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0D1F6-F338-45E9-9476-572025D83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F4557-4B10-4046-B045-C10635971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D53A1-4281-4D37-B06D-45602DB30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25E4-5908-476E-A909-81E2E075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B166-AE39-4352-8327-5270BC3A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F885-411C-409A-B919-FC30A53F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AB45-2E90-4A47-BA66-4F2DBE86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D0B3-EE1B-4605-9A95-428CCA55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3351-B873-4CFB-8D4E-36ECDF9F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5C3F5-A240-4B34-8519-B060519D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2FF9-95B8-459F-829E-F310B29E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1582A-17B5-4E9D-B7E2-D4480BC0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9CCB-FAA1-41BC-89C9-77E60421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F7A3-7D3E-4329-9DB3-65E58268C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A4A1-3658-4860-9BE0-D13CBEEDE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54193-7FDC-486A-AAE5-82DEF4DC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7B609-C9C1-4375-919D-9BDC3322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F9C0A-0D83-4D0B-9C9F-531001C8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396E4-5E7F-4A5E-96A4-C46D4758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167C0-0768-4E24-87B5-C215AC9D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17C6E-539C-402F-85D4-C0D25296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E4C5E-E0AE-4CF0-AD4A-241CDAFD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D266-3FF7-46C3-9449-D4265FB61B4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A025-24E5-4B15-9C41-1F90954F8F8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billandted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Making the Band:</a:t>
            </a:r>
            <a:br>
              <a:rPr sz="48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A 5 Borough </a:t>
            </a:r>
            <a:r>
              <a:rPr b="1" lang="en-US" sz="800" spc="-1" strike="noStrike">
                <a:solidFill>
                  <a:srgbClr val="ffffcc"/>
                </a:solidFill>
                <a:latin typeface="Tahoma"/>
              </a:rPr>
              <a:t>(and Hoboken)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 Tour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thoughtful project for Decision Mode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crapped together by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uke Ki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aul Taylo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d Teaga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2819520" cy="24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rcRect l="39064" t="33499" r="14065" b="9376"/>
          <a:stretch/>
        </p:blipFill>
        <p:spPr>
          <a:xfrm>
            <a:off x="1066680" y="152280"/>
            <a:ext cx="7086600" cy="64771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724280" y="3276720"/>
            <a:ext cx="228600" cy="160020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5105160" y="4191120"/>
            <a:ext cx="228600" cy="45720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4876560" y="2971440"/>
            <a:ext cx="228600" cy="121932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828440" y="2895480"/>
            <a:ext cx="2971800" cy="304812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952880" y="4647960"/>
            <a:ext cx="381240" cy="15228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lternate Objectiv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have a few different tours that we are considering in addition to th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Max Rev” Tou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ffcc"/>
              </a:buClr>
              <a:buSzPct val="8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Get Signed Tour: Maximize our audience to play for the most people possible and hopefully get a record contra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ffcc"/>
              </a:buClr>
              <a:buSzPct val="8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Lazy Bastard Tour: Make sufficient $$ ($1500 to be exact) as quickly as humanly possible – leaving valuable time to get wasted and hit on groupies......if we have an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e “Get Signed” Tour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666880" y="2362320"/>
            <a:ext cx="5486400" cy="32274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990720" y="1905120"/>
            <a:ext cx="13716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44212"/>
              <a:gd name="adj5" fmla="val 167449"/>
              <a:gd name="adj6" fmla="val 182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ximize audi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2590920"/>
            <a:ext cx="1371600" cy="1066680"/>
          </a:xfrm>
          <a:prstGeom prst="borderCallout2">
            <a:avLst>
              <a:gd name="adj1" fmla="val 18750"/>
              <a:gd name="adj2" fmla="val -8333"/>
              <a:gd name="adj3" fmla="val 10712"/>
              <a:gd name="adj4" fmla="val 122337"/>
              <a:gd name="adj5" fmla="val 113837"/>
              <a:gd name="adj6" fmla="val 1392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y hitting the right combination of club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3733920"/>
            <a:ext cx="1371600" cy="83808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123842"/>
              <a:gd name="adj5" fmla="val 74620"/>
              <a:gd name="adj6" fmla="val 142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in our list of venu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4648320"/>
            <a:ext cx="1371600" cy="380880"/>
          </a:xfrm>
          <a:prstGeom prst="borderCallout2">
            <a:avLst>
              <a:gd name="adj1" fmla="val 18750"/>
              <a:gd name="adj2" fmla="val -8333"/>
              <a:gd name="adj3" fmla="val 30000"/>
              <a:gd name="adj4" fmla="val 123379"/>
              <a:gd name="adj5" fmla="val 13333"/>
              <a:gd name="adj6" fmla="val 1414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repea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105520"/>
            <a:ext cx="13716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21643"/>
              <a:gd name="adj5" fmla="val -33592"/>
              <a:gd name="adj6" fmla="val 1378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less than 9 hou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e “Get Signed” Tour </a:t>
            </a: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(cont.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rcRect l="39064" t="33499" r="14065" b="9376"/>
          <a:stretch/>
        </p:blipFill>
        <p:spPr>
          <a:xfrm>
            <a:off x="1066680" y="152280"/>
            <a:ext cx="7086600" cy="6477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800600" y="3276720"/>
            <a:ext cx="76320" cy="175248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952880" y="4495680"/>
            <a:ext cx="762120" cy="53352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5715000" y="3352320"/>
            <a:ext cx="0" cy="114300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4571640" y="3123720"/>
            <a:ext cx="1143000" cy="22860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648320" y="2286000"/>
            <a:ext cx="304560" cy="83808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e “Lazy Bastard” Tour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514520"/>
            <a:ext cx="831528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5410080" cy="318276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e “Lazy Bastard” Tour </a:t>
            </a: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(cont.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1905120"/>
            <a:ext cx="13716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44212"/>
              <a:gd name="adj5" fmla="val 167449"/>
              <a:gd name="adj6" fmla="val 182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nimize ti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2590920"/>
            <a:ext cx="1371600" cy="1066680"/>
          </a:xfrm>
          <a:prstGeom prst="borderCallout2">
            <a:avLst>
              <a:gd name="adj1" fmla="val 18750"/>
              <a:gd name="adj2" fmla="val -8333"/>
              <a:gd name="adj3" fmla="val 10712"/>
              <a:gd name="adj4" fmla="val 122337"/>
              <a:gd name="adj5" fmla="val 113837"/>
              <a:gd name="adj6" fmla="val 1392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y hitting the right combination of club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3733920"/>
            <a:ext cx="1371600" cy="83808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123842"/>
              <a:gd name="adj5" fmla="val 74620"/>
              <a:gd name="adj6" fmla="val 142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in our list of venu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4648320"/>
            <a:ext cx="1371600" cy="380880"/>
          </a:xfrm>
          <a:prstGeom prst="borderCallout2">
            <a:avLst>
              <a:gd name="adj1" fmla="val 18750"/>
              <a:gd name="adj2" fmla="val -8333"/>
              <a:gd name="adj3" fmla="val 30000"/>
              <a:gd name="adj4" fmla="val 123379"/>
              <a:gd name="adj5" fmla="val 13333"/>
              <a:gd name="adj6" fmla="val 1414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repea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5105520"/>
            <a:ext cx="13716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21643"/>
              <a:gd name="adj5" fmla="val -33592"/>
              <a:gd name="adj6" fmla="val 1378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less than 9 hou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5791320"/>
            <a:ext cx="1371600" cy="914400"/>
          </a:xfrm>
          <a:prstGeom prst="borderCallout2">
            <a:avLst>
              <a:gd name="adj1" fmla="val 18750"/>
              <a:gd name="adj2" fmla="val -8333"/>
              <a:gd name="adj3" fmla="val 12500"/>
              <a:gd name="adj4" fmla="val 127199"/>
              <a:gd name="adj5" fmla="val -72398"/>
              <a:gd name="adj6" fmla="val 1489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ile making at least $15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rcRect l="39064" t="33499" r="14065" b="9376"/>
          <a:stretch/>
        </p:blipFill>
        <p:spPr>
          <a:xfrm>
            <a:off x="1066680" y="152280"/>
            <a:ext cx="7086600" cy="64771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 flipH="1">
            <a:off x="4343400" y="3276720"/>
            <a:ext cx="380880" cy="228600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419720" y="5562720"/>
            <a:ext cx="152280" cy="22860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648320" y="4876920"/>
            <a:ext cx="228600" cy="91440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876920" y="4419720"/>
            <a:ext cx="457200" cy="45720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Other Potential Objectiv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er models we could have run includ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ying shows only in a single boroug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y as many shows as possi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y a show in each borough and Hoboken over the course of the ni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d the night as close as possible to the hot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also could alter the average length of a gig, to increase overall reven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ile this would have increased shows played (or people played for), we would have cut our door revenue in ha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onclusi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conclusion, San Dimas high school football ru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895480" y="29052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illandte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How it all began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edgling band trying to get sign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fused by all the venues/options in New York C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ven that we can fit 9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ws into one night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are 3,124,550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ur combin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to do, what to do..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867280" y="350532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hat’s the Scenario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ctive Function: Use all the crap Juran taught us to create a fictional scenario in which Excel will be “our bitch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complished by creating the optimal tour – the “Max Rev” Tour – schedule for our band; and thereby, making a lo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f money. A lot of MONE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791320" y="4200480"/>
            <a:ext cx="289548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onstraint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ws must be 1 hou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partial show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gig can start after 2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ur starts at 6PM, ends at 3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an only play at our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cific list of venu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943600" y="3962520"/>
            <a:ext cx="27255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ssumption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nue is known with certain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vel takes 10mins/mi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g starts as soon as we arrive at venu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ecision Models-type Stuff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re is our matrix of all the clubs we can play in the area, and their relative coordinates as plotted on an X/Y graph of New York City and Hobo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259240" y="1295280"/>
            <a:ext cx="38084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ecision Models-type Stuff </a:t>
            </a: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(cont.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3124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are the capacity constraints, cover charges, and potential $$ the band can make at the various clu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581280" y="1509840"/>
            <a:ext cx="536256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ecision Models-type Stuff </a:t>
            </a: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(cont.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6104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ecision Models-type Stuff </a:t>
            </a: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(cont.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666880" y="2435400"/>
            <a:ext cx="5334120" cy="31366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990720" y="1905120"/>
            <a:ext cx="13716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44212"/>
              <a:gd name="adj5" fmla="val 167449"/>
              <a:gd name="adj6" fmla="val 182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ximize reven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2590920"/>
            <a:ext cx="1371600" cy="1066680"/>
          </a:xfrm>
          <a:prstGeom prst="borderCallout2">
            <a:avLst>
              <a:gd name="adj1" fmla="val 18750"/>
              <a:gd name="adj2" fmla="val -8333"/>
              <a:gd name="adj3" fmla="val 10712"/>
              <a:gd name="adj4" fmla="val 122337"/>
              <a:gd name="adj5" fmla="val 113837"/>
              <a:gd name="adj6" fmla="val 1392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y hitting the right combination of club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3733920"/>
            <a:ext cx="1371600" cy="83808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123842"/>
              <a:gd name="adj5" fmla="val 74620"/>
              <a:gd name="adj6" fmla="val 142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in our list of venu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4648320"/>
            <a:ext cx="1371600" cy="380880"/>
          </a:xfrm>
          <a:prstGeom prst="borderCallout2">
            <a:avLst>
              <a:gd name="adj1" fmla="val 18750"/>
              <a:gd name="adj2" fmla="val -8333"/>
              <a:gd name="adj3" fmla="val 30000"/>
              <a:gd name="adj4" fmla="val 123379"/>
              <a:gd name="adj5" fmla="val 13333"/>
              <a:gd name="adj6" fmla="val 1414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repea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5105520"/>
            <a:ext cx="13716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21643"/>
              <a:gd name="adj5" fmla="val -33592"/>
              <a:gd name="adj6" fmla="val 1378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less than 9 hou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9:09:47Z</dcterms:created>
  <dc:creator>Duke Kim</dc:creator>
  <dc:description/>
  <dc:language>en-US</dc:language>
  <cp:lastModifiedBy>Edward J. Teagan</cp:lastModifiedBy>
  <dcterms:modified xsi:type="dcterms:W3CDTF">2006-12-07T04:05:43Z</dcterms:modified>
  <cp:revision>26</cp:revision>
  <dc:subject/>
  <dc:title>Making the Band: A 5 Borough Tour</dc:title>
</cp:coreProperties>
</file>