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8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FA96-2EA8-42A0-9F7A-1184FB130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ing low values for better ranked p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he best player in each category receives a ranking of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each players score across all statistical category.  Lowest summed score represents the best p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d up the player rankings in the last col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IF utilized for the penalties to prevent the model from picking the same player more than o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n’t need a constraint in the last row b/c once Excel gets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player it won’t pick the player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um IF to pick the player and their statistics, even though it’s only Summing one cell (b/c it worked better than V Look-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50,000 (arbitrarily large number) to assign penalty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function cell minimizes the sum of all player rankings and pena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E67-0DD2-4EF8-9126-874EDBFC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8A4-44B5-4502-AF27-A1E500C2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DBA-DC5E-4E23-8CB0-F9B7DB0C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6B3-ED11-439F-A146-E6E359B5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0E6-7B1B-4B4B-882F-8ED5BF3E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257-E5CE-44E4-8988-528AE61A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557-11D6-4891-B1DB-315A197D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0CC-51C9-49E8-A263-07541FE4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99E-68AE-43CA-98AA-8B91B9AB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627-D920-4CB6-AEED-21729EE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6F2-0101-485F-BCD1-5014B0E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23D-7382-4B98-B922-E0AA885D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71E0-F04B-4477-BAF6-9F995480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09480"/>
            <a:ext cx="8305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toring America’s International Leadership 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at’s not the US celebra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A's dream of capturing the Word Championship title ended Friday night in Japan when a sizzling hot Greek team had too much offense for the USA and posted a 101-95 victory in the semifinals of the 2006 World Championsh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38720" y="2195640"/>
            <a:ext cx="344808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Data – RotoWorld &amp; CN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s and Statistics for every NBA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ed List to Top 300 players based on CNN rankings (large enough sample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 categories selected based on 10 most relevant measure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79344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assignment based on Country &amp;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layer ranked across Statistical Categories (from 1 to 3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wer the score the better the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3080" y="1860480"/>
            <a:ext cx="84582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Sum of Player Ran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s to be Selected (integers between 1 and 3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Players 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and at most 3 Players per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layer Selected only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hosen: Standard Evolutionary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66880" y="3276720"/>
            <a:ext cx="40388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Se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153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598760"/>
            <a:ext cx="9144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mal vs. 2006 W.C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ayne Wade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Kidd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onte West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Bron James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 Marion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hard Lewis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 Garnett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West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Duncan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ton Brand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Bosh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d Miller (C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ayne Wade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Paul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rk Hinrich (P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Bron James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mello Anthony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Johnson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awn Jamison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e Battier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wight Howard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ton Brand (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Bosh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d Miller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181480"/>
            <a:ext cx="2971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d “Score” - 10,2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5181480"/>
            <a:ext cx="2971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d “Score” - 12,0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 Olympic Basketball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403884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 Dou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yan Mag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52520" y="3962520"/>
            <a:ext cx="403884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tis Hard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y Dre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2133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returned the same        player multip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number of          decision variables is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r ran very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r is “laz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penalties for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12 roster spots our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 down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d statistical categories (Total Rebounds and Fou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size of player uni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iterations and 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1828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666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35053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7242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Shortcom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ly based off historic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are all equally weighted for all players /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Model Intangibl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ceptibility to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tch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is not a Popularity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atistical basis, our team is better than the current US World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Flexibility i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 to Solver (processing po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be will never play on an optimized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029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is our BIT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40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Was the Best of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2055960"/>
            <a:ext cx="2135160" cy="3354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26542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gic and MJ ushered in the "Dream Team" era of Olympic basketball, winning the gold medal in Barcelon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65240" y="1890720"/>
          <a:ext cx="5214960" cy="3078000"/>
        </p:xfrm>
        <a:graphic>
          <a:graphicData uri="http://schemas.openxmlformats.org/drawingml/2006/table">
            <a:tbl>
              <a:tblPr/>
              <a:tblGrid>
                <a:gridCol w="1271520"/>
                <a:gridCol w="1308240"/>
                <a:gridCol w="236520"/>
                <a:gridCol w="1100160"/>
                <a:gridCol w="12985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 USA Results (8-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o 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- 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00880" y="1542960"/>
            <a:ext cx="1652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965240" y="1890720"/>
          <a:ext cx="5214960" cy="3078000"/>
        </p:xfrm>
        <a:graphic>
          <a:graphicData uri="http://schemas.openxmlformats.org/drawingml/2006/table">
            <a:tbl>
              <a:tblPr/>
              <a:tblGrid>
                <a:gridCol w="1271520"/>
                <a:gridCol w="1308240"/>
                <a:gridCol w="236520"/>
                <a:gridCol w="1100160"/>
                <a:gridCol w="12985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 USA Results (8-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gosla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500880" y="1542960"/>
            <a:ext cx="1652400" cy="249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-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965240" y="1890720"/>
          <a:ext cx="5214960" cy="3078000"/>
        </p:xfrm>
        <a:graphic>
          <a:graphicData uri="http://schemas.openxmlformats.org/drawingml/2006/table">
            <a:tbl>
              <a:tblPr/>
              <a:tblGrid>
                <a:gridCol w="1271520"/>
                <a:gridCol w="1308240"/>
                <a:gridCol w="236520"/>
                <a:gridCol w="1100160"/>
                <a:gridCol w="12985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USA Results (8-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Zea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00880" y="1542960"/>
            <a:ext cx="1652400" cy="249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-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was the Worst of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4120" y="472356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entina stuns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622000">
            <a:off x="989280" y="3275280"/>
            <a:ext cx="7535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rto Rico Stuns U.S. Men's Olympic Team 92-7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1000" y="18280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huania shocks US in Gree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965240" y="1890720"/>
          <a:ext cx="5214960" cy="3078000"/>
        </p:xfrm>
        <a:graphic>
          <a:graphicData uri="http://schemas.openxmlformats.org/drawingml/2006/table">
            <a:tbl>
              <a:tblPr/>
              <a:tblGrid>
                <a:gridCol w="1271520"/>
                <a:gridCol w="1308240"/>
                <a:gridCol w="236520"/>
                <a:gridCol w="1100160"/>
                <a:gridCol w="12985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USA Results (5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rd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sing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o 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Losses in At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2:27:42Z</dcterms:created>
  <dc:creator>Bryan Magstadt</dc:creator>
  <dc:description/>
  <dc:language>en-US</dc:language>
  <cp:lastModifiedBy>Curtis Hardwick</cp:lastModifiedBy>
  <dcterms:modified xsi:type="dcterms:W3CDTF">2006-12-11T18:09:20Z</dcterms:modified>
  <cp:revision>34</cp:revision>
  <dc:subject/>
  <dc:title>Slide 1</dc:title>
</cp:coreProperties>
</file>