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7ED516-C915-413F-87A1-3E34191C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cours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the number of 6 and 7 rated classes offered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classes within the same subject area offered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 sum of criteria met for values assigned to Course Evaluation, Class Size, Class Time, Expected Grade, Module, Number of Credits; weights value of priority by how well criteria was 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course selection penalties given preferences for: academic department, day and time, # credits, course rating and cours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A62-82CC-419D-82FF-9AA9C56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5B6-4E7B-4A31-ADF0-76B9689D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E9E-0C2C-4038-9111-DC3C3D7B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080-0B9F-4C17-ADA1-5DF34FDF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C46C-C61B-4878-A50D-8CC792D1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83DE-A510-4E67-8384-C1B99963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0BE9-ADE2-4803-BE13-50002350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2FDE-B80D-4C5E-8A2D-F2E25E97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7563-72B7-443B-8F01-740AAE03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95D8-2ED6-45AC-9191-2E0E76D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B91E-8FDF-466B-B4E4-5A333B4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D52-5572-4018-AF71-F07E64F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7670-1A2E-479B-A996-76065CF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2CB1-BA2D-4805-8D19-FC47636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AD3C-CBC4-46F5-9877-32C859E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9B55-58AF-4AC8-AFD0-1968FDD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A658-7304-401F-9EF1-1A32D841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096-491C-4BC1-8ACE-4F2662A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83F-7BCA-4570-97A4-B178D02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0A6-57DB-47C8-9FEF-26F58BD5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A7E-F3DA-4D14-BD39-F6CFC3C8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C4A-8A36-4533-90A9-B120494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270-05EC-40CF-8AFF-52DD034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A8C-D89C-44C5-BB6E-1696D817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133360" cy="6858000"/>
            <a:chOff x="0" y="0"/>
            <a:chExt cx="2133360" cy="6858000"/>
          </a:xfrm>
        </p:grpSpPr>
        <p:sp>
          <p:nvSpPr>
            <p:cNvPr id="1" name=""/>
            <p:cNvSpPr/>
            <p:nvPr/>
          </p:nvSpPr>
          <p:spPr>
            <a:xfrm>
              <a:off x="1584720" y="0"/>
              <a:ext cx="5486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11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937-4AF4-4815-9644-36843EA0BA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E03-EA32-4ACB-8E0D-38A9E2FAA2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solidFill>
            <a:srgbClr val="c58bf9">
              <a:alpha val="99000"/>
            </a:srgbClr>
          </a:solidFill>
          <a:ln w="316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2007 Full-Time MB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807000"/>
            <a:ext cx="6400800" cy="1069920"/>
          </a:xfrm>
          <a:prstGeom prst="rect">
            <a:avLst/>
          </a:prstGeom>
          <a:solidFill>
            <a:srgbClr val="c58bf9"/>
          </a:solidFill>
          <a:ln w="316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 Colaru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ssa Gil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becca Web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Inpu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7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alty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of 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Over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Over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36760"/>
            <a:ext cx="678168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Outpu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4290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r Class S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7315200" cy="2175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1066680"/>
            <a:ext cx="6400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A2 Spring 2007 Clas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financ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Ju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have CFE ratings above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lasses scheduled for the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Conclusion and Next Steps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o Improve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lasses taken in previous semesters and add constraint to ex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expanding model to include all courses and be available to MBA1s and part-tim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incorporating additional student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From Past Schedul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&amp;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Mod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Project Overview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733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124 courses available in Spring 2007 to MBA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BA2s must choose their priorities carefully with only one semester left and so many classes to choos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815" t="39081" r="73299" b="22710"/>
          <a:stretch/>
        </p:blipFill>
        <p:spPr>
          <a:xfrm>
            <a:off x="6400800" y="2514600"/>
            <a:ext cx="2209680" cy="3352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0200" y="1498680"/>
            <a:ext cx="69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ign a model to help MBA2s optimize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semester of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057400"/>
            <a:ext cx="1447920" cy="762120"/>
          </a:xfrm>
          <a:prstGeom prst="wedgeRoundRectCallout">
            <a:avLst>
              <a:gd name="adj1" fmla="val 69736"/>
              <a:gd name="adj2" fmla="val 126041"/>
              <a:gd name="adj3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579680"/>
            <a:ext cx="6781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 of past proj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a variety of ways to optimize course selection by maximizing the sum of preferred criteria or minimize penalties based on student p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 of past proj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often included either too many decision variables, such as x criteria, or too few, such as x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do students really want to input that many preferences?  What if one priority is more important than other prioritie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Goal: To design a model that focuses on a few most relevant decision variables for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Past Schedul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962520"/>
            <a:ext cx="1295280" cy="609480"/>
          </a:xfrm>
          <a:prstGeom prst="downArrow">
            <a:avLst>
              <a:gd name="adj1" fmla="val 50000"/>
              <a:gd name="adj2" fmla="val 36875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11240" y="3962520"/>
            <a:ext cx="7232760" cy="2698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Data Collection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1430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nquired with Beth Rubin in the Registrar’s office for data on Spring 2007 course offerings and received the following data, which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# &amp;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the week &amp;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&amp; Professor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Objective Function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Objective 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mize the penalties based on the following student p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E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Constraints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decision variables need to be between zero and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whole integ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redits taken must be greater than 11 and less than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8769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cus was on penalties rather than constraints.  By using evolutionary solver, we were able to arrive at the optimal solution to minimize penalties given a student’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39625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Overview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720" y="12193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selects preferences from drop down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724040"/>
            <a:ext cx="633420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Inpu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6572160" cy="143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57600" y="1066680"/>
            <a:ext cx="33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&amp; 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276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7343" t="25004" r="27343" b="41670"/>
          <a:stretch/>
        </p:blipFill>
        <p:spPr>
          <a:xfrm>
            <a:off x="2971800" y="3778200"/>
            <a:ext cx="50292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1:13:14Z</dcterms:created>
  <dc:creator>Alice Colarusso</dc:creator>
  <dc:description/>
  <dc:language>en-US</dc:language>
  <cp:lastModifiedBy>Marissa Gilbert</cp:lastModifiedBy>
  <dcterms:modified xsi:type="dcterms:W3CDTF">2006-12-11T17:40:51Z</dcterms:modified>
  <cp:revision>45</cp:revision>
  <dc:subject/>
  <dc:title>Spring 2007 Full-Time MBA  Course Selection</dc:title>
</cp:coreProperties>
</file>