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10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0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618-DA68-4FEE-A23D-C92BA729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E93-F2D0-4A17-93AC-FBAD4704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1D1-677E-4058-9E84-65D08C73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A178-5193-427C-9928-327DCF5D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0C0-A7DC-43A7-9059-C29E72C7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E8B-1DF6-43E7-B3BF-34FFDEE7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29C-83FB-47EC-99AA-AC624CD1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BD6-D536-4AFA-9638-B4EF0E86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524-F172-4350-91A1-16182F78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E4D4-27EF-439B-A520-C018F0A1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8160-8453-4CFF-9212-469653C2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F17F-7780-4B8B-AA47-31ACF8DE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2FC5-056A-45EC-9EE2-56C410A36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696000" cy="515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2743200"/>
            <a:ext cx="679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o Let the Dogs Out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6920" y="6248520"/>
            <a:ext cx="86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ei-Chen Chang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•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Genia Chechersky • Bernard Lai 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-John Lee • Phyllis Tso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’t mix sizes (large with sma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’t mix certain breeds (A with D, B with F, and G with 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’t mix males and females (unless neutered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1957320" cy="236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048120" y="4419720"/>
            <a:ext cx="2743200" cy="1995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019920" y="4419720"/>
            <a:ext cx="2666880" cy="18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 need to assign each of the 60 dogs to groups in a way that minimizes the number of dog walkers we use, while also meeting all of our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 used Evolutionary Solver to help us with this combinatorial optimization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e were unable to achieve a solu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Non-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To quantify the difficulties we faced, if we have 60 dogs with 12 walkers, there are 12</a:t>
            </a:r>
            <a:r>
              <a:rPr b="0" lang="en-US" sz="3100" spc="-1" strike="noStrike" baseline="30000">
                <a:solidFill>
                  <a:srgbClr val="333399"/>
                </a:solidFill>
                <a:latin typeface="Arial"/>
              </a:rPr>
              <a:t>60</a:t>
            </a: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 = 5.6 x 10</a:t>
            </a:r>
            <a:r>
              <a:rPr b="0" lang="en-US" sz="3100" spc="-1" strike="noStrike" baseline="30000">
                <a:solidFill>
                  <a:srgbClr val="333399"/>
                </a:solidFill>
                <a:latin typeface="Arial"/>
              </a:rPr>
              <a:t>64</a:t>
            </a: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 possibilities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iven our computing capacity vs. our time constraint, we decided to simplify the prob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Redefine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e need to walk 25 dogs at one time with only 5 dog walkers, b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743200" y="3387600"/>
            <a:ext cx="3733920" cy="30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Redefined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ur Constrai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’t mix large dogs with small d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’t mix males with females (unless neutered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’t mix breeds B and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etween 1 and 6 dogs per wal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87280" y="1324080"/>
            <a:ext cx="6770880" cy="5153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3120" y="1633680"/>
            <a:ext cx="7999560" cy="35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352680" y="2743200"/>
            <a:ext cx="106704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743200"/>
            <a:ext cx="10666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5360" y="5057640"/>
            <a:ext cx="30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n we do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31840" y="1371600"/>
            <a:ext cx="679284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400640" cy="2371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029200" y="1752480"/>
            <a:ext cx="340056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43200" y="4905360"/>
            <a:ext cx="50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creasing the penalty for si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duces the desired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13664" t="0" r="0" b="0"/>
          <a:stretch/>
        </p:blipFill>
        <p:spPr>
          <a:xfrm>
            <a:off x="1981080" y="1905120"/>
            <a:ext cx="462132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3733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105520" cy="552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14400" y="990720"/>
            <a:ext cx="7543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Why are Dog Walkers Fascina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Background on Juran Walker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Our Problem &amp;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Our Redefined Problem &amp;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What a Real Dog Walker Had to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33880" y="1333440"/>
            <a:ext cx="2676240" cy="476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3352680" y="5562720"/>
            <a:ext cx="22100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What a Real Dog Walker Had to Sa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13360" y="1560600"/>
            <a:ext cx="3749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1676520"/>
            <a:ext cx="3581280" cy="73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he only REAL consideration is personality.  Breed makes no difference (i.e.  a friendly dog is a friendly dog...  a not friendly dog is not friendly, regardless of the breed).”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li, of JeffnAli Dog Wal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What a Real Dog Walker Had to Sa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048120" cy="2714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715000" y="2286000"/>
            <a:ext cx="253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03880" y="2093760"/>
            <a:ext cx="3597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 would never walk a tiny dog with more than one other dog of any size or temperament - they could easily be stepped on, a trauma for a small do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li, of JeffnAli Dog Wal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Applying More Decision Models Tools to Dog Walker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6705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lver - Pricing and dis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rystal Ball - Demand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cision Tree – Deciding whether or not to hire more wal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when all else fail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172200" cy="4667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752480" y="1828800"/>
            <a:ext cx="541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Why are Dog Walkers Fascinating to Study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 demand for dog walkers keeps growing, managing a dog walking company becomes more challenging then 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rhaps the two biggest challenges faced by these business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) pricing services to stay competitive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) scheduling clients (assigning dogs to do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alkers at requested time slot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ur project focuses on the la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136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67400" y="1447920"/>
            <a:ext cx="18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Background Information on Juran Walkers, Inc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Medium sized dog walking compa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None of the clients request that their dog be walked s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Dogs must be walked at requested time or clients will switch to new dog walking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Overview of cliente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"/>
              </a:rPr>
              <a:t>8 Bree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1895400" cy="2425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4572000"/>
            <a:ext cx="251460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8600" y="380880"/>
            <a:ext cx="1965240" cy="2662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72200" y="4495680"/>
            <a:ext cx="2743200" cy="2071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7391520" y="304920"/>
            <a:ext cx="1584360" cy="2476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685800" y="2438280"/>
            <a:ext cx="2514600" cy="2335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3429000" y="472428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4952880" y="2209680"/>
            <a:ext cx="2619360" cy="2027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5440" y="493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62680" y="1712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8328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29760" y="125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160" y="4684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9040" y="4876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62720" y="4761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28960" y="2932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"/>
              </a:rPr>
              <a:t>2 Siz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05720" y="2819520"/>
            <a:ext cx="1957320" cy="2971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0560" y="182880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2190600" cy="2438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553080" y="1828800"/>
            <a:ext cx="19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Oh N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352680" y="2971800"/>
            <a:ext cx="2256120" cy="2476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735720" y="182880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Arial"/>
              </a:rPr>
              <a:t>3 Sexe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Puttin' on the Glitz Dog Sweaters"/>
          <p:cNvPicPr/>
          <p:nvPr/>
        </p:nvPicPr>
        <p:blipFill>
          <a:blip r:embed="rId1"/>
          <a:stretch/>
        </p:blipFill>
        <p:spPr>
          <a:xfrm>
            <a:off x="228600" y="30481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124080" y="304812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7240" y="241452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Arial"/>
              </a:rPr>
              <a:t>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9040" y="2438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2438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Neut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943600" y="3070080"/>
            <a:ext cx="266688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e need to walk 60 dogs at one time with as few dog walkers as possible, bu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14600" y="3962520"/>
            <a:ext cx="4048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Our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ximum of 3 large dogs pe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ximum of 5 small dogs pe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0560" y="1523880"/>
            <a:ext cx="350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ur Constrai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5880" y="4724280"/>
            <a:ext cx="272412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04:12:40Z</dcterms:created>
  <dc:creator>Genia Chechersky</dc:creator>
  <dc:description/>
  <dc:language>en-US</dc:language>
  <cp:lastModifiedBy>Stern School of Business</cp:lastModifiedBy>
  <dcterms:modified xsi:type="dcterms:W3CDTF">2006-11-29T18:22:41Z</dcterms:modified>
  <cp:revision>90</cp:revision>
  <dc:subject/>
  <dc:title>Slide 1</dc:title>
</cp:coreProperties>
</file>