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3D4-5E50-474B-B585-8A869566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F17-2B94-4B9B-8952-523619A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185-8CC5-4489-B125-9E9001E9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A76-905B-4A7B-9BBC-FC9BDF4C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A39-11BD-4216-BCEA-C21718E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5A3-D977-4BDB-8CD9-6179E72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F52-3139-487D-AFE8-90BA850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CD8-2B3E-490E-85FE-4A7B010E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DEE-4C2C-455F-8397-00E6BA75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D0B-8D01-44AF-9456-0443AF63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644-EF4B-4BC0-BD2C-403C7AD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86A-077B-41AA-9267-445E82C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5A61-75B4-4FBC-9FC8-3531D40A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lobal-derivatives.com/options/mountainrange-options.php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43160" y="276120"/>
            <a:ext cx="6352920" cy="18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otic Option Pricing through Monte Carlo Simu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 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 Cincinelli, Jessica Chow &amp; Chang Suk Pa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s to Structure a Himalaya 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ly the payoff of the first “L” stocks in the basket, where L 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 approaches N, the option becomes more like a standard Himal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there is still a (smaller) chance that the payout is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2495520"/>
                <a:ext cx="36576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Flo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 pays out the return of the best stock in each period, but if the return is negative, the return for that period is 0 and we move on to the nex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09680" y="2614680"/>
                <a:ext cx="4267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Fl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ays out the best return in each period, and if at maturity the entire return over the life of the option was negative, the payout i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81080" y="2584440"/>
                <a:ext cx="4496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to the proje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1484280"/>
            <a:ext cx="8169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stimate the price of a “Best Of” Himalaya option on a basket of 3 stocks over a period of 2 years using the best return from all 3 stocks in Year 1 and the best return from the remaining stocks in Year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998640"/>
            <a:ext cx="7086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ount on coupon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best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historical data, random daily returns over the next 2 years can be generated on each of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distribution with historical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goodness-of-fi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hi-squared test to find the best fit for the historical re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8229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assumption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cells were set up for each stock over the next 255 trading days, representing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00160" y="2943360"/>
            <a:ext cx="5238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s have an impact on the payout of our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assumption cells need to be correlated using historical correlations from the past 20 years of daily retu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3440" y="2743200"/>
            <a:ext cx="66675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= $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49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73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583,6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25,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635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36,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ing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95% Confidence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3960" y="312408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 - 583,635 ± 5132.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3760" y="3809880"/>
            <a:ext cx="60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 - 635,060 ± 5233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8120" y="24685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loor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49,043 ± 5360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3556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un simulation with different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al distribution instead on student’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olatility method instead of historical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lobal-derivatives.com/options/mountainrange-options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RCH 2002 ● WWW.RISK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 op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rcus Over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 Range”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Options whose payouts are based on the performance of a  basket of underly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bine features of basket options, barrier options, and Asi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is based on the correlation of the stocks in the basket, as well as standard option parameters such as vola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ypes of “Mountain Range” Op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ipl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is entitled to a large coupon if no stock within a specified basket reaches a predetermined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the payout of a plain vanilla option on the entire basket if barrier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p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a large payout if no stock within the basket loses more than a pre-specified fraction of its value over the life of the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types of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Mountain Range”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tion based on the performance of a basket of stocks, where the best and worst stocks are removed from the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out received by the option holder is based on the return of the worst performing stock in a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– Etna, Kiliman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ut is not determined at maturity as stocks are removed from the basket throughout the life of th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’s payoff is equal to a specified notional amount multiplied by the rate of return on the evolving basket of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”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743200" y="1523880"/>
                <a:ext cx="33526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2120" y="32400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 = Notio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# of time periods, # of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end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beginning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best performing stock in the basket over the current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47800" y="4044960"/>
                <a:ext cx="819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4489560"/>
                <a:ext cx="914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basket of 3 stocks over a 3 year perio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M = $1 Million and the stocks’ returns over the next three year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666880"/>
          <a:ext cx="5486400" cy="1523880"/>
        </p:xfrm>
        <a:graphic>
          <a:graphicData uri="http://schemas.openxmlformats.org/drawingml/2006/table">
            <a:tbl>
              <a:tblPr/>
              <a:tblGrid>
                <a:gridCol w="1371240"/>
                <a:gridCol w="1371600"/>
                <a:gridCol w="1371600"/>
                <a:gridCol w="1371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4040" y="5257800"/>
                <a:ext cx="7807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80880" y="4572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yout of the option at maturity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0481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4290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8098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may end up owing money through the standard Himala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traditionally pay a premium for their option and losses are limited to the premium that they paid for the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6:46:41Z</dcterms:created>
  <dc:creator>Stern School of Business</dc:creator>
  <dc:description/>
  <dc:language>en-US</dc:language>
  <cp:lastModifiedBy>Stern School of Business</cp:lastModifiedBy>
  <dcterms:modified xsi:type="dcterms:W3CDTF">2006-11-29T16:29:45Z</dcterms:modified>
  <cp:revision>10</cp:revision>
  <dc:subject/>
  <dc:title>Slide 1</dc:title>
</cp:coreProperties>
</file>