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240-9EAC-43EA-AA46-C2E09DDF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402-616E-481E-BD50-623F623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5F6-7A14-456E-BEDD-83EF2F3E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ACF-B305-4E7B-83FE-8D2C16B1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220-03DE-4145-9852-4638D827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475-41E3-432F-9CC1-398252A8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EA4-48C8-471B-BD8F-C6781891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99D-0CEF-44D3-91EB-6E47EB78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AAA-05E6-4758-9488-901FD6F0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76E-A4E7-4365-89E8-7D2A0097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F5A-5DD8-4F0A-9D5B-CBE8F26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2A3-5ABD-4D6E-A648-DC05DAA3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FCA1-4350-4ABD-A14B-F940B9FDD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lobal-derivatives.com/options/mountainrange-options.php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43160" y="276120"/>
            <a:ext cx="6352920" cy="185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xotic Option Pricing through Monte Carlo Simulation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m 2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l Cincinelli, Jessica Chow &amp; Chang Suk Pa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ways to Structure a Himalaya 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ly the payoff of the first “L” stocks in the basket, where L &l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 approaches N, the option becomes more like a standard Himal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, there is still a (smaller) chance that the payout is neg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2495520"/>
                <a:ext cx="365760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Flo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tion pays out the return of the best stock in each period, but if the return is negative, the return for that period is 0 and we move on to the nex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209680" y="2614680"/>
                <a:ext cx="4267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ing a 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Flo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pays out the best return in each period, and if at maturity the entire return over the life of the option was negative, the payout i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81080" y="2584440"/>
                <a:ext cx="4496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to the proje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191448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7680" y="1332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1484280"/>
            <a:ext cx="8169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stimate the price of a “Best Of” Himalaya option on a basket of 3 stocks over a period of 2 years using the best return from all 3 stocks in Year 1 and the best return from the remaining stocks in Year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998640"/>
            <a:ext cx="70866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vid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pl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iscount on coupon pay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best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historical data, random daily returns over the next 2 years can be generated on each of the st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distribution with historical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a goodness-of-fit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640" indent="-6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hi-squared test to find the best fit for the historical retu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’s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25680"/>
            <a:ext cx="82296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 assumption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cells were set up for each stock over the next 255 trading days, representing 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000160" y="2943360"/>
            <a:ext cx="5238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s have an impact on the payout of our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assumption cells need to be correlated using historical correlations from the past 20 years of daily retu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895480"/>
            <a:ext cx="449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33440" y="2743200"/>
            <a:ext cx="66675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= $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49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73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bal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 = $583,6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25,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al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 = $635,0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Deviation = $536,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ing the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95% Confidence Interv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3960" y="3124080"/>
            <a:ext cx="62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bal Floor - 583,635 ± 5132.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3760" y="3809880"/>
            <a:ext cx="60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al Floor - 635,060 ± 5233.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88120" y="2468520"/>
            <a:ext cx="55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Floor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49,043 ± 5360.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4572000"/>
            <a:ext cx="35560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run simulation with different cor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normal distribution instead on student’s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volatility method instead of historical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lobal-derivatives.com/options/mountainrange-options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RCH 2002 ● WWW.RISK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 op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Marcus Overha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 Range”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Options whose payouts are based on the performance of a  basket of underlying secu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bine features of basket options, barrier options, and Asia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is based on the correlation of the stocks in the basket, as well as standard option parameters such as volat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ypes of “Mountain Range” Opt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ipla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is entitled to a large coupon if no stock within a specified basket reaches a predetermined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receives the payout of a plain vanilla option on the entire basket if barrier i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ap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holder receives a large payout if no stock within the basket loses more than a pre-specified fraction of its value over the life of the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ther types of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“Mountain Range” 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ption based on the performance of a basket of stocks, where the best and worst stocks are removed from the basket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out received by the option holder is based on the return of the worst performing stock in a basket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– Etna, Kilimanj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8229600" cy="218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ut is not determined at maturity as stocks are removed from the basket throughout the life of the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tion’s payoff is equal to a specified notional amount multiplied by the rate of return on the evolving basket of st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” Hima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743200" y="1523880"/>
                <a:ext cx="33526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2120" y="324000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M = Notional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# of time periods, # of st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ice of stock “n” at the end of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rice of stock “n” at the beginning of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best performing stock in the basket over the current period “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47800" y="4044960"/>
                <a:ext cx="819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838080" y="4489560"/>
                <a:ext cx="914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basket of 3 stocks over a 3 year perio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at M = $1 Million and the stocks’ returns over the next three year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2666880"/>
          <a:ext cx="5486400" cy="1523880"/>
        </p:xfrm>
        <a:graphic>
          <a:graphicData uri="http://schemas.openxmlformats.org/drawingml/2006/table">
            <a:tbl>
              <a:tblPr/>
              <a:tblGrid>
                <a:gridCol w="1371240"/>
                <a:gridCol w="1371600"/>
                <a:gridCol w="1371600"/>
                <a:gridCol w="1371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54040" y="5257800"/>
                <a:ext cx="7807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380880" y="4572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yout of the option at maturity would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04812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42900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809880"/>
            <a:ext cx="76212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Himala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holders may end up owing money through the standard Himalay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 holders traditionally pay a premium for their option and losses are limited to the premium that they paid for the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6:46:41Z</dcterms:created>
  <dc:creator>Stern School of Business</dc:creator>
  <dc:description/>
  <dc:language>en-US</dc:language>
  <cp:lastModifiedBy>Stern School of Business</cp:lastModifiedBy>
  <dcterms:modified xsi:type="dcterms:W3CDTF">2006-11-29T16:29:45Z</dcterms:modified>
  <cp:revision>10</cp:revision>
  <dc:subject/>
  <dc:title>Slide 1</dc:title>
</cp:coreProperties>
</file>