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2C8-7F68-4BAE-81F3-F9CCBD78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9C9-B22C-44FF-99CB-E9B11445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262-0052-4247-8EC3-AA9C6EFD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FC6-AADD-43DF-BADF-1293F2F1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B43-25CA-4CDD-9F69-8436234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1ED-0BD7-45AF-9E5E-36B98101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98E-5E7B-4CE0-9803-6E0750C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414-C559-4323-9697-AF352BB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650-C849-4748-93FA-7D3182F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64E-419E-4A54-843F-4B558887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968-A08F-42FB-8693-0264DEF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8DB-2A72-472C-9BAF-DB4AD56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17E-3DB3-404E-9261-52A32C57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lobal-derivatives.com/options/mountainrange-options.php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43160" y="276120"/>
            <a:ext cx="6352920" cy="18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otic Option Pricing through Monte Carlo Simu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 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 Cincinelli, Jessica Chow &amp; Chang Suk Pa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s to Structure a Himalaya 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ly the payoff of the first “L” stocks in the basket, where L 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 approaches N, the option becomes more like a standard Himal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there is still a (smaller) chance that the payout is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2495520"/>
                <a:ext cx="36576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Flo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on pays out the return of the best stock in each period, but if the return is negative, the return for that period is 0 and we move on to the nex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209680" y="2614680"/>
                <a:ext cx="4267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Fl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ays out the best return in each period, and if at maturity the entire return over the life of the option was negative, the payout i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81080" y="2584440"/>
                <a:ext cx="4496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to the proje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1484280"/>
            <a:ext cx="8169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stimate the price of a “Best Of” Himalaya option on a basket of 3 stocks over a period of 2 years using the best return from all 3 stocks in Year 1 and the best return from the remaining stocks in Year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998640"/>
            <a:ext cx="7086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scount on coupon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best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historical data, random daily returns over the next 2 years can be generated on each of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distribution with historical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 goodness-of-fi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hi-squared test to find the best fit for the historical re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8229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assumption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cells were set up for each stock over the next 255 trading days, representing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00160" y="2943360"/>
            <a:ext cx="5238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s have an impact on the payout of our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assumption cells need to be correlated using historical correlations from the past 20 years of daily retu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3440" y="2743200"/>
            <a:ext cx="66675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= $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49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73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 = $583,6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25,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 = $635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36,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ing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95% Confidence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3960" y="312408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Floor - 583,635 ± 5132.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3760" y="3809880"/>
            <a:ext cx="60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Floor - 635,060 ± 5233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8120" y="24685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loor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49,043 ± 5360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35560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un simulation with different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al distribution instead on student’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olatility method instead of historical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lobal-derivatives.com/options/mountainrange-options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RCH 2002 ● WWW.RISK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 op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arcus Over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 Range”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Options whose payouts are based on the performance of a  basket of underly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bine features of basket options, barrier options, and Asi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is based on the correlation of the stocks in the basket, as well as standard option parameters such as vola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ypes of “Mountain Range” Op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ipl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is entitled to a large coupon if no stock within a specified basket reaches a predetermined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receives the payout of a plain vanilla option on the entire basket if barrier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ap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receives a large payout if no stock within the basket loses more than a pre-specified fraction of its value over the life of the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types of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Mountain Range”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tion based on the performance of a basket of stocks, where the best and worst stocks are removed from the basket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out received by the option holder is based on the return of the worst performing stock in a basket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– Etna, Kiliman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ut is not determined at maturity as stocks are removed from the basket throughout the life of th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on’s payoff is equal to a specified notional amount multiplied by the rate of return on the evolving basket of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” Hima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743200" y="1523880"/>
                <a:ext cx="33526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2120" y="32400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 = Notion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# of time periods, # of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ice of stock “n” at the end of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ice of stock “n” at the beginning of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best performing stock in the basket over the current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47800" y="4044960"/>
                <a:ext cx="819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4489560"/>
                <a:ext cx="914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basket of 3 stocks over a 3 year perio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M = $1 Million and the stocks’ returns over the next three year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2666880"/>
          <a:ext cx="5486400" cy="1523880"/>
        </p:xfrm>
        <a:graphic>
          <a:graphicData uri="http://schemas.openxmlformats.org/drawingml/2006/table">
            <a:tbl>
              <a:tblPr/>
              <a:tblGrid>
                <a:gridCol w="1371240"/>
                <a:gridCol w="1371600"/>
                <a:gridCol w="1371600"/>
                <a:gridCol w="1371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4040" y="5257800"/>
                <a:ext cx="7807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80880" y="4572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yout of the option at maturity w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04812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42900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8098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Hima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holders may end up owing money through the standard Himala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holders traditionally pay a premium for their option and losses are limited to the premium that they paid for the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6:46:41Z</dcterms:created>
  <dc:creator>Stern School of Business</dc:creator>
  <dc:description/>
  <dc:language>en-US</dc:language>
  <cp:lastModifiedBy>Stern School of Business</cp:lastModifiedBy>
  <dcterms:modified xsi:type="dcterms:W3CDTF">2006-11-29T16:29:45Z</dcterms:modified>
  <cp:revision>10</cp:revision>
  <dc:subject/>
  <dc:title>Slide 1</dc:title>
</cp:coreProperties>
</file>