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282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82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282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282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282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282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282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282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282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5430960"/>
            <a:ext cx="2286000" cy="14270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0" r="0" b="56848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rcRect l="20193" t="60" r="655" b="41525"/>
          <a:stretch/>
        </p:blipFill>
        <p:spPr>
          <a:xfrm>
            <a:off x="0" y="-609480"/>
            <a:ext cx="9144000" cy="746748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286000" cy="1427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19520" y="2438280"/>
            <a:ext cx="59436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971800" y="2590920"/>
            <a:ext cx="9296280" cy="915840"/>
            <a:chOff x="2971800" y="2590920"/>
            <a:chExt cx="9296280" cy="915840"/>
          </a:xfrm>
        </p:grpSpPr>
        <p:sp>
          <p:nvSpPr>
            <p:cNvPr id="44" name=""/>
            <p:cNvSpPr/>
            <p:nvPr/>
          </p:nvSpPr>
          <p:spPr>
            <a:xfrm>
              <a:off x="6858000" y="2620800"/>
              <a:ext cx="54100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Cooper Black"/>
                  <a:ea typeface="MS UI Gothic"/>
                </a:rPr>
                <a:t>Plan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181480" y="2590920"/>
              <a:ext cx="2057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Cooper Black"/>
                  <a:ea typeface="MS UI Gothic"/>
                </a:rPr>
                <a:t>Bike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71800" y="2620800"/>
              <a:ext cx="24382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200" spc="-1" strike="noStrike">
                  <a:solidFill>
                    <a:srgbClr val="000000"/>
                  </a:solidFill>
                  <a:latin typeface="Cooper Black"/>
                  <a:ea typeface="MS UI Gothic"/>
                </a:rPr>
                <a:t>Mike’s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895480" y="2651040"/>
            <a:ext cx="5562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Cooper Black"/>
                <a:ea typeface="MS UI Gothic"/>
              </a:rPr>
              <a:t>Mike’s Bike Pla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2362320"/>
            <a:ext cx="8381880" cy="1600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86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8862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3886200"/>
            <a:ext cx="15228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763120" y="2286000"/>
            <a:ext cx="15228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3505320"/>
            <a:ext cx="86104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rystal Ball to simulate demand to find a base number of users each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further refined and combined with supply/cost data in Solver to maximize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6400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Adju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0" y="6400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3200400"/>
            <a:ext cx="1636920" cy="9144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jected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201840"/>
            <a:ext cx="1646280" cy="912960"/>
          </a:xfrm>
          <a:custGeom>
            <a:avLst/>
            <a:gdLst>
              <a:gd name="textAreaLeft" fmla="*/ 0 w 1646280"/>
              <a:gd name="textAreaRight" fmla="*/ 1646640 w 164628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71" y="0"/>
                </a:lnTo>
                <a:lnTo>
                  <a:pt x="21600" y="10800"/>
                </a:lnTo>
                <a:lnTo>
                  <a:pt x="184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opulation by 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17680" y="3201840"/>
            <a:ext cx="1644840" cy="91296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1" y="0"/>
                </a:lnTo>
                <a:lnTo>
                  <a:pt x="21600" y="10800"/>
                </a:lnTo>
                <a:lnTo>
                  <a:pt x="18521" y="21600"/>
                </a:lnTo>
                <a:lnTo>
                  <a:pt x="0" y="21600"/>
                </a:lnTo>
                <a:lnTo>
                  <a:pt x="3079" y="10800"/>
                </a:lnTo>
                <a:close/>
              </a:path>
            </a:pathLst>
          </a:cu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marL="190440"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a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14640" y="3201840"/>
            <a:ext cx="1648080" cy="912960"/>
          </a:xfrm>
          <a:custGeom>
            <a:avLst/>
            <a:gdLst>
              <a:gd name="textAreaLeft" fmla="*/ 0 w 1648080"/>
              <a:gd name="textAreaRight" fmla="*/ 1648440 w 164808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1" y="0"/>
                </a:lnTo>
                <a:lnTo>
                  <a:pt x="21600" y="10800"/>
                </a:lnTo>
                <a:lnTo>
                  <a:pt x="18521" y="21600"/>
                </a:lnTo>
                <a:lnTo>
                  <a:pt x="0" y="21600"/>
                </a:lnTo>
                <a:lnTo>
                  <a:pt x="3079" y="10800"/>
                </a:lnTo>
                <a:close/>
              </a:path>
            </a:pathLst>
          </a:cu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90440"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Tempera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18080" y="3201840"/>
            <a:ext cx="1644840" cy="91296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21" y="0"/>
                </a:lnTo>
                <a:lnTo>
                  <a:pt x="21600" y="10800"/>
                </a:lnTo>
                <a:lnTo>
                  <a:pt x="18521" y="21600"/>
                </a:lnTo>
                <a:lnTo>
                  <a:pt x="0" y="21600"/>
                </a:lnTo>
                <a:lnTo>
                  <a:pt x="3079" y="10800"/>
                </a:lnTo>
                <a:close/>
              </a:path>
            </a:pathLst>
          </a:custGeom>
          <a:solidFill>
            <a:srgbClr val="dcdcd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algn="ctr"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yclist Ty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: Simulating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2279520"/>
            <a:ext cx="8001000" cy="2978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58000" y="6400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: Determining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6400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254320" y="2322360"/>
            <a:ext cx="46353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4114800"/>
            <a:ext cx="86104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meet demand with less than 120 bikes in each neighborhood in some mon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tay within the $1 million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profit leftover to invest in the program in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6400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or Bloomberg’s Bike Initi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6400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2278080"/>
            <a:ext cx="45147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ria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ow much will this project c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ow will it be fun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Which neighborhoods are ide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optimal number of bicyc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Where do we place the bik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6400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2971800"/>
            <a:ext cx="86104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many bikes to supply each month to maximize total profits for a pilot pro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: two residential neighborhoods in Manhattan, but model can be scaled with additio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 East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t Vil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6400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133720"/>
            <a:ext cx="56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Number of Bikes to Supply per Neighbor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0" y="6400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4267440" cy="324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maximize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not spend more than $1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only sufficient space for 20 bikes at each location within a neighbor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6400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y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ce of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cyclist (enthusiasts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...social rid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(co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m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6400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23:33:52Z</dcterms:created>
  <dc:creator>Wei-Lun Ng</dc:creator>
  <dc:description/>
  <dc:language>en-US</dc:language>
  <cp:lastModifiedBy>Wei-Lun Ng</cp:lastModifiedBy>
  <dcterms:modified xsi:type="dcterms:W3CDTF">2007-12-03T18:51:33Z</dcterms:modified>
  <cp:revision>19</cp:revision>
  <dc:subject/>
  <dc:title>Slide 1</dc:title>
</cp:coreProperties>
</file>