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7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9.png" ContentType="image/png"/>
  <Override PartName="/ppt/media/image21.jpeg" ContentType="image/jpeg"/>
  <Override PartName="/ppt/media/image32.wmf" ContentType="image/x-wmf"/>
  <Override PartName="/ppt/media/image29.wmf" ContentType="image/x-wmf"/>
  <Override PartName="/ppt/media/image1.png" ContentType="image/png"/>
  <Override PartName="/ppt/media/image20.png" ContentType="image/png"/>
  <Override PartName="/ppt/media/image7.jpeg" ContentType="image/jpeg"/>
  <Override PartName="/ppt/media/image31.wmf" ContentType="image/x-wmf"/>
  <Override PartName="/ppt/media/image30.wmf" ContentType="image/x-wmf"/>
  <Override PartName="/ppt/media/image34.wmf" ContentType="image/x-wmf"/>
  <Override PartName="/ppt/media/image35.wmf" ContentType="image/x-wmf"/>
  <Override PartName="/ppt/media/image11.jpeg" ContentType="image/jpeg"/>
  <Override PartName="/ppt/media/image13.png" ContentType="image/png"/>
  <Override PartName="/ppt/media/image36.wmf" ContentType="image/x-wmf"/>
  <Override PartName="/ppt/media/image16.png" ContentType="image/png"/>
  <Override PartName="/ppt/media/image8.png" ContentType="image/png"/>
  <Override PartName="/ppt/media/image39.jpeg" ContentType="image/jpeg"/>
  <Override PartName="/ppt/media/image37.wmf" ContentType="image/x-wmf"/>
  <Override PartName="/ppt/media/image40.jpeg" ContentType="image/jpeg"/>
  <Override PartName="/ppt/media/image6.png" ContentType="image/png"/>
  <Override PartName="/ppt/media/image5.jpeg" ContentType="image/jpeg"/>
  <Override PartName="/ppt/media/image38.wmf" ContentType="image/x-wmf"/>
  <Override PartName="/ppt/media/image4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4.png" ContentType="image/png"/>
  <Override PartName="/ppt/media/image10.jpeg" ContentType="image/jpeg"/>
  <Override PartName="/ppt/media/image15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d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15200" y="4876920"/>
            <a:ext cx="1690560" cy="18050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553080" y="4724280"/>
            <a:ext cx="838440" cy="8668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6248520" y="5562720"/>
            <a:ext cx="106812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hyperlink" Target="http://www.italianwinemerchantstore.com/index.html" TargetMode="External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2.png"/><Relationship Id="rId9" Type="http://schemas.openxmlformats.org/officeDocument/2006/relationships/image" Target="../media/image14.png"/><Relationship Id="rId10" Type="http://schemas.openxmlformats.org/officeDocument/2006/relationships/image" Target="../media/image15.jpeg"/><Relationship Id="rId11" Type="http://schemas.openxmlformats.org/officeDocument/2006/relationships/image" Target="../media/image16.png"/><Relationship Id="rId12" Type="http://schemas.openxmlformats.org/officeDocument/2006/relationships/image" Target="../media/image17.jpeg"/><Relationship Id="rId13" Type="http://schemas.openxmlformats.org/officeDocument/2006/relationships/image" Target="../media/image18.jpeg"/><Relationship Id="rId14" Type="http://schemas.openxmlformats.org/officeDocument/2006/relationships/image" Target="../media/image19.jpeg"/><Relationship Id="rId15" Type="http://schemas.openxmlformats.org/officeDocument/2006/relationships/image" Target="../media/image20.png"/><Relationship Id="rId16" Type="http://schemas.openxmlformats.org/officeDocument/2006/relationships/image" Target="../media/image21.jpeg"/><Relationship Id="rId17" Type="http://schemas.openxmlformats.org/officeDocument/2006/relationships/image" Target="../media/image22.jpeg"/><Relationship Id="rId18" Type="http://schemas.openxmlformats.org/officeDocument/2006/relationships/image" Target="../media/image23.jpeg"/><Relationship Id="rId19" Type="http://schemas.openxmlformats.org/officeDocument/2006/relationships/image" Target="../media/image24.jpeg"/><Relationship Id="rId20" Type="http://schemas.openxmlformats.org/officeDocument/2006/relationships/image" Target="../media/image25.png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d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190476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A Christmas Store-y</a:t>
            </a:r>
            <a:br>
              <a:rPr sz="3600"/>
            </a:b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The Hanukah Hustle</a:t>
            </a:r>
            <a:br>
              <a:rPr sz="3600"/>
            </a:b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The Kwanza “Kwandary”</a:t>
            </a:r>
            <a:br>
              <a:rPr sz="3600"/>
            </a:b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(aka festive “traveling salesman” model)</a:t>
            </a:r>
            <a:endParaRPr b="0" lang="en-US" sz="36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Brad Johnsmeye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Jaison Le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Laura Needham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Genna Weinstei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Josh Zacharia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d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095880" y="4572000"/>
            <a:ext cx="304812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Decision Variables and Constraints</a:t>
            </a:r>
            <a:endParaRPr b="0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208160"/>
            <a:ext cx="835020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d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Sub-Trip Constraints</a:t>
            </a:r>
            <a:endParaRPr b="0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e need to eliminate sub-trips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537552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d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Solver Formulation</a:t>
            </a:r>
            <a:endParaRPr b="0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95280" y="1663560"/>
            <a:ext cx="647712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d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Data Output</a:t>
            </a:r>
            <a:endParaRPr b="0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367000" y="1447920"/>
            <a:ext cx="441468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d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Key Issues and Choices: </a:t>
            </a:r>
            <a:br>
              <a:rPr sz="3600"/>
            </a:b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Expected total trip time and </a:t>
            </a:r>
            <a:br>
              <a:rPr sz="3600"/>
            </a:b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probability of meeting desired time</a:t>
            </a:r>
            <a:endParaRPr b="0" lang="en-US" sz="36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51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Model 2 Assumes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tandard service time estimates based on experien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ree transportation modes (subway, taxi and foot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tore service times and travel times are beta distributed (roughly normal with minimum and maximum values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Course Techniques Used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rystal Bal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d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095880" y="4191120"/>
            <a:ext cx="3048120" cy="2666880"/>
          </a:xfrm>
          <a:prstGeom prst="rect">
            <a:avLst/>
          </a:prstGeom>
          <a:solidFill>
            <a:srgbClr val="f7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Data Setup – Model 2</a:t>
            </a:r>
            <a:endParaRPr b="0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1066680"/>
            <a:ext cx="8610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Estimated service time for st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06560" y="1523880"/>
            <a:ext cx="5332320" cy="2036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52280" y="3925800"/>
            <a:ext cx="8610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Estimated travel time by transportation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447920" y="4505400"/>
            <a:ext cx="639756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d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095880" y="4572000"/>
            <a:ext cx="304812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Assumptions and Forecasts </a:t>
            </a: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for Model 2</a:t>
            </a:r>
            <a:endParaRPr b="0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92160" y="1523880"/>
            <a:ext cx="716112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d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Crystal Ball Output</a:t>
            </a:r>
            <a:endParaRPr b="0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934240" cy="37782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286000" y="5867280"/>
            <a:ext cx="29718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ability of finishing in less than four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809880" y="54100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33920" y="4800600"/>
            <a:ext cx="1752480" cy="68580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2057400"/>
            <a:ext cx="228600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Trip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2438280"/>
            <a:ext cx="28954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d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Recommendations to perfect the model</a:t>
            </a:r>
            <a:endParaRPr b="0" lang="en-US" sz="36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324480" y="2570040"/>
            <a:ext cx="2590920" cy="2154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28600" y="1143000"/>
            <a:ext cx="5931000" cy="556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dd more s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dd “type” of store (e.g., toy, jewel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ynamically pull store coordinates from 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ccurate service times based on sampl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ccount for delays: weather, stock-outs, f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clude buffer for personal distractions (e.g., food, window shopping and phone ca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d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And of course, there are more efficient ways of shopping</a:t>
            </a:r>
            <a:endParaRPr b="0" lang="en-US" sz="36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nlin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Just stay within your own neighborhoo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Give loved ones checks instea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hop in the suburb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d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Managerial Problem: The clock is ticking</a:t>
            </a:r>
            <a:endParaRPr b="0" lang="en-US" sz="36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You need to go to 4 different stores to buy gifts for …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911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You want to kn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4724280"/>
            <a:ext cx="434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hortest rou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4724280"/>
            <a:ext cx="3657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lvl="1" marL="586800" indent="-22572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obability of 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inishing in a 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given time 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5410080"/>
            <a:ext cx="4343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ojecte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52280" y="1752480"/>
            <a:ext cx="2895840" cy="2362320"/>
            <a:chOff x="152280" y="1752480"/>
            <a:chExt cx="2895840" cy="23623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380880" y="1752480"/>
              <a:ext cx="2024280" cy="18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52280" y="3581280"/>
              <a:ext cx="2895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11448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Arial"/>
                </a:rPr>
                <a:t>Mom and da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286000" y="1752480"/>
            <a:ext cx="2895480" cy="2362320"/>
            <a:chOff x="2286000" y="1752480"/>
            <a:chExt cx="2895480" cy="2362320"/>
          </a:xfrm>
        </p:grpSpPr>
        <p:pic>
          <p:nvPicPr>
            <p:cNvPr id="55" name="" descr=""/>
            <p:cNvPicPr/>
            <p:nvPr/>
          </p:nvPicPr>
          <p:blipFill>
            <a:blip r:embed="rId2"/>
            <a:srcRect l="0" t="0" r="0" b="26199"/>
            <a:stretch/>
          </p:blipFill>
          <p:spPr>
            <a:xfrm>
              <a:off x="2514600" y="1752480"/>
              <a:ext cx="175428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2286000" y="3581280"/>
              <a:ext cx="2895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11448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Arial"/>
                </a:rPr>
                <a:t>Your boyfrien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934320" y="1752480"/>
            <a:ext cx="2133360" cy="2362320"/>
            <a:chOff x="6934320" y="1752480"/>
            <a:chExt cx="2133360" cy="23623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989760" y="1752480"/>
              <a:ext cx="169704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934320" y="3581280"/>
              <a:ext cx="21333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11448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Arial"/>
                </a:rPr>
                <a:t>Your broth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419720" y="1066680"/>
            <a:ext cx="2895480" cy="3048120"/>
            <a:chOff x="4419720" y="1066680"/>
            <a:chExt cx="2895480" cy="3048120"/>
          </a:xfrm>
        </p:grpSpPr>
        <p:sp>
          <p:nvSpPr>
            <p:cNvPr id="61" name=""/>
            <p:cNvSpPr/>
            <p:nvPr/>
          </p:nvSpPr>
          <p:spPr>
            <a:xfrm>
              <a:off x="4419720" y="3581280"/>
              <a:ext cx="2895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11448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Arial"/>
                </a:rPr>
                <a:t>Your best frien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4800600" y="1752480"/>
              <a:ext cx="142416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5"/>
            <a:stretch/>
          </p:blipFill>
          <p:spPr>
            <a:xfrm>
              <a:off x="4910040" y="1066680"/>
              <a:ext cx="1185840" cy="1371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d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Any Questions?</a:t>
            </a:r>
            <a:endParaRPr b="0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20465" t="0" r="29422" b="0"/>
          <a:stretch/>
        </p:blipFill>
        <p:spPr>
          <a:xfrm>
            <a:off x="2476440" y="1066680"/>
            <a:ext cx="3733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d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Your mission: </a:t>
            </a:r>
            <a:br>
              <a:rPr sz="3600"/>
            </a:b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Visit 4 stores below as efficiently as possible</a:t>
            </a:r>
            <a:endParaRPr b="0" lang="en-US" sz="32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2476440" cy="68904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429000" y="2867040"/>
            <a:ext cx="2895480" cy="48564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076480" y="3962520"/>
            <a:ext cx="1276200" cy="154296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grpSp>
        <p:nvGrpSpPr>
          <p:cNvPr id="68" name=""/>
          <p:cNvGrpSpPr/>
          <p:nvPr/>
        </p:nvGrpSpPr>
        <p:grpSpPr>
          <a:xfrm>
            <a:off x="5619600" y="3429000"/>
            <a:ext cx="1162080" cy="1009800"/>
            <a:chOff x="5619600" y="3429000"/>
            <a:chExt cx="1162080" cy="1009800"/>
          </a:xfrm>
        </p:grpSpPr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5619600" y="3429000"/>
              <a:ext cx="1162080" cy="2858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70" name="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5619600" y="3686400"/>
              <a:ext cx="1162080" cy="5713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5619600" y="3481560"/>
              <a:ext cx="1162080" cy="1807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72" name="" descr=""/>
            <p:cNvPicPr/>
            <p:nvPr/>
          </p:nvPicPr>
          <p:blipFill>
            <a:blip r:embed="rId8"/>
            <a:stretch/>
          </p:blipFill>
          <p:spPr>
            <a:xfrm>
              <a:off x="5619600" y="3429000"/>
              <a:ext cx="1162080" cy="2858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73" name="" descr=""/>
            <p:cNvPicPr/>
            <p:nvPr/>
          </p:nvPicPr>
          <p:blipFill>
            <a:blip r:embed="rId9"/>
            <a:stretch/>
          </p:blipFill>
          <p:spPr>
            <a:xfrm>
              <a:off x="5619600" y="4257720"/>
              <a:ext cx="1162080" cy="1810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</p:grpSp>
      <p:pic>
        <p:nvPicPr>
          <p:cNvPr id="74" name="" descr=""/>
          <p:cNvPicPr/>
          <p:nvPr/>
        </p:nvPicPr>
        <p:blipFill>
          <a:blip r:embed="rId10"/>
          <a:stretch/>
        </p:blipFill>
        <p:spPr>
          <a:xfrm>
            <a:off x="304920" y="3962520"/>
            <a:ext cx="1447560" cy="121752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11"/>
          <a:stretch/>
        </p:blipFill>
        <p:spPr>
          <a:xfrm>
            <a:off x="3629160" y="4724280"/>
            <a:ext cx="3000240" cy="54936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12"/>
          <a:stretch/>
        </p:blipFill>
        <p:spPr>
          <a:xfrm>
            <a:off x="304920" y="5562720"/>
            <a:ext cx="1419120" cy="96984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13"/>
          <a:stretch/>
        </p:blipFill>
        <p:spPr>
          <a:xfrm>
            <a:off x="3828960" y="3657600"/>
            <a:ext cx="1486080" cy="85716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14"/>
          <a:srcRect l="0" t="23642" r="0" b="21184"/>
          <a:stretch/>
        </p:blipFill>
        <p:spPr>
          <a:xfrm>
            <a:off x="4800600" y="5638680"/>
            <a:ext cx="2219400" cy="106704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15"/>
          <a:stretch/>
        </p:blipFill>
        <p:spPr>
          <a:xfrm>
            <a:off x="2971800" y="1523880"/>
            <a:ext cx="1905120" cy="11430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16"/>
          <a:stretch/>
        </p:blipFill>
        <p:spPr>
          <a:xfrm>
            <a:off x="7086600" y="4788000"/>
            <a:ext cx="2009880" cy="199368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17"/>
          <a:stretch/>
        </p:blipFill>
        <p:spPr>
          <a:xfrm>
            <a:off x="5553000" y="1523880"/>
            <a:ext cx="3514680" cy="11430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18"/>
          <a:stretch/>
        </p:blipFill>
        <p:spPr>
          <a:xfrm>
            <a:off x="2286000" y="5619600"/>
            <a:ext cx="2314440" cy="108612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19"/>
          <a:stretch/>
        </p:blipFill>
        <p:spPr>
          <a:xfrm>
            <a:off x="304920" y="2401920"/>
            <a:ext cx="2271600" cy="13320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20"/>
          <a:stretch/>
        </p:blipFill>
        <p:spPr>
          <a:xfrm>
            <a:off x="7162920" y="3191040"/>
            <a:ext cx="1619280" cy="100008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d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which are scattered around Manhattan</a:t>
            </a:r>
            <a:endParaRPr b="0" lang="en-US" sz="32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0" t="33227" r="34627" b="2331"/>
          <a:stretch/>
        </p:blipFill>
        <p:spPr>
          <a:xfrm>
            <a:off x="2057400" y="914400"/>
            <a:ext cx="4125960" cy="5791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381560" y="1905120"/>
            <a:ext cx="179280" cy="152280"/>
          </a:xfrm>
          <a:prstGeom prst="star5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35520" y="3048120"/>
            <a:ext cx="177840" cy="152280"/>
          </a:xfrm>
          <a:prstGeom prst="star5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08680" y="2209680"/>
            <a:ext cx="177840" cy="152640"/>
          </a:xfrm>
          <a:prstGeom prst="star5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60840" y="2590920"/>
            <a:ext cx="179280" cy="152280"/>
          </a:xfrm>
          <a:prstGeom prst="star5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54720" y="2286000"/>
            <a:ext cx="179280" cy="152280"/>
          </a:xfrm>
          <a:prstGeom prst="star5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13360" y="3809880"/>
            <a:ext cx="179280" cy="152640"/>
          </a:xfrm>
          <a:prstGeom prst="star5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97600" y="2286000"/>
            <a:ext cx="179280" cy="152280"/>
          </a:xfrm>
          <a:prstGeom prst="star5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09840" y="5105520"/>
            <a:ext cx="177840" cy="152280"/>
          </a:xfrm>
          <a:prstGeom prst="star5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19480" y="4648320"/>
            <a:ext cx="179280" cy="152280"/>
          </a:xfrm>
          <a:prstGeom prst="star5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55880" y="4191120"/>
            <a:ext cx="179640" cy="152280"/>
          </a:xfrm>
          <a:prstGeom prst="star5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8760" y="5105520"/>
            <a:ext cx="177840" cy="152280"/>
          </a:xfrm>
          <a:prstGeom prst="star5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65800" y="2438280"/>
            <a:ext cx="179280" cy="152640"/>
          </a:xfrm>
          <a:prstGeom prst="star5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44800" y="4267080"/>
            <a:ext cx="179640" cy="152640"/>
          </a:xfrm>
          <a:prstGeom prst="star5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82720" y="5105520"/>
            <a:ext cx="179640" cy="152280"/>
          </a:xfrm>
          <a:prstGeom prst="star5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24440" y="4572000"/>
            <a:ext cx="179280" cy="152280"/>
          </a:xfrm>
          <a:prstGeom prst="star5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1640" y="4648320"/>
            <a:ext cx="177840" cy="152280"/>
          </a:xfrm>
          <a:prstGeom prst="star5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08680" y="2362320"/>
            <a:ext cx="177840" cy="152280"/>
          </a:xfrm>
          <a:prstGeom prst="star5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03720" y="2666880"/>
            <a:ext cx="177840" cy="152640"/>
          </a:xfrm>
          <a:prstGeom prst="star5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44800" y="4800600"/>
            <a:ext cx="179640" cy="152280"/>
          </a:xfrm>
          <a:prstGeom prst="star5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d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Formulation: </a:t>
            </a:r>
            <a:br>
              <a:rPr sz="3600"/>
            </a:b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Separate the problem into two models</a:t>
            </a:r>
            <a:endParaRPr b="0" lang="en-US" sz="36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Model 1: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Use Solver to find the shortest possible travel route between home location and four stor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Arial"/>
              </a:rPr>
              <a:t>Model 2: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Use Crystal Ball to simulate the total trip time, including shopping and travel tim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d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Let’s do a simulation! </a:t>
            </a:r>
            <a:endParaRPr b="0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ny volunteers to choose stores and home location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d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Key Issues and Choices: </a:t>
            </a:r>
            <a:br>
              <a:rPr sz="4000"/>
            </a:b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Minimize distance </a:t>
            </a:r>
            <a:endParaRPr b="0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Model 1 Assumes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e shortest distance is the most optimal rout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s the crow flies”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You start and end in your home neighborhood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Given set of store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Course Techniques Used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olve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486400" y="2743200"/>
            <a:ext cx="3657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d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Input Screen</a:t>
            </a:r>
            <a:endParaRPr b="0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33440" y="1143000"/>
            <a:ext cx="6438960" cy="5450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d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Data Setup</a:t>
            </a:r>
            <a:endParaRPr b="0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320" y="1676520"/>
            <a:ext cx="8991360" cy="9144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0" y="2971800"/>
            <a:ext cx="4343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eage equivalent of lat and 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162920" y="259092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31840" y="4038480"/>
            <a:ext cx="6878520" cy="938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52280" y="1219320"/>
            <a:ext cx="8610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We pulled global location data for selected stores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3581280"/>
            <a:ext cx="8610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and selected neighborh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8:00:17Z</dcterms:created>
  <dc:creator>Genna</dc:creator>
  <dc:description/>
  <dc:language>en-US</dc:language>
  <cp:lastModifiedBy> Josh Zacharias</cp:lastModifiedBy>
  <dcterms:modified xsi:type="dcterms:W3CDTF">2007-12-03T03:21:18Z</dcterms:modified>
  <cp:revision>104</cp:revision>
  <dc:subject/>
  <dc:title>Title</dc:title>
</cp:coreProperties>
</file>