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23.png" ContentType="image/png"/>
  <Override PartName="/ppt/media/image22.png" ContentType="image/png"/>
  <Override PartName="/ppt/media/image4.wmf" ContentType="image/x-wmf"/>
  <Override PartName="/ppt/media/image20.png" ContentType="image/png"/>
  <Override PartName="/ppt/media/image2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96AA-6107-41F3-A2B5-19375F7F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FBF5-02FC-462D-89ED-FA11340C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7D99-5C23-4D3C-A1BF-6D9DF18B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B356-BD90-4AD4-A8A9-0C7DFA347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6FBD-F4AB-4B0D-B750-B4F0AEAE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E126-3D90-4DB9-99D0-7D5F8DDB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7D15-D3AC-45ED-8408-A383DC30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B78F-9BD8-4655-803F-A2A12599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2E28-05AD-4229-86A2-01D7DF06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3CD8-7139-479B-BE50-75AE3E69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4C30-ECA5-48C9-AACB-8DD76035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5864-0253-4039-A8E0-67C8C67B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797B-BB57-445F-95C9-30AD8CA23CF7}" type="slidenum"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3714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The American Dream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C23B-01C5-497C-AFA1-E48287083C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Our Assumptions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36600" y="1941480"/>
            <a:ext cx="8472600" cy="12747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87320" y="3975120"/>
            <a:ext cx="7570800" cy="1117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5435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USCIS is funded by green card applicants only (true!)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USCIS processes all applications received whether the quota has been reached or not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If the quota is reached, applications are set aside until the new fiscal year starts and quotas are set back to 0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4368960"/>
            <a:ext cx="112680" cy="672840"/>
          </a:xfrm>
          <a:custGeom>
            <a:avLst/>
            <a:gdLst>
              <a:gd name="textAreaLeft" fmla="*/ 0 w 112680"/>
              <a:gd name="textAreaRight" fmla="*/ 40680 w 112680"/>
              <a:gd name="textAreaTop" fmla="*/ 17280 h 672840"/>
              <a:gd name="textAreaBottom" fmla="*/ 655560 h 67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4521240"/>
            <a:ext cx="224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From USCIS and D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594E-0660-4C0A-AC0D-05FBAB8013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Our Optimization Mode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Decision Variables and Objective Function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8640" y="1450800"/>
            <a:ext cx="8226720" cy="25527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52560" y="5346720"/>
            <a:ext cx="72136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Number of requests at each stage reflects gate process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Optimize for number of employees and processed applications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lvl="1" marL="55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Assumes USCIS can hire contractors for each given month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8640" y="4040280"/>
            <a:ext cx="8226720" cy="128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F1AE-7959-4619-BDEF-E01258DFBE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Our Optimization Mode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Constraints (1/2)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51814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06800" indent="-406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Three sets of constraints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5560" indent="-338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Number of work hours available ≥ Number of work needed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5560" indent="-338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Number of applications requested ≤ Number of applications processed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5560" indent="-338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No backlog of applications at either one of the 4 stages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8640" y="2249640"/>
            <a:ext cx="8226720" cy="235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A2F6-0249-42EB-9203-46B200E8BD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Our Optimization Mode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Constraints (2/2)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51814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06800" indent="-406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Three sets of constraints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5560" indent="-338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Number of work hours available ≥ Number of work needed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5560" indent="-338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Number of applications requested ≤ Number of applications processed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5560" indent="-338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No backlog of applications at either one of the 4 stages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8640" y="1674720"/>
            <a:ext cx="8226720" cy="332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B3D7-4EED-4C24-BFFB-486E11663B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Our Results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434340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he backlog can be eliminated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he optimum requires up to 10,000 workers in some agencies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Impact on cost and profit?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8640" y="1809720"/>
            <a:ext cx="8226720" cy="16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A9EE-31BB-456F-8CB0-F51456A9C9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Our Results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5130360"/>
            <a:ext cx="822960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he optimum allocation of workers and applications sets the annual cost to $290,333,331 up from $91,500,000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But it increases operating profit from 66% currently to 75%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8640" y="1855800"/>
            <a:ext cx="8226720" cy="1289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8640" y="3417840"/>
            <a:ext cx="8226720" cy="12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2350-F0E3-47A2-8B08-E93015B255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Our Mission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08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Improve the duration and variability of the employer-sponsored green card process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990720" indent="-533520">
              <a:spcBef>
                <a:spcPts val="700"/>
              </a:spcBef>
              <a:buClr>
                <a:srgbClr val="c0c0c0"/>
              </a:buClr>
              <a:buFont typeface="Monotype Corsi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Monotype Corsiva"/>
              </a:rPr>
              <a:t>Optimize allocation of resources at involved U.S. agencies to eliminate the green card backlog while minimizing cost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ssess the impact of Charlotte IT Consulting Group’s proposals to improve the process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29120" y="4789440"/>
            <a:ext cx="2884320" cy="159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4B4B-9523-4677-869B-2F5E2636D3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Charlotte IT Consulting Group Solutions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Implement a system that cuts processing times by 2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How much money will the agencies save with each program?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Implement a system that reduces security clearance variability significantly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How will it affect the backlog of green card applications?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0A3C-C931-4C6D-97B4-BDC1D0E305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st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Propos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Reduce Processing Times by 50%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5041440"/>
            <a:ext cx="8229600" cy="13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e reduction of processing time doubles the number of applications processed every month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34800" y="3429000"/>
            <a:ext cx="8472600" cy="1274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34800" y="1698480"/>
            <a:ext cx="8472600" cy="1274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15000" y="14302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2560" y="315108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A180-47BD-4BD8-A0FC-0570162285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st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Propos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Reduce Processing Times by 50%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370800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e new IT system increases USCIS operating profit by over 50% through labor cost reduction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85880" y="1812960"/>
            <a:ext cx="5770440" cy="130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5579-3442-4922-A734-5AA903A446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This is the story of 4 foreign Sternies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0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Debraj Ghosh (India)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Allon Harris (Israel)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Amir Kaspi (Israel)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harlotte Porteneuve (France)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Who worked really hard toward the American Dream: They got into Stern and now have received job offers from prestigious firms but are unsure they can legally work in the glorious country of U.S. of A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7231-E4EA-4CCA-9769-34A021FF1E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Propos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Reduce Security Clearance Variability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1960" y="4559040"/>
            <a:ext cx="852192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e variability in security clearance processing generates a backlog of green card applications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09600" y="1741320"/>
            <a:ext cx="6724800" cy="248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BAFA-E004-41EC-B0C1-E9A0AC5053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Propos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Reduce Security Clearance Variability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1960" y="4559040"/>
            <a:ext cx="852192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FBI’s processing of security clearance: distribution due to each person’s unique security background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Skewed distribution of clearances with a peak at 13,000/month and a scale of 1,00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Charlotte IT Consulting Firm can reduce this scale down to 700, i.e. reduce the variability of processing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16000" y="1544760"/>
            <a:ext cx="4113000" cy="27590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88000" y="1544760"/>
            <a:ext cx="4113000" cy="275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3997-575A-4E71-A493-449333C809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Propos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Reduce Security Clearance Variability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11040" y="4635000"/>
            <a:ext cx="852192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Effect of system improvement on green card backlog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Without system: 33% probability of backlog &gt; 30,000 applications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With system: 10% probability of backlog &gt; 30,000 applications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Backlog of over 30,000 results in costly class-action lawsuits for USCIS!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41200" y="1562040"/>
            <a:ext cx="4113360" cy="2932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784760" y="1562040"/>
            <a:ext cx="4113000" cy="29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B9E9-0BC5-42E3-9BF9-E67EFC230B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879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e Four Foreign Sternies can improve the green card processing efficiency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By reallocating resources to eliminate 2007’s backlog in green card demand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By hiring the services of Charlotte IT Consulting Group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ncrease the USCIS profit by over 50%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Decrease the likelihood of costly backlog of over 30,000 applications by over 50%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By following our advice the immigration services will be successful!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84320" cy="1598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259680" y="0"/>
            <a:ext cx="2884320" cy="159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36E9-F061-48D1-8B2E-2D0B598D78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What are their options?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H1-B work visa, but…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Supply cut dramatically after 9/11, does not meet demand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Only valid for 6 years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Illegal immigration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Just kiddi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egal immigration = the GREEN CARD!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1.3 Million new legal immigrants in 2006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DEE6-BD31-4A13-8A0E-070E704CBA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125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570560" cy="3124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286000" y="685800"/>
            <a:ext cx="4570560" cy="3124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157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Some Facts about U.S. Immigration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" name=""/>
          <p:cNvSpPr/>
          <p:nvPr/>
        </p:nvSpPr>
        <p:spPr>
          <a:xfrm>
            <a:off x="3898800" y="6502320"/>
            <a:ext cx="527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Data from U.S. Citizenship and Immigration Services (USC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BD44-27FD-43E2-B0EE-FA5DCBB3AA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Problems with Employer-Sponsored Green Card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Uncertain duration: from 6 months to 10 years…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Interim status locks immigration candidate into one job position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Multiple agencies involved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Large and growing backlog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The USCIS received over 2.5 million applications during July and August, including 300,000 employment-based adjustment applications. "It could take years to process all of the applications and issue all the visas," Michael Aytes, USCIS's Associate Director for Domestic Operations, told reporters.” – November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Monotype Corsiv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, 2007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90F2-7615-42D2-9DBE-7D58A01FE7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2007: Explosive Demand for Green Cards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92280" y="1469880"/>
            <a:ext cx="77594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8A8D-E42D-46A8-BBCE-02E6E8B3DB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Luckily, Our Fellow Sternies Have Taken Juran’s Decision Models!!!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A1C3-63AC-4D68-BB32-D913D84483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Our Mission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08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Improve the duration and variability of the employer-sponsored green card process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Optimize allocation of resources at involved U.S. agencies to eliminate the green card backlog while minimizing cost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ssess the impact of Charlotte IT Consulting Group’s proposals to improve the process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129120" y="4789440"/>
            <a:ext cx="2884320" cy="159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BC1B-5570-413C-8FE6-07D03239B1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The Green Card Process, in Theory…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62040" y="4680000"/>
            <a:ext cx="7781760" cy="1055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71680" y="2943360"/>
            <a:ext cx="8380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91520" y="3067200"/>
            <a:ext cx="8380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68760" y="317196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64" idx="6"/>
            <a:endCxn id="66" idx="1"/>
          </p:cNvCxnSpPr>
          <p:nvPr/>
        </p:nvCxnSpPr>
        <p:spPr>
          <a:xfrm>
            <a:off x="3149640" y="3362040"/>
            <a:ext cx="179136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1866960" y="2967120"/>
            <a:ext cx="49536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40280" y="3287880"/>
            <a:ext cx="83808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0720" y="24433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70" idx="3"/>
            <a:endCxn id="68" idx="2"/>
          </p:cNvCxnSpPr>
          <p:nvPr/>
        </p:nvCxnSpPr>
        <p:spPr>
          <a:xfrm flipV="1">
            <a:off x="4572000" y="2633400"/>
            <a:ext cx="559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987720" y="2239920"/>
            <a:ext cx="58428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68" idx="6"/>
            <a:endCxn id="72" idx="1"/>
          </p:cNvCxnSpPr>
          <p:nvPr/>
        </p:nvCxnSpPr>
        <p:spPr>
          <a:xfrm>
            <a:off x="5511600" y="2633760"/>
            <a:ext cx="705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6216480" y="2239920"/>
            <a:ext cx="47016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72" idx="3"/>
            <a:endCxn id="63" idx="2"/>
          </p:cNvCxnSpPr>
          <p:nvPr/>
        </p:nvCxnSpPr>
        <p:spPr>
          <a:xfrm>
            <a:off x="6686640" y="2635200"/>
            <a:ext cx="705240" cy="8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2" idx="6"/>
            <a:endCxn id="67" idx="1"/>
          </p:cNvCxnSpPr>
          <p:nvPr/>
        </p:nvCxnSpPr>
        <p:spPr>
          <a:xfrm>
            <a:off x="1409760" y="33620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7" idx="3"/>
            <a:endCxn id="64" idx="2"/>
          </p:cNvCxnSpPr>
          <p:nvPr/>
        </p:nvCxnSpPr>
        <p:spPr>
          <a:xfrm>
            <a:off x="2361960" y="3362040"/>
            <a:ext cx="40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6" idx="3"/>
            <a:endCxn id="63" idx="2"/>
          </p:cNvCxnSpPr>
          <p:nvPr/>
        </p:nvCxnSpPr>
        <p:spPr>
          <a:xfrm flipV="1">
            <a:off x="5778000" y="3485520"/>
            <a:ext cx="161388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70" idx="1"/>
          </p:cNvCxnSpPr>
          <p:nvPr/>
        </p:nvCxnSpPr>
        <p:spPr>
          <a:xfrm flipV="1">
            <a:off x="3149640" y="2635200"/>
            <a:ext cx="83880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1196-2543-43C9-97CF-E0DCB0857C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04:36:01Z</dcterms:created>
  <dc:creator>Charlotte Porteneuve</dc:creator>
  <dc:description/>
  <dc:language>en-US</dc:language>
  <cp:lastModifiedBy>Charlotte Porteneuve</cp:lastModifiedBy>
  <dcterms:modified xsi:type="dcterms:W3CDTF">2007-11-26T18:30:37Z</dcterms:modified>
  <cp:revision>115</cp:revision>
  <dc:subject/>
  <dc:title>The American Dream</dc:title>
</cp:coreProperties>
</file>