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9.jpeg" ContentType="image/jpeg"/>
  <Override PartName="/ppt/media/image8.jpeg" ContentType="image/jpeg"/>
  <Override PartName="/ppt/media/image22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25.jpeg" ContentType="image/jpeg"/>
  <Override PartName="/ppt/media/image4.jpeg" ContentType="image/jpeg"/>
  <Override PartName="/ppt/media/image1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0.jpeg" ContentType="image/jpeg"/>
  <Override PartName="/ppt/media/image3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1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270F8A-6021-4770-B57D-121722CA1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rough each of the comments to explain how each column of data points fit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how we made assumptions to set up the ideal responses for each p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how penalties will address differences between the ideal response and the user’s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Evolutional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just ran a sample and it came out to 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Lisa’s story was our motivation to design a model that determines which pet is the right pet for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y percent of US households have p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60 million dogs and 75 million cats are owned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pend $34 billion on pets in 2004 (up from $17 billion in 1994): $1.6 b. on the pets themselves, $14 b. for food, and $8 b. for veterinarian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many questions you have to seriously consider before deciding on which pet to get such as your budget, availability, allergies, cleanness and many other f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eer to illustrate our mode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Lisa’s story was our motivation to design a model that determines which pet is the right pet for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y percent of US households have p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60 million dogs and 75 million cats are owned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pend $34 billion on pets in 2004 (up from $17 billion in 1994): $1.6 b. on the pets themselves, $14 b. for food, and $8 b. for veterinarian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many questions you have to seriously consider before deciding on which pet to get such as your budget, availability, allergies, cleanness and many other f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eer to illustrate our mode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D24-5128-4BCC-B77D-1D626BCA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167-2612-4657-9007-6C306FBB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753-6969-4072-8F15-F2D01E30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5EF-696F-4D29-B0B3-74CA7823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D5E-98E6-4DC4-A9B5-B483364B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6F5-4CF3-48C4-9789-9D5AC5F4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022-F789-47D8-84A8-E3CCBBC5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F29-CFA7-4559-9449-9372E621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C3D-4754-472D-BA80-019811F0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BA8-5E09-4FA7-B3FF-E5306659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D85-2DC4-4AE2-8DAF-86EB2AFF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CDE-8F81-44D0-9B40-2E662E59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7AB0-0A1C-4DB3-8CE2-5B50C4021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www.brownfido.com/DogPoopPOO1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hyperlink" Target="http://www1.istockphoto.com/file_thumbview_approve/2879013/2/istockphoto_2879013_walking_the_dog.jpg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blogs.venturacountystar.com/vcs/dennert/archives/money.jpg&amp;imgrefurl=http://blogs.venturacountystar.com/vcs/dennert/archives/2007/04/&amp;h=600&amp;w=600&amp;sz=46&amp;hl=en&amp;start=2&amp;um=1&amp;tbnid=tr4BfH6mwt0KuM:&amp;tbnh=135&amp;tbnw=135&amp;prev=/images%3Fq%3Dmoney%26svnum%3D10%26um%3D1%26hl%3Den%26rls%3DSKPB,SKPB:2006-44,SKPB:en%26sa%3DN" TargetMode="External"/><Relationship Id="rId10" Type="http://schemas.openxmlformats.org/officeDocument/2006/relationships/image" Target="../media/image6.jpeg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1219320"/>
            <a:ext cx="7315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Model Present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et Choice Calcula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418608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val P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eena Jha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z Greenb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ona Pipiya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49840"/>
            <a:ext cx="3124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User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3440" y="1346040"/>
            <a:ext cx="890424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Dat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920" y="1600200"/>
            <a:ext cx="87454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3600" cy="557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943600" y="236232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000" y="1209600"/>
            <a:ext cx="8656560" cy="54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5181480" y="228600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8840" y="1143000"/>
            <a:ext cx="8656560" cy="54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5181480" y="223848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3000" y="1209600"/>
            <a:ext cx="8656560" cy="54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5181480" y="231444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3000" y="1209600"/>
            <a:ext cx="8656560" cy="54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5181480" y="231444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34800" y="1133640"/>
            <a:ext cx="8656920" cy="54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5257800" y="220968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Solver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05000" y="1752480"/>
            <a:ext cx="6315120" cy="3403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Samp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207200" y="2522520"/>
            <a:ext cx="1708200" cy="2036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1913040"/>
            <a:ext cx="67816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el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19920" y="3849840"/>
            <a:ext cx="3124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2743200"/>
            <a:ext cx="678168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447920"/>
            <a:ext cx="7772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el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19920" y="3849840"/>
            <a:ext cx="3124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de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1143000"/>
            <a:ext cx="2819520" cy="175248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Clien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3355800">
            <a:off x="2771640" y="2597040"/>
            <a:ext cx="485640" cy="914400"/>
          </a:xfrm>
          <a:prstGeom prst="downArrow">
            <a:avLst>
              <a:gd name="adj1" fmla="val 50000"/>
              <a:gd name="adj2" fmla="val 47072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4343400"/>
            <a:ext cx="1428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228600" y="1701720"/>
            <a:ext cx="2819520" cy="4498920"/>
            <a:chOff x="228600" y="1701720"/>
            <a:chExt cx="2819520" cy="44989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28600" y="1701720"/>
              <a:ext cx="190512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685800" y="3809880"/>
              <a:ext cx="2362320" cy="23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4419720" y="30481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101600">
            <a:off x="6171840" y="2666520"/>
            <a:ext cx="485640" cy="914400"/>
          </a:xfrm>
          <a:prstGeom prst="downArrow">
            <a:avLst>
              <a:gd name="adj1" fmla="val 50000"/>
              <a:gd name="adj2" fmla="val 47072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24480" y="2057400"/>
            <a:ext cx="2819520" cy="4343400"/>
            <a:chOff x="6324480" y="2057400"/>
            <a:chExt cx="2819520" cy="434340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6981840" y="2057400"/>
              <a:ext cx="216216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6324480" y="4419720"/>
              <a:ext cx="198144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de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362320"/>
            <a:ext cx="2209680" cy="167616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Scal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2957400" y="2728440"/>
            <a:ext cx="485640" cy="914400"/>
          </a:xfrm>
          <a:prstGeom prst="downArrow">
            <a:avLst>
              <a:gd name="adj1" fmla="val 50000"/>
              <a:gd name="adj2" fmla="val 47072"/>
            </a:avLst>
          </a:prstGeom>
          <a:solidFill>
            <a:srgbClr val="ffcc00">
              <a:alpha val="60000"/>
            </a:srgbClr>
          </a:soli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32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1523880"/>
            <a:ext cx="38098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de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1143000"/>
            <a:ext cx="2819520" cy="175248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3355800">
            <a:off x="2771640" y="2597040"/>
            <a:ext cx="485640" cy="914400"/>
          </a:xfrm>
          <a:prstGeom prst="downArrow">
            <a:avLst>
              <a:gd name="adj1" fmla="val 50000"/>
              <a:gd name="adj2" fmla="val 47072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30481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9101600">
            <a:off x="6171840" y="2666520"/>
            <a:ext cx="485640" cy="914400"/>
          </a:xfrm>
          <a:prstGeom prst="downArrow">
            <a:avLst>
              <a:gd name="adj1" fmla="val 50000"/>
              <a:gd name="adj2" fmla="val 47072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3657600"/>
            <a:ext cx="1905120" cy="762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4114800"/>
            <a:ext cx="1904760" cy="914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involvemen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657600"/>
            <a:ext cx="1981440" cy="914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e of decision re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1056" t="0" r="0" b="15185"/>
          <a:stretch/>
        </p:blipFill>
        <p:spPr>
          <a:xfrm>
            <a:off x="6858000" y="5078520"/>
            <a:ext cx="2286000" cy="1703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6320" y="5288040"/>
            <a:ext cx="2209680" cy="1387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90920" y="5943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666880" y="1746360"/>
            <a:ext cx="38862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50005" b="0"/>
          <a:stretch/>
        </p:blipFill>
        <p:spPr>
          <a:xfrm>
            <a:off x="228600" y="121932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-1994" b="0"/>
          <a:stretch/>
        </p:blipFill>
        <p:spPr>
          <a:xfrm>
            <a:off x="2514600" y="1143000"/>
            <a:ext cx="3886200" cy="2638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50005" t="0" r="-1994" b="4694"/>
          <a:stretch/>
        </p:blipFill>
        <p:spPr>
          <a:xfrm>
            <a:off x="2590920" y="1219320"/>
            <a:ext cx="1981080" cy="259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403848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Setter licking plate"/>
          <p:cNvPicPr/>
          <p:nvPr/>
        </p:nvPicPr>
        <p:blipFill>
          <a:blip r:embed="rId6"/>
          <a:stretch/>
        </p:blipFill>
        <p:spPr>
          <a:xfrm>
            <a:off x="380880" y="5362560"/>
            <a:ext cx="19051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09680" y="3809880"/>
            <a:ext cx="1371600" cy="1447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66880" y="52671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4038480" y="40384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495680" y="411480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479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siness Idea – The Right Pet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560" y="6575400"/>
            <a:ext cx="344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www.aspca.org and www.marginalrevolutio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7200" y="2438280"/>
            <a:ext cx="8229600" cy="2210040"/>
            <a:chOff x="457200" y="2438280"/>
            <a:chExt cx="8229600" cy="2210040"/>
          </a:xfrm>
        </p:grpSpPr>
        <p:sp>
          <p:nvSpPr>
            <p:cNvPr id="74" name=""/>
            <p:cNvSpPr/>
            <p:nvPr/>
          </p:nvSpPr>
          <p:spPr>
            <a:xfrm>
              <a:off x="457200" y="2514600"/>
              <a:ext cx="2133720" cy="2133720"/>
            </a:xfrm>
            <a:prstGeom prst="ellipse">
              <a:avLst/>
            </a:prstGeom>
            <a:solidFill>
              <a:srgbClr val="bbe0e3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% of US households have p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5320" y="2590920"/>
              <a:ext cx="2133360" cy="2057400"/>
            </a:xfrm>
            <a:prstGeom prst="ellipse">
              <a:avLst/>
            </a:prstGeom>
            <a:solidFill>
              <a:srgbClr val="bbe0e3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 million dogs and 75 million cats are owned in the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77120" y="2438280"/>
              <a:ext cx="2209680" cy="2210040"/>
            </a:xfrm>
            <a:prstGeom prst="ellipse">
              <a:avLst/>
            </a:prstGeom>
            <a:solidFill>
              <a:srgbClr val="bbe0e3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2004 consumers spent $34 billion p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388880" y="5599080"/>
            <a:ext cx="56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PROMISE TO FIND THE RIGHT PET FOR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4479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olunte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057400"/>
            <a:ext cx="281916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447920"/>
            <a:ext cx="7772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el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19920" y="3849840"/>
            <a:ext cx="3124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4479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 model that will identify the best pet for an individual based on that individual’s responses to a series of lifestyle-related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nagerial 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oice of dummy variable associated with each of ten pet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 the penalties associated with variation between the user’s responses and the conditions required for the 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ummy variable must be an integer between one and 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149480"/>
            <a:ext cx="8839080" cy="426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7:52:50Z</dcterms:created>
  <dc:creator>Stern School of Business</dc:creator>
  <dc:description/>
  <dc:language>en-US</dc:language>
  <cp:lastModifiedBy>Elizabeth Greenbaum</cp:lastModifiedBy>
  <dcterms:modified xsi:type="dcterms:W3CDTF">2007-12-03T18:18:29Z</dcterms:modified>
  <cp:revision>107</cp:revision>
  <dc:subject/>
  <dc:title>Slide 1</dc:title>
</cp:coreProperties>
</file>