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4943-D940-42C2-BDDC-8932F9109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F885-2B2E-4306-8752-667B4F883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5CA9-C5BF-40A4-8D90-61BE4392F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39E7-A378-464E-B719-376E0019B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ED894-6532-4A31-B3FF-893A5A6F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92B34-157E-4592-B286-AF3F680C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E580E-446A-4EAE-81CA-6792AF5A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ABC5F-90DB-4FBC-8F76-BEF9EE5B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E2328-F152-474D-B803-B7AC1541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0AE16-6ECF-4DEF-A5F6-34E616F2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98779-F8D7-47CF-93B6-0A94B7BD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3F3A-E023-463E-8E61-3812B05D3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C22E6-3A99-4F8C-A746-3E997613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C9A69-FBD8-43B5-87B0-595954EB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C30BA-9D51-46E6-B619-B57EAE51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DF503-72D0-4FA9-BB99-8C33303B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DFA34-4561-4189-A458-D78D4039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5BBF2-A471-4037-A783-31F18BDC4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27BB-7CCB-486C-9EAD-07D4C29CC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B3F0-C0FB-4423-A8A2-E3CFABD4F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04D5-1E24-4220-8210-55BA3BCBF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FD0C0-936A-4D41-A2CE-DD7DAFD8D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A111-01D5-4BEF-BBB7-7292D4211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F996-0B7D-421D-B57A-6DD66CFBF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4D27-4515-41E4-85E2-3E0BC30FB1D6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55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2EB6-8427-42BF-A367-1508AD820295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55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NYU Stern Student Schedule Optimization &amp; Plann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cision Models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am 9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eremy Feffe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oshua Feue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lynn Trac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oshua Shimk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ustin Whi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Optimization portion of model relies on penalties rather than constraint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Optimizer looks up values from three other tabs in the workbook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270720" y="1143000"/>
            <a:ext cx="9228960" cy="1595520"/>
            <a:chOff x="-270720" y="1143000"/>
            <a:chExt cx="9228960" cy="1595520"/>
          </a:xfrm>
        </p:grpSpPr>
        <p:sp>
          <p:nvSpPr>
            <p:cNvPr id="107" name=""/>
            <p:cNvSpPr/>
            <p:nvPr/>
          </p:nvSpPr>
          <p:spPr>
            <a:xfrm>
              <a:off x="-270720" y="1143000"/>
              <a:ext cx="593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Schedule of Planned Electiv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8729640" cy="98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-334440" y="2743200"/>
            <a:ext cx="9292680" cy="1558800"/>
            <a:chOff x="-334440" y="2743200"/>
            <a:chExt cx="9292680" cy="1558800"/>
          </a:xfrm>
        </p:grpSpPr>
        <p:sp>
          <p:nvSpPr>
            <p:cNvPr id="110" name=""/>
            <p:cNvSpPr/>
            <p:nvPr/>
          </p:nvSpPr>
          <p:spPr>
            <a:xfrm>
              <a:off x="-334440" y="2743200"/>
              <a:ext cx="75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Course CFE and Historical Enroll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228600" y="3352680"/>
              <a:ext cx="872964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-174600" y="4449600"/>
            <a:ext cx="9132840" cy="1417680"/>
            <a:chOff x="-174600" y="4449600"/>
            <a:chExt cx="9132840" cy="1417680"/>
          </a:xfrm>
        </p:grpSpPr>
        <p:sp>
          <p:nvSpPr>
            <p:cNvPr id="113" name=""/>
            <p:cNvSpPr/>
            <p:nvPr/>
          </p:nvSpPr>
          <p:spPr>
            <a:xfrm>
              <a:off x="-174600" y="4449600"/>
              <a:ext cx="451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Course Specializ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228600" y="5006880"/>
              <a:ext cx="8729640" cy="86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Non-linearity of data requires Standard Evolutionary Solver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Estimating Deman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Once an optimal schedule is created the model estimates student demand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del Assumption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ior year enrollment is baseline for futur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ximum fluctuation is 30% increase/(decrease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inimum extreme distribution used to increase chance of class over enroll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4191120" cy="279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280" y="3886200"/>
            <a:ext cx="44960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tudents use Monte-Carlo simulation results to create rank order for classe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1280" y="1600200"/>
            <a:ext cx="8996400" cy="4876560"/>
            <a:chOff x="71280" y="1600200"/>
            <a:chExt cx="8996400" cy="48765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606920" y="1600200"/>
              <a:ext cx="4457880" cy="24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71280" y="1600200"/>
              <a:ext cx="4457880" cy="24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79200" y="4066920"/>
              <a:ext cx="4457880" cy="24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4610160" y="4064040"/>
              <a:ext cx="4457520" cy="240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Now we know which classes best fit our criteria and the strategy to use to get them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nly three classes were in danger of clos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ame Theory &amp; Business Strategy (35%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rand Strategy (9%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rporate Finance (1%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eaving the remaining tw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usiness of Produc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dvanced Strategic Analy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tern Registrar offers little help to students when choosing course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43040" y="14479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re must be a better way for MBA2’s to schedule class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85776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Time is not the only constraint when creating a class schedul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hoices are constrained by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ximum number of credit hou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 scheduling overlap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urse prerequisit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osed courses due to student deman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ent preference also plays a role in the proces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ime of da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urse Topic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alf semester cla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tudent Examp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Our team developed a system to optimize student schedules and assist in rank strateg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282680"/>
            <a:ext cx="64771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nn T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Remaining Credi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izations &amp; Remaining Credit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ing (4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y (4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Preferen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Finance with Prof. Damoda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Strateg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Theory &amp; Business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Block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tainment &amp; Media Ind.; Television Mgm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noon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0112" t="22406" r="17601" b="0"/>
          <a:stretch/>
        </p:blipFill>
        <p:spPr>
          <a:xfrm>
            <a:off x="304920" y="1371600"/>
            <a:ext cx="1898640" cy="236520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Model is user-friendly and easily updateable for changes each semester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olver finds an optimal schedule for student based on personalized data entered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art Two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nside The Optimiz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Office of Records &amp; Registration graciously provided the necessary data for model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ffice of Records &amp; Registration provided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edule of planned electiv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st of available specializa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ior year course CFE resul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del does not factor in course prerequisit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ue to format of data, this information could not be easily include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9:10:11Z</dcterms:created>
  <dc:creator> Joshua M. Feuer</dc:creator>
  <dc:description/>
  <dc:language>en-US</dc:language>
  <cp:lastModifiedBy>Jeremy Feffer</cp:lastModifiedBy>
  <dcterms:modified xsi:type="dcterms:W3CDTF">2007-12-03T17:36:53Z</dcterms:modified>
  <cp:revision>16</cp:revision>
  <dc:subject/>
  <dc:title>Slide 1</dc:title>
</cp:coreProperties>
</file>