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02A1-E566-4487-846E-4B89F1AC9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2909-EC33-4F7B-9FFF-0C878884B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E792-45B3-4F33-8BB5-1215F615B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64D5-C852-41EB-A47B-64C2D5CE0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0FC6F-0D9D-430F-91EE-5FA02BAF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C7AE9-4983-41BB-86C4-89BB663A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79228-A611-4E63-A181-2C40E9E6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1286A-6EF4-4BD3-8F9E-490FC5A8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6B0D1-B997-48FA-BA73-934991DF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BB230-B185-4F84-AACE-5ABE98BA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C635C-A95D-40D8-AE29-C53C1A57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8E05-F6C6-40D6-B8F8-78E28766F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C6F47-09AE-4A80-95EF-E46005A8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DBB1C-7188-4822-B521-8739971B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A7289-EF2F-4B16-BDD0-4043E725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D259C-E6E7-4DF4-81CF-053A798D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EB195-8BC7-4832-BF47-37FB294F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C7A0-994F-48C7-9EDA-C092156E5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4E34-2EC4-4EAB-B919-99AD48061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9046-8CFE-4612-A7A8-E3E47C201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C2B3-D855-46D8-A475-8D31FAD4A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F7E0-B64A-4256-BAA1-18F878B04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C4C7-B7F4-4DEC-B3B3-8D12B06BC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4E76-39A3-4337-A31F-D1CD0EE49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1308-9DEB-40D3-9AD0-A86360A5855D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215C-4E7B-4A8C-AE13-34A95CF0C78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NYU Stern Student Schedule Optimization &amp; Plann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ision Models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am 9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eremy Feff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oshua Feu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lynn Trac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oshua Shimk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ustin Whi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ptimization portion of model relies on penalties rather than constraint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ptimizer looks up values from three other tabs in the workbook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270720" y="1143000"/>
            <a:ext cx="9228960" cy="1595520"/>
            <a:chOff x="-270720" y="1143000"/>
            <a:chExt cx="9228960" cy="1595520"/>
          </a:xfrm>
        </p:grpSpPr>
        <p:sp>
          <p:nvSpPr>
            <p:cNvPr id="107" name=""/>
            <p:cNvSpPr/>
            <p:nvPr/>
          </p:nvSpPr>
          <p:spPr>
            <a:xfrm>
              <a:off x="-270720" y="1143000"/>
              <a:ext cx="593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Schedule of Planned Electiv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8729640" cy="98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-334440" y="2743200"/>
            <a:ext cx="9292680" cy="1558800"/>
            <a:chOff x="-334440" y="2743200"/>
            <a:chExt cx="9292680" cy="1558800"/>
          </a:xfrm>
        </p:grpSpPr>
        <p:sp>
          <p:nvSpPr>
            <p:cNvPr id="110" name=""/>
            <p:cNvSpPr/>
            <p:nvPr/>
          </p:nvSpPr>
          <p:spPr>
            <a:xfrm>
              <a:off x="-334440" y="2743200"/>
              <a:ext cx="75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Course CFE and Historical Enroll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228600" y="3352680"/>
              <a:ext cx="872964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-174600" y="4449600"/>
            <a:ext cx="9132840" cy="1417680"/>
            <a:chOff x="-174600" y="4449600"/>
            <a:chExt cx="9132840" cy="1417680"/>
          </a:xfrm>
        </p:grpSpPr>
        <p:sp>
          <p:nvSpPr>
            <p:cNvPr id="113" name=""/>
            <p:cNvSpPr/>
            <p:nvPr/>
          </p:nvSpPr>
          <p:spPr>
            <a:xfrm>
              <a:off x="-174600" y="4449600"/>
              <a:ext cx="451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Course Specializ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228600" y="5006880"/>
              <a:ext cx="8729640" cy="86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Non-linearity of data requires Standard Evolutionary Solve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stimating Deman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nce an optimal schedule is created the model estimates student demand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del Assumption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ior year enrollment is baseline for futu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ximum fluctuation is 30% increase/(decrease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inimum extreme distribution used to increase chance of class over enroll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4191120" cy="279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44960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tudents use Monte-Carlo simulation results to create rank order for class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1280" y="1600200"/>
            <a:ext cx="8996400" cy="4876560"/>
            <a:chOff x="71280" y="1600200"/>
            <a:chExt cx="8996400" cy="48765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606920" y="1600200"/>
              <a:ext cx="4457880" cy="24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71280" y="1600200"/>
              <a:ext cx="4457880" cy="24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79200" y="4066920"/>
              <a:ext cx="4457880" cy="24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4610160" y="4064040"/>
              <a:ext cx="4457520" cy="24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Now we know which classes best fit our criteria and the strategy to use to get them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nly three classes were in danger of clos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me Theory &amp; Business Strategy (35%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rand Strategy (9%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rporate Finance (1%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aving the remaining tw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siness of Produc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vanced Strategic Analy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tern Registrar offers little help to students when choosing cours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430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re must be a better way for MBA2’s to schedule class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5776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ime is not the only constraint when creating a class schedul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oices are constrained b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ximum number of credit hou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scheduling overlap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urse prerequisit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osed courses due to student deman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 preference also plays a role in the proces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ime of da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urse Topic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alf semester cla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tudent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ur team developed a system to optimize student schedules and assist in rank strateg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282680"/>
            <a:ext cx="64771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nn T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Remaining Credi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izations &amp; Remaining Credit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ing (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 (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Preferen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Finance with Prof. Damod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trateg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Theory &amp; Business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Block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tainment &amp; Media Ind.; Television Mg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noo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0112" t="22406" r="17601" b="0"/>
          <a:stretch/>
        </p:blipFill>
        <p:spPr>
          <a:xfrm>
            <a:off x="304920" y="1371600"/>
            <a:ext cx="1898640" cy="236520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Model is user-friendly and easily updateable for changes each semeste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olver finds an optimal schedule for student based on personalized data entered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nside The Optimiz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ffice of Records &amp; Registration graciously provided the necessary data for model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ffice of Records &amp; Registration provided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edule of planned electiv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st of available specializa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ior year course CFE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del does not factor in course prerequisit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ue to format of data, this information could not be easily includ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9:10:11Z</dcterms:created>
  <dc:creator> Joshua M. Feuer</dc:creator>
  <dc:description/>
  <dc:language>en-US</dc:language>
  <cp:lastModifiedBy>Jeremy Feffer</cp:lastModifiedBy>
  <dcterms:modified xsi:type="dcterms:W3CDTF">2007-12-03T17:36:53Z</dcterms:modified>
  <cp:revision>16</cp:revision>
  <dc:subject/>
  <dc:title>Slide 1</dc:title>
</cp:coreProperties>
</file>