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jpeg" ContentType="image/jpeg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1760-7AB3-469E-BED5-4F3A0E91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2C7-C3B8-4894-8866-1A0DC04C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181-419F-4F17-9331-8B55226E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F3A-D995-49BB-AF63-ECE5E696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8F21-25CA-4023-AB4D-9D5B268A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0835-EB6A-450F-B365-A40C63F5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786B-1233-4A8D-A8BB-4BC05F2F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A925-F244-41FE-8789-1E1A9973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8974-42F4-470E-A412-0135358E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BC2C-AF4D-44DE-B055-DC43EC6F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442A-8D85-4786-AEC7-C69E6302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2DD9-AD44-4D86-B51A-065471FF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44DF-E357-4670-9D3B-BF0F7723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4D55-D381-489A-977B-E118CB3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4F20-92AF-4A83-B56D-B3696AD7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F0EB-D327-46F7-9697-87CFCEEC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E148-1705-4F14-9865-18178F74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D5B-D68C-4294-92B9-3F3E73F9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8FA-FA42-4993-AA39-43BA98E6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C91-FBCD-4C4C-9E4D-306609A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02D-9FB7-45B9-8A32-B3B47C69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8DF-AC7E-46DD-AC8E-5D4E8BE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1C8-1012-4DE5-8089-195F551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E9B-8DF8-46FB-918C-A984F0F4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6583-889A-4672-AB80-BC39BBA990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BD0F-C5C8-46C3-96F4-42374C4160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ere do you see yourself in 6 months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eam T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on should work in Technology/Telecommun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514600"/>
          <a:ext cx="7467480" cy="415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46748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’s Important to Melis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522520"/>
            <a:ext cx="64771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lissa should work in Media/Entertai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68212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anks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w go get your job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89200" y="2900520"/>
            <a:ext cx="447372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l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uation May 14th - what do we d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pu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alary $$$$$ - money is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ing Bonus - money up front is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k hours per wee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 Time - you need 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acation D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CLA - got to avoid UCLA gradua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graphy - stay away from the midd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ran needs a recording contr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ol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2414520"/>
            <a:ext cx="746748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’s Important to Mik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5788080" cy="264816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1447920" y="4792680"/>
            <a:ext cx="5562360" cy="1989000"/>
            <a:chOff x="1447920" y="4792680"/>
            <a:chExt cx="5562360" cy="198900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447920" y="4792680"/>
              <a:ext cx="5562360" cy="19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191120" y="4792680"/>
              <a:ext cx="2819160" cy="1159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“…</a:t>
              </a:r>
              <a:r>
                <a:rPr b="0" i="1" lang="en-US" sz="1400" spc="-1" strike="noStrike">
                  <a:solidFill>
                    <a:srgbClr val="003366"/>
                  </a:solidFill>
                  <a:latin typeface="Arial"/>
                </a:rPr>
                <a:t>an acoustic guitar with a full-bodied sound in a highly portable package, is nearly indestructible not to mention super light and easy to play.”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ke should work in Technology/Telecommun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’s Important to Z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43000" y="2590920"/>
            <a:ext cx="6629400" cy="28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in should work in Manufacturing/Energy (he believes the model is flawe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36760" y="2362320"/>
            <a:ext cx="64958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’s Important to J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5943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7:16:31Z</dcterms:created>
  <dc:creator>Zain Reshad Saeed</dc:creator>
  <dc:description/>
  <dc:language>en-US</dc:language>
  <cp:lastModifiedBy>Michael Altschul</cp:lastModifiedBy>
  <dcterms:modified xsi:type="dcterms:W3CDTF">2007-12-01T16:21:47Z</dcterms:modified>
  <cp:revision>6</cp:revision>
  <dc:subject/>
  <dc:title>Slide 1</dc:title>
</cp:coreProperties>
</file>