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67AF-8611-45D5-A0AE-32F19F8E8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F845-FEB1-4622-A9B2-2D6C54E0E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DB80-559A-4958-A20E-3376ABEA0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F2D4-98C5-404F-9B2B-6B9D29C18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3DC0-381E-4AAB-847E-0B1D399C1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66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688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A255-2AE1-4FE4-AF10-7A0A2EFA8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179A-901C-4EBD-B7AD-B3F324DC2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2DEB-CAA8-4055-83C1-B22CFF250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B30D-A48F-41E1-A6AB-BA5BD3516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BE71-752F-4602-B2ED-DCA08B024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C53A-6B24-4195-ADC9-6AD16BF81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6012-FA36-4EFF-AD2B-5F7A017F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C85E-D71D-4AAC-A99A-E6FF6FAD2D59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04920"/>
            <a:ext cx="8534160" cy="31240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25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14632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Jersey City:  </a:t>
            </a:r>
            <a:br>
              <a:rPr sz="4100"/>
            </a:br>
            <a:r>
              <a:rPr b="1" lang="en-US" sz="4100" spc="-1" strike="noStrike">
                <a:solidFill>
                  <a:srgbClr val="ffffff"/>
                </a:solidFill>
                <a:latin typeface="Garamond"/>
              </a:rPr>
              <a:t>To Buy or Not to Buy</a:t>
            </a:r>
            <a:endParaRPr b="1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ree Casar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na Eychi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k Faktorovich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vid Owe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5053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ember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3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w/ S&amp;P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nly use 20% for down payment and invest the res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4581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st S&amp;P?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590920"/>
            <a:ext cx="3200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&amp;P 500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estment = $2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an = .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TD DEV = .0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invest cashflow in S&amp;P month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4267080"/>
            <a:ext cx="2955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commendation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nal Decision will depend on: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rk’s Risk Aver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uture Housing Mark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xpected Future S&amp;P Retur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76960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anagerial Problem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rmul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Overview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cenario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commendation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agerial Problem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rk won $200,000 in the lottery and wants to move to Jersey City.  Should he: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ecome a slumlord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128960" indent="-490680">
              <a:spcBef>
                <a:spcPts val="799"/>
              </a:spcBef>
              <a:buClr>
                <a:srgbClr val="000000"/>
              </a:buClr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isten to Silber and invest in the S&amp;P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using Pri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ntal Pri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av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osing Co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isk-Free Rat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do Fe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tility Co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erty Ta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5 Year Ownershi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219320"/>
            <a:ext cx="3353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acan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vestmen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us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arting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nual Increase in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ax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ecisions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% Down Pay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4- 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-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- Family H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d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% S&amp;P Inves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del Overview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2077920"/>
            <a:ext cx="88394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odel Overview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1: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No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y Condo for $350,000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y down payment of 54%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vest monthly cash into S&amp;P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075120" cy="169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531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1606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>
                  <a:alpha val="60392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cenario 2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able Averages (w/ Housing Risk)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300996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53920" y="334332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30396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00:19Z</dcterms:created>
  <dc:creator>Brianne A Casart</dc:creator>
  <dc:description/>
  <dc:language>en-US</dc:language>
  <cp:lastModifiedBy>Mark</cp:lastModifiedBy>
  <dcterms:modified xsi:type="dcterms:W3CDTF">2007-12-02T23:25:29Z</dcterms:modified>
  <cp:revision>14</cp:revision>
  <dc:subject/>
  <dc:title>New Jersey City:   To Buy or Not to Buy</dc:title>
</cp:coreProperties>
</file>