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81D2-E092-4C83-9810-D17382BA7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618D-A420-45CB-8670-37E93805F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294C-29DA-4331-AB4F-F24301398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28B0-55F2-4DF6-9AB7-4726C255B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8166-B5DD-48DD-ABBD-D6C708659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66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68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2F69-919C-4989-8D3B-03B66B454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A0CE-6B01-4EB2-89F6-3763C2787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9AA4-8830-482F-B722-3BB86FFA8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FA86-3109-4FD5-B433-7FCAF1EB0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C69F-677D-4DE4-B3DC-65B477546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4458-0ACD-4D91-9FE2-73948E659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D0CE-D853-405E-ADF3-A1DE31248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5D18-0D76-4339-8F24-585573C96F51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04920"/>
            <a:ext cx="8534160" cy="31240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25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214632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Jersey City:  </a:t>
            </a:r>
            <a:br>
              <a:rPr sz="4100"/>
            </a:b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To Buy or Not to Buy</a:t>
            </a:r>
            <a:endParaRPr b="1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ree Casar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na Eychi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rk Faktorovich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avid Owe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5053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ember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cenario 3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able Averages (w/ S&amp;P Risk)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nly use 20% for down payment and invest the res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95596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4581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st S&amp;P?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590920"/>
            <a:ext cx="32004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&amp;P 500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estment = $2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an = .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TD DEV = .0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invest cashflow in S&amp;P month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81360" cy="27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4267080"/>
            <a:ext cx="2955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commendation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nal Decision will depend on: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rk’s Risk Aver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uture Housing Mark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xpected Future S&amp;P Retur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76960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anagerial Problem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rmulatio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del Overview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cenario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commendation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agerial Problem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rk won $200,000 in the lottery and wants to move to Jersey City.  Should he: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u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ecome a slumlord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isten to Silber and invest in the S&amp;P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using Pri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ntal Pri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av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osing Co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isk-Free Rat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do Fe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tility Co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erty Ta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5 Year Ownershi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219320"/>
            <a:ext cx="3353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acanc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vestment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us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arting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nual Increase in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ax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ecisions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% Down Pay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4- Family H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-Family H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- Family H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d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% S&amp;P Invest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odel Overview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2077920"/>
            <a:ext cx="88394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odel Overview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cenario 1: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able Averages (No Risk)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uy Condo for $350,000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y down payment of 54%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vest monthly cash into S&amp;P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075120" cy="169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7531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cenario 2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able Averages (w/ Housing Risk)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3009960"/>
            <a:ext cx="4581360" cy="270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920" y="3343320"/>
            <a:ext cx="2955960" cy="2219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30396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00:19Z</dcterms:created>
  <dc:creator>Brianne A Casart</dc:creator>
  <dc:description/>
  <dc:language>en-US</dc:language>
  <cp:lastModifiedBy>Mark</cp:lastModifiedBy>
  <dcterms:modified xsi:type="dcterms:W3CDTF">2007-12-02T23:25:29Z</dcterms:modified>
  <cp:revision>14</cp:revision>
  <dc:subject/>
  <dc:title>New Jersey City:   To Buy or Not to Buy</dc:title>
</cp:coreProperties>
</file>