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8.jpeg" ContentType="image/jpeg"/>
  <Override PartName="/ppt/media/image10.jpeg" ContentType="image/jpeg"/>
  <Override PartName="/ppt/media/image16.png" ContentType="image/png"/>
  <Override PartName="/ppt/media/image14.wmf" ContentType="image/x-wmf"/>
  <Override PartName="/ppt/media/image5.jpeg" ContentType="image/jpeg"/>
  <Override PartName="/ppt/media/image1.gif" ContentType="image/gif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CA43-3437-43FF-8826-BAC8EA876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815640"/>
            <a:ext cx="822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123F-8755-429C-A0E8-84E47081A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81564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81564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47CB-C628-42E6-9394-CC4F31F31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81564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81564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81564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0B90-06DA-4701-A0E6-5A263D9BF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4886-7A77-48F9-BC5E-10AD57A33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FC02-ADD3-4E16-AA6C-C0018CAC2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4BB1-E666-4E1E-A840-95B7BE4B6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D3D4-54B2-41AC-B21C-0B9CA25C8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10663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CAE2-EF17-4260-B2D4-2E3B824E6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1564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68DE-10C1-4F88-B39C-33EB8407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81564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5598-C71F-4112-879B-4B301D86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15640"/>
            <a:ext cx="822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81C9-4108-4A8C-AEC9-69ADAA0A6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image" Target="../media/image9.jpeg"/><Relationship Id="rId11" Type="http://schemas.openxmlformats.org/officeDocument/2006/relationships/image" Target="../media/image10.jpeg"/><Relationship Id="rId12" Type="http://schemas.openxmlformats.org/officeDocument/2006/relationships/image" Target="../media/image11.jpeg"/><Relationship Id="rId13" Type="http://schemas.openxmlformats.org/officeDocument/2006/relationships/slideLayout" Target="../slideLayouts/slideLayout1.xml"/><Relationship Id="rId14" Type="http://schemas.openxmlformats.org/officeDocument/2006/relationships/slideLayout" Target="../slideLayouts/slideLayout2.xml"/><Relationship Id="rId15" Type="http://schemas.openxmlformats.org/officeDocument/2006/relationships/slideLayout" Target="../slideLayouts/slideLayout3.xml"/><Relationship Id="rId16" Type="http://schemas.openxmlformats.org/officeDocument/2006/relationships/slideLayout" Target="../slideLayouts/slideLayout4.xml"/><Relationship Id="rId17" Type="http://schemas.openxmlformats.org/officeDocument/2006/relationships/slideLayout" Target="../slideLayouts/slideLayout5.xml"/><Relationship Id="rId18" Type="http://schemas.openxmlformats.org/officeDocument/2006/relationships/slideLayout" Target="../slideLayouts/slideLayout6.xml"/><Relationship Id="rId19" Type="http://schemas.openxmlformats.org/officeDocument/2006/relationships/slideLayout" Target="../slideLayouts/slideLayout7.xml"/><Relationship Id="rId20" Type="http://schemas.openxmlformats.org/officeDocument/2006/relationships/slideLayout" Target="../slideLayouts/slideLayout8.xml"/><Relationship Id="rId21" Type="http://schemas.openxmlformats.org/officeDocument/2006/relationships/slideLayout" Target="../slideLayouts/slideLayout9.xml"/><Relationship Id="rId22" Type="http://schemas.openxmlformats.org/officeDocument/2006/relationships/slideLayout" Target="../slideLayouts/slideLayout10.xml"/><Relationship Id="rId23" Type="http://schemas.openxmlformats.org/officeDocument/2006/relationships/slideLayout" Target="../slideLayouts/slideLayout11.xml"/><Relationship Id="rId2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ion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C40A9-BF1B-49AD-9C55-B0EAA7E5B5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5527800"/>
            <a:ext cx="1554120" cy="13302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543800" y="5867280"/>
            <a:ext cx="1444680" cy="76068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05040" cy="1143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838080" y="0"/>
            <a:ext cx="1498680" cy="114300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6"/>
          <a:stretch/>
        </p:blipFill>
        <p:spPr>
          <a:xfrm>
            <a:off x="3276720" y="0"/>
            <a:ext cx="785520" cy="1143000"/>
          </a:xfrm>
          <a:prstGeom prst="rect">
            <a:avLst/>
          </a:prstGeom>
          <a:ln w="0">
            <a:noFill/>
          </a:ln>
        </p:spPr>
      </p:pic>
      <p:pic>
        <p:nvPicPr>
          <p:cNvPr id="10" name="" descr=""/>
          <p:cNvPicPr/>
          <p:nvPr/>
        </p:nvPicPr>
        <p:blipFill>
          <a:blip r:embed="rId7"/>
          <a:stretch/>
        </p:blipFill>
        <p:spPr>
          <a:xfrm>
            <a:off x="2286000" y="0"/>
            <a:ext cx="1012680" cy="1143000"/>
          </a:xfrm>
          <a:prstGeom prst="rect">
            <a:avLst/>
          </a:prstGeom>
          <a:ln w="0">
            <a:noFill/>
          </a:ln>
        </p:spPr>
      </p:pic>
      <p:pic>
        <p:nvPicPr>
          <p:cNvPr id="11" name="" descr=""/>
          <p:cNvPicPr/>
          <p:nvPr/>
        </p:nvPicPr>
        <p:blipFill>
          <a:blip r:embed="rId8"/>
          <a:stretch/>
        </p:blipFill>
        <p:spPr>
          <a:xfrm>
            <a:off x="5029200" y="0"/>
            <a:ext cx="1143000" cy="1138320"/>
          </a:xfrm>
          <a:prstGeom prst="rect">
            <a:avLst/>
          </a:prstGeom>
          <a:ln w="0">
            <a:noFill/>
          </a:ln>
        </p:spPr>
      </p:pic>
      <p:pic>
        <p:nvPicPr>
          <p:cNvPr id="12" name="" descr="Photo of John Edwards"/>
          <p:cNvPicPr/>
          <p:nvPr/>
        </p:nvPicPr>
        <p:blipFill>
          <a:blip r:embed="rId9"/>
          <a:stretch/>
        </p:blipFill>
        <p:spPr>
          <a:xfrm>
            <a:off x="4038480" y="0"/>
            <a:ext cx="993960" cy="1143000"/>
          </a:xfrm>
          <a:prstGeom prst="rect">
            <a:avLst/>
          </a:prstGeom>
          <a:ln w="0">
            <a:noFill/>
          </a:ln>
        </p:spPr>
      </p:pic>
      <p:pic>
        <p:nvPicPr>
          <p:cNvPr id="13" name="" descr="Photo of John McCain"/>
          <p:cNvPicPr/>
          <p:nvPr/>
        </p:nvPicPr>
        <p:blipFill>
          <a:blip r:embed="rId10"/>
          <a:stretch/>
        </p:blipFill>
        <p:spPr>
          <a:xfrm>
            <a:off x="6172200" y="0"/>
            <a:ext cx="993600" cy="1143000"/>
          </a:xfrm>
          <a:prstGeom prst="rect">
            <a:avLst/>
          </a:prstGeom>
          <a:ln w="0">
            <a:noFill/>
          </a:ln>
        </p:spPr>
      </p:pic>
      <p:pic>
        <p:nvPicPr>
          <p:cNvPr id="14" name="" descr="Photo of Fred Thompson"/>
          <p:cNvPicPr/>
          <p:nvPr/>
        </p:nvPicPr>
        <p:blipFill>
          <a:blip r:embed="rId11"/>
          <a:stretch/>
        </p:blipFill>
        <p:spPr>
          <a:xfrm>
            <a:off x="7162920" y="0"/>
            <a:ext cx="993600" cy="1143000"/>
          </a:xfrm>
          <a:prstGeom prst="rect">
            <a:avLst/>
          </a:prstGeom>
          <a:ln w="0">
            <a:noFill/>
          </a:ln>
        </p:spPr>
      </p:pic>
      <p:pic>
        <p:nvPicPr>
          <p:cNvPr id="15" name="" descr="Photo of "/>
          <p:cNvPicPr/>
          <p:nvPr/>
        </p:nvPicPr>
        <p:blipFill>
          <a:blip r:embed="rId12"/>
          <a:stretch/>
        </p:blipFill>
        <p:spPr>
          <a:xfrm>
            <a:off x="8153280" y="0"/>
            <a:ext cx="993960" cy="114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3"/>
    <p:sldLayoutId id="2147483650" r:id="rId14"/>
    <p:sldLayoutId id="2147483651" r:id="rId15"/>
    <p:sldLayoutId id="2147483652" r:id="rId16"/>
    <p:sldLayoutId id="2147483653" r:id="rId17"/>
    <p:sldLayoutId id="2147483654" r:id="rId18"/>
    <p:sldLayoutId id="2147483655" r:id="rId19"/>
    <p:sldLayoutId id="2147483656" r:id="rId20"/>
    <p:sldLayoutId id="2147483657" r:id="rId21"/>
    <p:sldLayoutId id="2147483658" r:id="rId22"/>
    <p:sldLayoutId id="2147483659" r:id="rId23"/>
    <p:sldLayoutId id="2147483660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hyperlink" Target="http://projects.washingtonpost.com/2008-presidential-candidates/john-edwards/" TargetMode="External"/><Relationship Id="rId7" Type="http://schemas.openxmlformats.org/officeDocument/2006/relationships/image" Target="../media/image8.jpeg"/><Relationship Id="rId8" Type="http://schemas.openxmlformats.org/officeDocument/2006/relationships/hyperlink" Target="http://projects.washingtonpost.com/2008-presidential-candidates/john-mccain/" TargetMode="External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81120"/>
            <a:ext cx="76960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ampaign Strategy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hich states are important in 2008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52280" y="43430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ndrea Blotzer, Payal Dalal, Charlie Dorrier, Marissa Gomez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cision Models – Professor David Jura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5040" cy="1143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838080" y="0"/>
            <a:ext cx="1498680" cy="1143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76720" y="0"/>
            <a:ext cx="785520" cy="1143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2286000" y="0"/>
            <a:ext cx="1012680" cy="1143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5029200" y="0"/>
            <a:ext cx="1143000" cy="11383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Photo of John Edwards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038480" y="0"/>
            <a:ext cx="99396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Photo of John McCain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172200" y="0"/>
            <a:ext cx="993600" cy="1143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Photo of Fred Thompson"/>
          <p:cNvPicPr/>
          <p:nvPr/>
        </p:nvPicPr>
        <p:blipFill>
          <a:blip r:embed="rId10"/>
          <a:stretch/>
        </p:blipFill>
        <p:spPr>
          <a:xfrm>
            <a:off x="7162920" y="0"/>
            <a:ext cx="993600" cy="1143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Photo of "/>
          <p:cNvPicPr/>
          <p:nvPr/>
        </p:nvPicPr>
        <p:blipFill>
          <a:blip r:embed="rId11"/>
          <a:stretch/>
        </p:blipFill>
        <p:spPr>
          <a:xfrm>
            <a:off x="8153280" y="0"/>
            <a:ext cx="9939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uilding the Mod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686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ariables standardized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ale of 0 to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resholds created to “bucket” specific varia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traints imposed on model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me limit on total # of hours available = 7 months,12 hrs/d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imum of 2 weeks in each st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-negativity constrai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ariable weights drive model outpu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048120" y="1265400"/>
            <a:ext cx="6508800" cy="44496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31640" y="130824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d-Raising and Trending Primary Drivers of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22640" y="4946760"/>
            <a:ext cx="350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und Raising Potent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22640" y="3848040"/>
            <a:ext cx="304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tewide Election Tre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22640" y="293364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lectoral Vo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22640" y="247644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oter Turn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22640" y="209556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rength of Political Ident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05120" y="3772080"/>
            <a:ext cx="304560" cy="1752480"/>
          </a:xfrm>
          <a:custGeom>
            <a:avLst/>
            <a:gdLst>
              <a:gd name="textAreaLeft" fmla="*/ 194760 w 304560"/>
              <a:gd name="textAreaRight" fmla="*/ 304920 w 30456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4216320"/>
            <a:ext cx="146052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utput Varies by Input 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rcRect l="1595" t="15223" r="7782" b="12232"/>
          <a:stretch/>
        </p:blipFill>
        <p:spPr>
          <a:xfrm>
            <a:off x="1060560" y="1774800"/>
            <a:ext cx="7092720" cy="40924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80880" y="12952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lver Used to Optimize Total Imp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51"/>
              </a:spcBef>
              <a:buClr>
                <a:srgbClr val="80808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8080"/>
                </a:solidFill>
                <a:latin typeface="Arial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51"/>
              </a:spcBef>
              <a:buClr>
                <a:srgbClr val="80808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8080"/>
                </a:solidFill>
                <a:latin typeface="Arial"/>
              </a:rPr>
              <a:t>Key Variables and The Mo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21932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Electoral Votes are a candidate’s priority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61960" y="2057400"/>
            <a:ext cx="5472360" cy="40291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828800" y="3886200"/>
            <a:ext cx="228600" cy="228600"/>
          </a:xfrm>
          <a:prstGeom prst="star5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391520" y="1371600"/>
            <a:ext cx="1447560" cy="445608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lifor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lor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eorg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llino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di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ssachuset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chi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ssou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w Jers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w Y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rth Carol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h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nnsylv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nness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rgi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shing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715000" y="5181480"/>
            <a:ext cx="228600" cy="228600"/>
          </a:xfrm>
          <a:prstGeom prst="star5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410080" y="4648320"/>
            <a:ext cx="228600" cy="228600"/>
          </a:xfrm>
          <a:prstGeom prst="star5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00600" y="3809880"/>
            <a:ext cx="228600" cy="228600"/>
          </a:xfrm>
          <a:prstGeom prst="star5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95680" y="4038480"/>
            <a:ext cx="228600" cy="228600"/>
          </a:xfrm>
          <a:prstGeom prst="star5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248520" y="3733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77120" y="35812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J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781680" y="3581280"/>
            <a:ext cx="228600" cy="228600"/>
          </a:xfrm>
          <a:prstGeom prst="star5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3276720"/>
            <a:ext cx="228600" cy="228600"/>
          </a:xfrm>
          <a:prstGeom prst="star5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34120" y="3733920"/>
            <a:ext cx="228600" cy="228600"/>
          </a:xfrm>
          <a:prstGeom prst="star5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791320" y="3581280"/>
            <a:ext cx="228600" cy="228600"/>
          </a:xfrm>
          <a:prstGeom prst="star5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105520" y="4267080"/>
            <a:ext cx="228600" cy="228600"/>
          </a:xfrm>
          <a:prstGeom prst="star5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09880" y="4800600"/>
            <a:ext cx="228600" cy="228600"/>
          </a:xfrm>
          <a:prstGeom prst="star5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3962520"/>
            <a:ext cx="228600" cy="228600"/>
          </a:xfrm>
          <a:prstGeom prst="star5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3809880"/>
            <a:ext cx="228600" cy="228600"/>
          </a:xfrm>
          <a:prstGeom prst="star5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6400800" y="327636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553080" y="3124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0" y="3124080"/>
            <a:ext cx="228600" cy="228600"/>
          </a:xfrm>
          <a:prstGeom prst="star5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181480" y="3352680"/>
            <a:ext cx="228600" cy="228600"/>
          </a:xfrm>
          <a:prstGeom prst="star5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867280" y="4267080"/>
            <a:ext cx="228600" cy="228600"/>
          </a:xfrm>
          <a:prstGeom prst="star5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33720" y="2666880"/>
            <a:ext cx="228600" cy="228600"/>
          </a:xfrm>
          <a:prstGeom prst="star5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1066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tates Trending Republica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461960" y="2057400"/>
            <a:ext cx="5472360" cy="40291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7391520" y="1371600"/>
            <a:ext cx="1447560" cy="4456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kans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lor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lor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eorg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uisi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ry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ssachuset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nneso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nt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w Hampsh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w Jers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w Y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h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reg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nnsylv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th Carol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th Dako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518148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10080" y="464832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248520" y="3733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35812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J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81680" y="358128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9920" y="327672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34120" y="373392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1320" y="358128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6400800" y="327636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553080" y="3124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0" y="312408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495680" y="441972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76720" y="388620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495680" y="487692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019920" y="3886200"/>
            <a:ext cx="4572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400800" y="38098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705720" y="380988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297180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48120" y="289548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6248160" y="28951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19920" y="26668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867280" y="266688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057400" y="304812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715000" y="449568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733920" y="327672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5472000" cy="40291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523880" y="3429000"/>
            <a:ext cx="228600" cy="228600"/>
          </a:xfrm>
          <a:prstGeom prst="star5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086600" y="1600200"/>
            <a:ext cx="1752480" cy="42238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lifor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lor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llino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di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ow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ntuc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ssissip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ssou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nt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bras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h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reg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nnsylv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hode Is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m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rgi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91120" y="3581280"/>
            <a:ext cx="228600" cy="228600"/>
          </a:xfrm>
          <a:prstGeom prst="star5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419720" y="4343400"/>
            <a:ext cx="304560" cy="228600"/>
          </a:xfrm>
          <a:prstGeom prst="star5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743200" y="2438280"/>
            <a:ext cx="228600" cy="228600"/>
          </a:xfrm>
          <a:prstGeom prst="star5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029200" y="3276720"/>
            <a:ext cx="228600" cy="228600"/>
          </a:xfrm>
          <a:prstGeom prst="star5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419720" y="3276720"/>
            <a:ext cx="228600" cy="228600"/>
          </a:xfrm>
          <a:prstGeom prst="star5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038480" y="3124080"/>
            <a:ext cx="228600" cy="228600"/>
          </a:xfrm>
          <a:prstGeom prst="star5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600200" y="2590920"/>
            <a:ext cx="228600" cy="228600"/>
          </a:xfrm>
          <a:prstGeom prst="star5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895480" y="3505320"/>
            <a:ext cx="228600" cy="228600"/>
          </a:xfrm>
          <a:prstGeom prst="star5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486400" y="3124080"/>
            <a:ext cx="228600" cy="228600"/>
          </a:xfrm>
          <a:prstGeom prst="star5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553080" y="2590920"/>
            <a:ext cx="228600" cy="228600"/>
          </a:xfrm>
          <a:prstGeom prst="star5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486400" y="3505320"/>
            <a:ext cx="228600" cy="228600"/>
          </a:xfrm>
          <a:prstGeom prst="star5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3200400"/>
            <a:ext cx="228600" cy="228600"/>
          </a:xfrm>
          <a:prstGeom prst="star5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477120" y="2895480"/>
            <a:ext cx="228600" cy="228600"/>
          </a:xfrm>
          <a:prstGeom prst="star5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248520" y="289548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6095880" y="304776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248520" y="25909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tates Trending Democrati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876920" y="3581280"/>
            <a:ext cx="228600" cy="228600"/>
          </a:xfrm>
          <a:prstGeom prst="star5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943600" y="2743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3276720"/>
            <a:ext cx="228600" cy="228600"/>
          </a:xfrm>
          <a:prstGeom prst="star5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ost Lucrative States for Republica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461960" y="2057400"/>
            <a:ext cx="5472360" cy="40291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828800" y="388620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086600" y="1905120"/>
            <a:ext cx="1752480" cy="3991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iz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lifor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lor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eorg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llino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ry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chi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ssou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w Jers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w Y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h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nnsylv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nness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rgi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715000" y="518148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410080" y="464832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800600" y="380988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495680" y="403848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248520" y="3733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477120" y="35812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J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781680" y="358128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19920" y="327672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334120" y="373392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791320" y="358128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105520" y="426708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480060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67280" y="396252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514600" y="434340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400800" y="38098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019920" y="3886200"/>
            <a:ext cx="4572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05720" y="380988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105520" y="335268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5472000" cy="40291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6553080" y="2514600"/>
            <a:ext cx="228600" cy="228600"/>
          </a:xfrm>
          <a:prstGeom prst="star5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086600" y="1743120"/>
            <a:ext cx="1752480" cy="35272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lor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w Jers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h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ry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ssachuset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llino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nectic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shing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nnsylv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w Y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rgi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lifor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10080" y="4724280"/>
            <a:ext cx="228600" cy="228600"/>
          </a:xfrm>
          <a:prstGeom prst="star5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81280" y="4419720"/>
            <a:ext cx="304920" cy="228600"/>
          </a:xfrm>
          <a:prstGeom prst="star5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828800" y="2209680"/>
            <a:ext cx="228600" cy="228600"/>
          </a:xfrm>
          <a:prstGeom prst="star5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486400" y="3124080"/>
            <a:ext cx="228600" cy="228600"/>
          </a:xfrm>
          <a:prstGeom prst="star5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3276720"/>
            <a:ext cx="228600" cy="228600"/>
          </a:xfrm>
          <a:prstGeom prst="star5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638680" y="2819520"/>
            <a:ext cx="228600" cy="228600"/>
          </a:xfrm>
          <a:prstGeom prst="star5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486400" y="3505320"/>
            <a:ext cx="228600" cy="228600"/>
          </a:xfrm>
          <a:prstGeom prst="star5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477120" y="3048120"/>
            <a:ext cx="228600" cy="228600"/>
          </a:xfrm>
          <a:prstGeom prst="star5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172200" y="30481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J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5943600" y="3200400"/>
            <a:ext cx="2286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ost Lucrative States for Democra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029200" y="3276720"/>
            <a:ext cx="228600" cy="228600"/>
          </a:xfrm>
          <a:prstGeom prst="star5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447920" y="3352680"/>
            <a:ext cx="304560" cy="228600"/>
          </a:xfrm>
          <a:prstGeom prst="star5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095880" y="335268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248520" y="27432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6095880" y="2971800"/>
            <a:ext cx="2286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53080" y="2743200"/>
            <a:ext cx="228600" cy="228600"/>
          </a:xfrm>
          <a:prstGeom prst="star5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477120" y="3352680"/>
            <a:ext cx="228600" cy="228600"/>
          </a:xfrm>
          <a:prstGeom prst="star5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248520" y="25146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6172200" y="274284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943600" y="342900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447920" y="1981080"/>
            <a:ext cx="5273640" cy="402912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219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bining all the factors. . 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467480" y="1676520"/>
            <a:ext cx="1447920" cy="3991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lifor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lor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eorg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llino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uisi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nneso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ssou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w Jers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w Y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h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reg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nnsylv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nness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rgi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257800" y="457200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343400" y="480060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152960" y="304812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343400" y="3962520"/>
            <a:ext cx="228600" cy="228600"/>
          </a:xfrm>
          <a:prstGeom prst="star5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019920" y="3581280"/>
            <a:ext cx="5331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477120" y="35812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J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915080" y="421632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8680" y="388620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676520" y="3505320"/>
            <a:ext cx="228600" cy="228600"/>
          </a:xfrm>
          <a:prstGeom prst="star5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486400" y="5029200"/>
            <a:ext cx="228600" cy="228600"/>
          </a:xfrm>
          <a:prstGeom prst="star5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15000" y="3200400"/>
            <a:ext cx="228600" cy="228600"/>
          </a:xfrm>
          <a:prstGeom prst="star5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629400" y="3429000"/>
            <a:ext cx="228600" cy="228600"/>
          </a:xfrm>
          <a:prstGeom prst="star5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876920" y="3657600"/>
            <a:ext cx="228600" cy="228600"/>
          </a:xfrm>
          <a:prstGeom prst="star5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181480" y="3581280"/>
            <a:ext cx="228600" cy="228600"/>
          </a:xfrm>
          <a:prstGeom prst="star5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0" y="3657600"/>
            <a:ext cx="228600" cy="228600"/>
          </a:xfrm>
          <a:prstGeom prst="star5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191120" y="3505320"/>
            <a:ext cx="228600" cy="228600"/>
          </a:xfrm>
          <a:prstGeom prst="star5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905120" y="2971800"/>
            <a:ext cx="228600" cy="228600"/>
          </a:xfrm>
          <a:prstGeom prst="star5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657600" y="4724280"/>
            <a:ext cx="228600" cy="228600"/>
          </a:xfrm>
          <a:prstGeom prst="star5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3505320"/>
            <a:ext cx="228600" cy="228600"/>
          </a:xfrm>
          <a:prstGeom prst="star5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705720" y="3048120"/>
            <a:ext cx="228600" cy="228600"/>
          </a:xfrm>
          <a:prstGeom prst="star5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248520" y="379404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943600" y="380988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24480" y="4038480"/>
            <a:ext cx="228600" cy="228600"/>
          </a:xfrm>
          <a:prstGeom prst="star5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3886200"/>
            <a:ext cx="228600" cy="228600"/>
          </a:xfrm>
          <a:prstGeom prst="star5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6172200" y="320004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00800" y="30481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01520" y="1600200"/>
            <a:ext cx="1447920" cy="39916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lifor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lor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llino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di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ow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ry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ssachuset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ssou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w Jers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w Y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h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reg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nnsylv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rgi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5638680"/>
            <a:ext cx="2971800" cy="693000"/>
            <a:chOff x="1828800" y="5638680"/>
            <a:chExt cx="2971800" cy="693000"/>
          </a:xfrm>
        </p:grpSpPr>
        <p:sp>
          <p:nvSpPr>
            <p:cNvPr id="249" name=""/>
            <p:cNvSpPr/>
            <p:nvPr/>
          </p:nvSpPr>
          <p:spPr>
            <a:xfrm>
              <a:off x="1981080" y="5715000"/>
              <a:ext cx="152640" cy="1522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981080" y="5905440"/>
              <a:ext cx="15264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981080" y="6095880"/>
              <a:ext cx="152640" cy="15264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3720" y="5638680"/>
              <a:ext cx="266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mocratic Prior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133720" y="5819760"/>
              <a:ext cx="266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publican Prior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133720" y="6024600"/>
              <a:ext cx="266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mocratic/Republican Prior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828800" y="5638680"/>
              <a:ext cx="28954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51"/>
              </a:spcBef>
              <a:buClr>
                <a:srgbClr val="80808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8080"/>
                </a:solidFill>
                <a:latin typeface="Arial"/>
              </a:rPr>
              <a:t>Key Variables and The Mo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51"/>
              </a:spcBef>
              <a:buClr>
                <a:srgbClr val="80808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8080"/>
                </a:solidFill>
                <a:latin typeface="Arial"/>
              </a:rPr>
              <a:t>Resul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219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2008 election = contention + challeng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reased polarization in presidential polit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incumbents in the primaries since 192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umber of well known candidates in the run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mpaign costs have nearly doubled since 199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ass roots activism and the internet defy old campaign conven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219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fter the Dust Settles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minees in general election will have to make many decis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to spend money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to spend tim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re to spend tim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 States, 538 Electoral votes, 6 Months – so many stops, so little ti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tat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rcRect l="4208" t="34811" r="34811" b="17729"/>
          <a:stretch/>
        </p:blipFill>
        <p:spPr>
          <a:xfrm>
            <a:off x="0" y="2833560"/>
            <a:ext cx="4451400" cy="2347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1600" y="22240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15000" y="2209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ttleground 2008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Current swing states"/>
          <p:cNvPicPr/>
          <p:nvPr/>
        </p:nvPicPr>
        <p:blipFill>
          <a:blip r:embed="rId2"/>
          <a:stretch/>
        </p:blipFill>
        <p:spPr>
          <a:xfrm>
            <a:off x="5396040" y="3014640"/>
            <a:ext cx="2833560" cy="18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esearch Ques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tting every stop in every state on the campaign trail is not logical nor physically fea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if a computer model could tell a candidate where to go and for how long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DECISION VARIABLE</a:t>
            </a:r>
            <a:r>
              <a:rPr b="0" lang="en-US" sz="26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What is the optimal number of hours a Democrat or Republican should spend in each state during the general electio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Value of the Mod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del output: # of hours a candidate should spend in each st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didate can maximize resources (time and money) by limiting campaigning to certain sta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es prioritized by a number of variab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51"/>
              </a:spcBef>
              <a:buClr>
                <a:srgbClr val="80808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8080"/>
                </a:solidFill>
                <a:latin typeface="Arial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ey Variables and The Mo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51"/>
              </a:spcBef>
              <a:buClr>
                <a:srgbClr val="80808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8080"/>
                </a:solidFill>
                <a:latin typeface="Arial"/>
              </a:rPr>
              <a:t>Resul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Key Variabl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ectoral Vo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ent Statewide Voting Patter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sidential, Gubernatorial, Senator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ndraising by St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ter Turnou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rength of State Political Ident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00:36:06Z</dcterms:created>
  <dc:creator>Payal</dc:creator>
  <dc:description/>
  <dc:language>en-US</dc:language>
  <cp:lastModifiedBy>Charlie</cp:lastModifiedBy>
  <dcterms:modified xsi:type="dcterms:W3CDTF">2007-11-26T17:58:26Z</dcterms:modified>
  <cp:revision>23</cp:revision>
  <dc:subject/>
  <dc:title>Campaign Strategy:  which states are important in 2008?</dc:title>
</cp:coreProperties>
</file>