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gif" ContentType="image/gi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1E6-D5BE-4ED5-9F45-61AC10CB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357-3C8B-4990-971A-5952CED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2DE-353C-4191-B475-45DBD80F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81D-2872-45D0-874F-7E61D2BA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CED-D0B3-43E4-9952-C9A0ACC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3A1-EE30-4D84-8916-E415E89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D07-3705-4F60-B6DE-6E1704C4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250-84CC-4AD9-A89D-865681E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675-25F8-4A99-BE75-C8BDBC1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054-62E3-40E2-9D05-37895E1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41B-9DD9-45C6-992B-A74D298D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036-CE4A-4733-A257-28B209C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5CD-435D-40C0-9525-EC85C299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527800"/>
            <a:ext cx="1554120" cy="13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1444680" cy="760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Photo of John Edwards"/>
          <p:cNvPicPr/>
          <p:nvPr/>
        </p:nvPicPr>
        <p:blipFill>
          <a:blip r:embed="rId9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Photo of John McCain"/>
          <p:cNvPicPr/>
          <p:nvPr/>
        </p:nvPicPr>
        <p:blipFill>
          <a:blip r:embed="rId10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Photo of Fred Thompson"/>
          <p:cNvPicPr/>
          <p:nvPr/>
        </p:nvPicPr>
        <p:blipFill>
          <a:blip r:embed="rId11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Photo of "/>
          <p:cNvPicPr/>
          <p:nvPr/>
        </p:nvPicPr>
        <p:blipFill>
          <a:blip r:embed="rId12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projects.washingtonpost.com/2008-presidential-candidates/john-edwards/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projects.washingtonpost.com/2008-presidential-candidates/john-mccain/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112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paign Strategy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states are important in 2008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4343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rea Blotzer, Payal Dalal, Charlie Dorrier, Marissa Gom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sion Models – Professor David Jur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hoto of John Edward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hoto of John McCa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Photo of Fred Thompson"/>
          <p:cNvPicPr/>
          <p:nvPr/>
        </p:nvPicPr>
        <p:blipFill>
          <a:blip r:embed="rId10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hoto of "/>
          <p:cNvPicPr/>
          <p:nvPr/>
        </p:nvPicPr>
        <p:blipFill>
          <a:blip r:embed="rId11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ilding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 standardiz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 of 0 t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created to “bucket” specif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 imposed 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limit on total # of hours available = 7 months,12 hrs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of 2 weeks in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negativity constra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weights drive model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1265400"/>
            <a:ext cx="6508800" cy="444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13082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-Raising and Trending Primary Drivers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2640" y="494676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d Raising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384804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ewide Election Tr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9336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ectoral V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2476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oter Tur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2640" y="209556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ength of Political Id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77208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216320"/>
            <a:ext cx="1460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 Varies by Inpu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595" t="15223" r="7782" b="12232"/>
          <a:stretch/>
        </p:blipFill>
        <p:spPr>
          <a:xfrm>
            <a:off x="1060560" y="1774800"/>
            <a:ext cx="7092720" cy="409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29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ver Used to Optimize Tot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Electoral Votes are a candidate’s priorit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3526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666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Republic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D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419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76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1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48160" y="2895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666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66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495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3880" y="34290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1600200"/>
            <a:ext cx="1752480" cy="42238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r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34340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438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2004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8954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5880" y="3047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5909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Democrat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Republic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1905120"/>
            <a:ext cx="175248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3434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352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53080" y="2514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1743120"/>
            <a:ext cx="1752480" cy="352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724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4419720"/>
            <a:ext cx="30492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209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28195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43600" y="32004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Democra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35268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7432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588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743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352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172200" y="2742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429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273640" cy="40291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all the factors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1676520"/>
            <a:ext cx="144792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45720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296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19920" y="35812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15080" y="4216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5029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2004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4290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657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657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724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7940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038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172200" y="3200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20" y="1600200"/>
            <a:ext cx="1447920" cy="3991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5638680"/>
            <a:ext cx="2971800" cy="693000"/>
            <a:chOff x="1828800" y="5638680"/>
            <a:chExt cx="2971800" cy="693000"/>
          </a:xfrm>
        </p:grpSpPr>
        <p:sp>
          <p:nvSpPr>
            <p:cNvPr id="249" name=""/>
            <p:cNvSpPr/>
            <p:nvPr/>
          </p:nvSpPr>
          <p:spPr>
            <a:xfrm>
              <a:off x="1981080" y="571500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590544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6095880"/>
              <a:ext cx="152640" cy="152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3720" y="56386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3720" y="58197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60246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/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638680"/>
              <a:ext cx="2895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08 election = contention + 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olarization in presidential 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cumbents in the primaries since 19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well known candidates in the ru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paign costs have nearly doubled since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 roots activism and the internet defy old campaign con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the Dust Settle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minees in general election will have to make many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mone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 States, 538 Electoral votes, 6 Months – so many stops, so littl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4208" t="34811" r="34811" b="17729"/>
          <a:stretch/>
        </p:blipFill>
        <p:spPr>
          <a:xfrm>
            <a:off x="0" y="2833560"/>
            <a:ext cx="4451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22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ground 200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Current swing states"/>
          <p:cNvPicPr/>
          <p:nvPr/>
        </p:nvPicPr>
        <p:blipFill>
          <a:blip r:embed="rId2"/>
          <a:stretch/>
        </p:blipFill>
        <p:spPr>
          <a:xfrm>
            <a:off x="5396040" y="3014640"/>
            <a:ext cx="28335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ting every stop in every state on the campaign trail is not logical nor physically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a computer model could tell a candidate where to go and for how lo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CISION VARIABLE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the optimal number of hours a Democrat or Republican should spend in each state during the general 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lue of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: # of hours a candidate should spend in each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didate can maximize resources (time and money) by limiting campaigning to certai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prioritized by a number of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y Vari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oral V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Statewide Vot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idential, Gubernatorial, Senat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raising by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r Turn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ngth of State Political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0:36:06Z</dcterms:created>
  <dc:creator>Payal</dc:creator>
  <dc:description/>
  <dc:language>en-US</dc:language>
  <cp:lastModifiedBy>Charlie</cp:lastModifiedBy>
  <dcterms:modified xsi:type="dcterms:W3CDTF">2007-11-26T17:58:26Z</dcterms:modified>
  <cp:revision>23</cp:revision>
  <dc:subject/>
  <dc:title>Campaign Strategy:  which states are important in 2008?</dc:title>
</cp:coreProperties>
</file>