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9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5.png" ContentType="image/png"/>
  <Override PartName="/ppt/media/image21.png" ContentType="image/png"/>
  <Override PartName="/ppt/media/image3.wmf" ContentType="image/x-wmf"/>
  <Override PartName="/ppt/media/image13.jpeg" ContentType="image/jpeg"/>
  <Override PartName="/ppt/media/image19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3B413-2564-4137-A0BD-98CD462C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E357C-4E27-4C12-9EA2-062BD0EC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079F6-9DDF-427A-AD2A-E8651339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5454F-E933-4C6F-8297-36DFB4C4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57F4-59EE-4DA0-BA85-C7CD3D19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3ACA-CEDE-46CA-A28D-84B9A422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0ABD-FFA6-4E1A-BE64-FD9CEA2F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904A-8E30-416F-8042-3A861269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F119-DC2B-400D-A708-3C8F4FC1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B9CE-56A2-49BF-AE0F-61D5B00E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3421-D148-4EAD-B1CE-8C1D9366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1F3C4-E5B6-4C82-94D1-02793D5E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DD57-19C1-4636-9992-E60162C8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9AA3-D188-408E-A74F-1B65FA09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1A23-2036-4C17-98B1-04BC7EB8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B91C-FC7C-49BD-8EEC-3A09D8E8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0C71-F639-4BC7-8632-E50A4C09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83D0C-71BF-46EE-9F74-61790761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2404D-02CB-46E7-87F0-92EA348A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5F0F1-6F40-4B4C-B1C4-6A61835B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994B2-7E69-4D98-A4A4-E4F7F003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10180-86AE-4644-8A1C-09FF1E4E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13A82-4C82-4A40-B228-646AEBBF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5659E-4C3E-45AD-81AB-28B98BC7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D632-4ECF-4278-88F8-D2C7AAE509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477D-D733-4739-A459-59F3E115EC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76720" y="152280"/>
            <a:ext cx="5486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ravel Agency Start-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286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rad Feinste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ena de Marc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ddharth Gup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ancy Sard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sz-Yan Doris Su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438280"/>
            <a:ext cx="64008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rystal Ball Travels</a:t>
            </a:r>
            <a:br>
              <a:rPr sz="3600"/>
            </a:b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We know where you want to go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5272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th 95% certaint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67480" y="228600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for Crystal Ball Model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variable: # of packages /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distribution based on historical data: US data expressed per month. New York having 10%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r target is 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. deviation &amp; Mean from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= Revenue – Agent Costs – Fix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543800" y="304920"/>
            <a:ext cx="1273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estin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8858520" cy="4695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543800" y="228600"/>
            <a:ext cx="1273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estin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9010440" cy="3733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410080" y="457200"/>
            <a:ext cx="1160640" cy="1371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010280" y="685800"/>
            <a:ext cx="172260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ystal Ball Result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estin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5530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will be 250 packages to the 8 destinations together with 98% certain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952880" cy="3486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ystal Ball Result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estin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5181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nues will be between $50K and $71.9K with a 90% 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51800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will be above $50K with 90% 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868400"/>
            <a:ext cx="4267440" cy="3235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81000" y="1892160"/>
            <a:ext cx="4567320" cy="3213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ystal Ball Result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estin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610480" cy="2557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-a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icate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Solver model with multiple decisio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ystal ball provides more realistic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esults from Solver and Crystal 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r maximum revenues driven by profit mar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ystal Ball revenues driven by random de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estimates look favorabl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egotiate contractual agreements with airlines and hotel to maximize 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multiple destination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expansion to other US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the more profitable dest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 #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effects of FX on 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743200" y="152280"/>
            <a:ext cx="1828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mon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3801960" cy="3985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481560" cy="3809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idea: travel agency based in NYC to sell travel packages going to 8 different cities, with various accommod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tep: estimate  maximum revenues based on contractual agreements (use of Sol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step: based on maximized revenues calculate profits with randomized demand (use of crystal ba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 Euro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Statistics of Gre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kish Statistical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5146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for Solver Mod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1774800"/>
            <a:ext cx="8871120" cy="4854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715000" y="3352680"/>
            <a:ext cx="31748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tability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contractual agre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from Flights – 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from Accommodation (low) – 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from Accommodation (med) – 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from Accommodation (high) – 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fixed costs, agent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ts not always fully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162920" y="4572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mand Assumptions / 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from Accommo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ow) – 6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ed) – 2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igh) –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Packages per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l Minimum of 3 packages per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638680" y="2133720"/>
            <a:ext cx="284184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er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280" y="1805040"/>
            <a:ext cx="8915400" cy="4367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er Result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ly sensitiv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3880" y="1963800"/>
            <a:ext cx="5715000" cy="458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er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292720" cy="5334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231040" y="6087960"/>
            <a:ext cx="9129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21:29:39Z</dcterms:created>
  <dc:creator> Brad Feinstein</dc:creator>
  <dc:description/>
  <dc:language>en-US</dc:language>
  <cp:lastModifiedBy> Brad Feinstein</cp:lastModifiedBy>
  <dcterms:modified xsi:type="dcterms:W3CDTF">2007-12-03T06:44:04Z</dcterms:modified>
  <cp:revision>15</cp:revision>
  <dc:subject/>
  <dc:title>Slide 1</dc:title>
</cp:coreProperties>
</file>