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ook Antiqu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1DEADE5-0ECC-4279-B6E1-C6E0CC434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ed an individual’s cash flow for an individual for thei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cted income, expenses, savings, and annual investmen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random event generator to incorporate “likely” events that may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dentified 1-time and lifetime events, probabilities, and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d Crystal Ball to determine the outcomes of key 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when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ther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vestment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Flow elements: some defined, some random (which are green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Inputs (rationale for inputs and impact on income and expenses, describe cash flow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Generator (how random events, means and standard deviations are applied, timing of random events – when appli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ed an individual’s cash flow for an individual for thei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cted income, expenses, savings, and annual investmen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random event generator to incorporate “likely” events that may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dentified 1-time and lifetime events, probabilities, and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d Crystal Ball to determine the outcomes of key 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when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ther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vestment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Flow elements: some defined, some random (which are green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Inputs (rationale for inputs and impact on income and expenses, describe cash flow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Generator (how random events, means and standard deviations are applied, timing of random events – when appli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ed an individual’s cash flow for an individual for their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expected income, expenses, savings, and annual investment re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random event generator to incorporate “likely” events that may occ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dentified 1-time and lifetime events, probabilities, and imp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d Crystal Ball to determine the outcomes of key 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Age when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Whether events occ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vestment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h Flow elements: some defined, some random (which are green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Inputs (rationale for inputs and impact on income and expenses, describe cash flow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Generator (how random events, means and standard deviations are applied, timing of random events – when appli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250-6FA8-4DA2-90EB-D1C6B495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879-4F90-4C08-AA5F-E99CD7ED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8FA-3BAC-412A-8B88-F188C5FF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D56-C770-4F0B-81A5-9CEE2086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63F7-5886-4EAB-B260-EA460841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23CB-6179-4A5F-A9BF-9F83576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96EB-7D11-46AD-92EE-A8C3150E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C299-CDC7-43FC-8C7F-8B8D623A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5473-D410-4D4B-B0DD-7936D82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8788-0679-49E9-8F83-9108B4F7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5E3B-3045-4EEB-8683-55A80C5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7D3-4241-4786-8EDA-C2F2377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9C47-92EA-4A46-B17E-EDF59D91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C52C-AEB5-42B2-8C7F-65529D8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9168-9263-45CD-934D-75C39517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00AE-7B9A-4D37-AA12-AA99CC34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0AF0-CA51-49A2-BD92-CBF38378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117-59D5-40F9-B092-255E2F0B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055-34F4-4776-883D-232091AC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8A4-20B1-4F0B-9BA5-9B94C96B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376-92F5-41A6-98B9-62DD48E1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DCA-03FE-438C-A19D-A653DD22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BC3-CB77-4633-9076-FECD34D4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560-763D-4BF5-B38E-AC5C56B4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3ACF-C55A-45A4-80EA-AA153108F1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alphaModFix amt="61000"/>
          </a:blip>
          <a:stretch/>
        </p:blipFill>
        <p:spPr>
          <a:xfrm>
            <a:off x="7699320" y="4648320"/>
            <a:ext cx="121608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8FD4-C36B-44FD-AEE6-C13C722965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64040" y="1219320"/>
            <a:ext cx="28558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 Antiqua"/>
              </a:rPr>
              <a:t>Zoltar Knows Your Future</a:t>
            </a:r>
            <a:endParaRPr b="0" lang="en-US" sz="48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" y="61722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a Bornstein - Whitney Chamberlain - Bill Kenworthy - Tracey Lubi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Banker Results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2203560"/>
            <a:ext cx="6629400" cy="35877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tires at 56 with $12.5M total to live with over 25 yea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#2: Entrepreneur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alary = $50K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Married/Dual Income = 50% incremental income and 5% incremental expens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isk-Neutral Investor Style = 8% mean return; 10% StDe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Average Expense Style = 10% saving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Living in Suburbs = 5% savings effe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914400"/>
            <a:ext cx="8076960" cy="1600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/>
          </a:bodyPr>
          <a:p>
            <a:pPr>
              <a:lnSpc>
                <a:spcPct val="8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rried 28 year-old aspiring entrepreneur living off his/her working spouse in the suburbs, average spending habits and risk-neutral lifestyle ($200K/year retirement goal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Entrepreneur Results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tires at 54; 70% chance of buyout after 36 years; mean retirement amount of $12M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1722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#3: Marketer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alary = $95K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Married/Single Income = no incremental income effect and 5% incremental expense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isk-Averse Investor Style = 4% mean return; 1% StDe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Thrifty Expense Style = 15% saving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Living in Country = 10% savings effe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914400"/>
            <a:ext cx="8076960" cy="17524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 fontScale="98000"/>
          </a:bodyPr>
          <a:p>
            <a:pPr>
              <a:lnSpc>
                <a:spcPct val="9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rried 28 year-old country-dwelling marketer supporting his/her stay-at-home spouse, with thrifty spending habits and risk-averse lifestyle ($150K/year retirement goal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Marketer Results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tires at 60 with $2.7M total to live with over 20 yea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5530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What to Remember About </a:t>
            </a:r>
            <a:r>
              <a:rPr b="0" lang="en-US" sz="3900" spc="-1" strike="noStrike">
                <a:solidFill>
                  <a:srgbClr val="ffffcc"/>
                </a:solidFill>
                <a:latin typeface="Book Antiqua"/>
              </a:rPr>
              <a:t>This</a:t>
            </a: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 Model...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 actuality…the model provides a realistic tool for retirement plann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mply plug in more events and with more realistic odds…BAM…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your future is predicte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447920"/>
            <a:ext cx="8839440" cy="1523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Book Antiqua"/>
              </a:rPr>
              <a:t>Zoltar is No Jok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Book Antiqua"/>
              </a:rPr>
              <a:t>He’s planning to apply to Merrill Lynch as a financial plann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 Antiqua"/>
              </a:rPr>
              <a:t>Zoltar Knows Your Future</a:t>
            </a:r>
            <a:endParaRPr b="0" lang="en-US" sz="48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28600" y="61722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sa Bornstein - Whitney Chamberlain - Bill Kenworthy - Tracey Lubi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cc"/>
                </a:solidFill>
                <a:latin typeface="Book Antiqua"/>
              </a:rPr>
              <a:t>Appendix</a:t>
            </a:r>
            <a:endParaRPr b="0" lang="en-US" sz="5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Model Mechanic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sh Flow calcul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xpense ratio, savings contribution, investment return, PV of retirement monies, year of retir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nsitivity Analysis (impacts of changes to parameter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ystal Ball assumptions and forecasts (distributions, mean and standard deviation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Looku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Assumption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aseline salary based on profes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pense ratio affected by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ital status, expense style, and where you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avings growth affected by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vestment sty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s is a normally distributed random variab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sk-averse: mean = 4%; standard deviation = 1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sk-neutral: mean = 8%; standard deviation = 10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isky: mean = 17%; standard deviation = 35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ig”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ject Overvie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Zoltar Predicts for the Clas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lem Defini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odel Mechanic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ng-term Stats for 3 Classic Profi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akeaway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rystal Ball Assumption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eath Age assumes normal distrib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an = 75; Standard Deviation = 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ge of event occurrence assumes discrete uniform distrib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 = current age; Max = 8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obability of event occurring assumes continuous uniform distrib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in = 0; Max = 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Some Extras We Incorporated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acro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Visual Bas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ject Overview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20040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3427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will learn the age when you can retire and the amount of money you will have at reti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3427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Zoltar will take into account your current lifestyle profile as well as the randomness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171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447920"/>
            <a:ext cx="8839440" cy="1523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Zoltar Will Tell You About Your Fu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Let Zoltar Predict Your Future…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819160"/>
            <a:ext cx="3581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Book Antiqua"/>
              </a:rPr>
              <a:t>Take your turn…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blem Definition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1523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txBody>
          <a:bodyPr lIns="45720" rIns="45720" tIns="46800" bIns="46800" anchor="ctr" anchorCtr="1">
            <a:normAutofit fontScale="92000"/>
          </a:bodyPr>
          <a:p>
            <a:pPr marL="56052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BA students are making decisions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Book Antiqua"/>
              </a:rPr>
              <a:t>that will shape their future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How will these </a:t>
            </a:r>
            <a:r>
              <a:rPr b="1" i="1" lang="en-US" sz="2300" spc="-1" strike="noStrike">
                <a:solidFill>
                  <a:srgbClr val="000000"/>
                </a:solidFill>
                <a:latin typeface="Book Antiqua"/>
              </a:rPr>
              <a:t>decisions</a:t>
            </a: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 impact their retirement? 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6052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What about </a:t>
            </a:r>
            <a:r>
              <a:rPr b="1" i="1" lang="en-US" sz="2300" spc="-1" strike="noStrike">
                <a:solidFill>
                  <a:srgbClr val="000000"/>
                </a:solidFill>
                <a:latin typeface="Book Antiqua"/>
              </a:rPr>
              <a:t>unplanned events</a:t>
            </a: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? 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35268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things you can control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rital status, investment style, spending habits, career choice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5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some things you ca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916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andom events include things like winning the lottery, getting bitten by a shark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How Model Addresses Problem</a:t>
            </a:r>
            <a:br>
              <a:rPr sz="3200"/>
            </a:br>
            <a:r>
              <a:rPr b="0" lang="en-US" sz="4000" spc="-1" strike="noStrike">
                <a:solidFill>
                  <a:srgbClr val="ffffcc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ffffcc"/>
                </a:solidFill>
                <a:latin typeface="Book Antiqua"/>
              </a:rPr>
              <a:t>31,500 ft View)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00200"/>
            <a:ext cx="144756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ceive User 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1600200"/>
            <a:ext cx="144792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ranslate to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600200"/>
            <a:ext cx="144792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eterm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shfl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600200"/>
            <a:ext cx="144756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enerate Random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1600200"/>
            <a:ext cx="1447920" cy="838080"/>
          </a:xfrm>
          <a:prstGeom prst="flowChartProcess">
            <a:avLst/>
          </a:prstGeom>
          <a:solidFill>
            <a:srgbClr val="d8afa0"/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hannel Zoltar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d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590920"/>
            <a:ext cx="144756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Career Cho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arit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nvestment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pending Hab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Where to L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etirement Go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590920"/>
            <a:ext cx="144792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nnual salary &amp; grow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avings contribu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nvestment Retur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xpense Rat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2590920"/>
            <a:ext cx="144792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on-random parameters yield lifetime cashfl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deled via Ex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590920"/>
            <a:ext cx="1447560" cy="32004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ibrary of 33 Random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ach with distinct probability &amp; imp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ither one-time or life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mpacts Cashfl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Effected by Crystal B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2590920"/>
            <a:ext cx="1447920" cy="190476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Zoltar predict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IP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etirement 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ney at Retir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1240" indent="-11124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ife’s Ev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0" idx="3"/>
            <a:endCxn id="111" idx="1"/>
          </p:cNvCxnSpPr>
          <p:nvPr/>
        </p:nvCxnSpPr>
        <p:spPr>
          <a:xfrm>
            <a:off x="1752120" y="201888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1" idx="3"/>
            <a:endCxn id="112" idx="1"/>
          </p:cNvCxnSpPr>
          <p:nvPr/>
        </p:nvCxnSpPr>
        <p:spPr>
          <a:xfrm>
            <a:off x="3505320" y="2018880"/>
            <a:ext cx="3052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2" idx="3"/>
            <a:endCxn id="113" idx="1"/>
          </p:cNvCxnSpPr>
          <p:nvPr/>
        </p:nvCxnSpPr>
        <p:spPr>
          <a:xfrm>
            <a:off x="5257440" y="201888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3" idx="3"/>
            <a:endCxn id="114" idx="1"/>
          </p:cNvCxnSpPr>
          <p:nvPr/>
        </p:nvCxnSpPr>
        <p:spPr>
          <a:xfrm>
            <a:off x="7009920" y="201888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eek Into the Model Mechanics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354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4724280"/>
            <a:ext cx="4114800" cy="167652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209680"/>
            <a:ext cx="4114800" cy="167652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77058E-007 C 0.05816 -0.08164 0.11667 -0.16304 0.11667 -0.2241 C 0.11667 -0.28515 0.0191 -0.34343 -3.33333E-006 -0.36679 E">
                                      <p:cBhvr>
                                        <p:cTn id="6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047 L 0.45 -0.00047 E">
                                      <p:cBhvr>
                                        <p:cTn id="72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Event Generator via Crystal Ball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3560" cy="5361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00800" y="1905120"/>
            <a:ext cx="2286000" cy="44956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905120"/>
            <a:ext cx="5410080" cy="449568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Profile #1: Banker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alary = $200K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Single = No incremental income or expense effec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isky Investor Style = 17% mean return; 35% StDev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High Roller = Only 5% saving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Living Locale = No incremental savings effect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990720"/>
            <a:ext cx="8001000" cy="13716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c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rmAutofit fontScale="96000"/>
          </a:bodyPr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Single 28 year-old living in NYC with dreams to retire enough savings to spend at least $500K per yea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9:11:51Z</dcterms:created>
  <dc:creator>Whitney Chamberlain</dc:creator>
  <dc:description/>
  <dc:language>en-US</dc:language>
  <cp:lastModifiedBy>Bill Kenworthy</cp:lastModifiedBy>
  <dcterms:modified xsi:type="dcterms:W3CDTF">2007-12-03T03:21:10Z</dcterms:modified>
  <cp:revision>56</cp:revision>
  <dc:subject/>
  <dc:title>Zoltar Knows Your Future</dc:title>
</cp:coreProperties>
</file>