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1.wmf" ContentType="image/x-wm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8249-EE40-4E04-BA17-EEFCEE081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ny happy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long Pat Bena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lo – aint it fun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 built this 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’s Di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6F23-001A-4F38-ABE4-C989064EA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B1F6-C613-48F0-9AEB-B4E1A6AD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6567-C8C1-4F1A-B28E-74D788795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DC90-B451-45F5-807F-53B93ED44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0E8B-44BE-425C-AAD5-B6C292760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6358-31D7-4616-9FDA-E72D5644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3B07-EEC5-4E8E-9086-5F79851C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17A9-5DF4-4AFF-AC51-CA8FEC2E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9FE2-71E3-420C-AA60-2B1E3958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06BC-87A1-468D-9EB9-1538CBE0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416F-8C9D-4809-8A9A-366DDE24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3997-267D-403E-B86E-390E6499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8809-C358-4605-9F21-D48ED8FE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5B8F-9CB7-462F-9ECD-2D009C94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8730-6760-4F10-8B7E-E4D63A39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DE46-2D80-4696-BCC5-F7326EE81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5824E-8D93-48AB-8C57-B70FED155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F95C-C5D4-46C9-8266-CEB8DCE8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3D20-6F42-4FBD-B1E4-D6BB19DD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FE0D-37EE-428F-A1EC-CD4AB7EB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7594-A660-46E2-9A87-900255FC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8331-F69D-4897-B2ED-E0A161B0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34FD-8CB2-4464-B300-303D0D0F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C10C-E57D-4D4A-96DA-A91A8E93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7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b2b2b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F12C-EB99-433B-9FE5-EDA1605FA25B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7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06F0-A164-4A8B-9042-E7B25A482228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66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b2b2b2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7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 Ultimate Playlist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Jodie Resnick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Jason Rosenblu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avid Roth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Jocelyn Splitt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illiam Van Nes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2720" t="4297" r="2720" b="4297"/>
          <a:stretch/>
        </p:blipFill>
        <p:spPr>
          <a:xfrm>
            <a:off x="185760" y="3081240"/>
            <a:ext cx="3819600" cy="2349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83818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2504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7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66"/>
                </a:solidFill>
                <a:latin typeface="Arial"/>
              </a:rPr>
              <a:t>The Data</a:t>
            </a: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533520" y="1600200"/>
            <a:ext cx="733716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7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66"/>
                </a:solidFill>
                <a:latin typeface="Arial"/>
              </a:rPr>
              <a:t>The Model</a:t>
            </a: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3059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7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Arial"/>
              </a:rPr>
              <a:t>The Result: The “Ultimate Playlist”</a:t>
            </a:r>
            <a:endParaRPr b="1" lang="en-US" sz="37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6320" y="1600200"/>
            <a:ext cx="899136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7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Q&amp;A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85345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20247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7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66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Managerial Problem Definition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ormulation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tting Up the Mod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Characteristics of our Playlist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Our “Costs”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The Mod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Q&amp;A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7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66"/>
                </a:solidFill>
                <a:latin typeface="Arial"/>
              </a:rPr>
              <a:t>Managerial Problem Definition</a:t>
            </a: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You want to organize your playlist for all of your moods, but itunes won’t do it for you!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2577960" cy="18842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029200" y="4343400"/>
            <a:ext cx="332748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7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66"/>
                </a:solidFill>
                <a:latin typeface="Arial"/>
              </a:rPr>
              <a:t>Formulation</a:t>
            </a: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Decision Variable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We are deciding which songs to have on each of our chosen playlists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Objective Function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Minimize the cost created by having undesirable songs on a playlist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onstraint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Each song must be assigned to a playlist, which must be an integer between 0 &amp; 3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There can not be a negative number of songs on each playlist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7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66"/>
                </a:solidFill>
                <a:latin typeface="Arial"/>
              </a:rPr>
              <a:t>Setting Up the Model</a:t>
            </a: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1500 songs randomly narrowed down to 50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ongs classified by Genre, Year, Length &amp; Personal Preference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We wanted to create 3 playlists for different mood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Moods: Workout, Party &amp; Relax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7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66"/>
                </a:solidFill>
                <a:latin typeface="Arial"/>
              </a:rPr>
              <a:t>Characteristics of our Playlists</a:t>
            </a: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The Workout Playlist: An uptempo selection of songs for the gym.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60 minu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x amount of songs &lt;1 = 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x amount of songs &gt;5 = 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7 rock song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5 pop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8 dance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 alternative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 easy listening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 world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 classica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85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410080" y="2666880"/>
            <a:ext cx="2851200" cy="31212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3152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48582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7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66"/>
                </a:solidFill>
                <a:latin typeface="Arial"/>
              </a:rPr>
              <a:t>Characteristics of our Playlists</a:t>
            </a: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The Party Playlist: A longer dance mix for the perfect party.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120 minutes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Max amount of songs &lt;1 = 0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Max amount of songs &gt;5 = 4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12 rock songs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6 pop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10 dance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12 alternative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2 easy listening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6 world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3 classical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952880" y="293364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73915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99146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7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66"/>
                </a:solidFill>
                <a:latin typeface="Arial"/>
              </a:rPr>
              <a:t>Characteristics of our Playlists</a:t>
            </a: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The Relax Playlist: A slow mix to wind your day down.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60 minutes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Max amount of songs &lt;1 = 0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Max amount of songs &gt;5 = 0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1 rock songs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4 pop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1 dance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4 alternative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8 easy listening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4 world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8 classical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257800" y="2895480"/>
            <a:ext cx="3038400" cy="28418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731520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28372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7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66"/>
                </a:solidFill>
                <a:latin typeface="Arial"/>
              </a:rPr>
              <a:t>Our “Costs”</a:t>
            </a: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Costs” were created as penalties for songs that were outside of our specifications: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Playlist length penalty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Rating penalty (5 stars = 0; 1 star = 400)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Song length penalty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Genre penalty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553080" y="3581280"/>
            <a:ext cx="2133720" cy="21146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572000" y="4038480"/>
            <a:ext cx="2139840" cy="21430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2514600" y="46483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9:16:55Z</dcterms:created>
  <dc:creator>Jodie Resnick</dc:creator>
  <dc:description/>
  <dc:language>en-US</dc:language>
  <cp:lastModifiedBy>user</cp:lastModifiedBy>
  <dcterms:modified xsi:type="dcterms:W3CDTF">2007-12-03T01:24:08Z</dcterms:modified>
  <cp:revision>23</cp:revision>
  <dc:subject/>
  <dc:title>project title</dc:title>
</cp:coreProperties>
</file>