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2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613-246A-41B8-A56D-E8CECE3A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9CE-447D-4DB9-97BF-EE7AEBC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D3B-D306-4F60-AF94-4FB4C24D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E29-AE86-46CA-8AD4-9754A30D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E9F7-4D14-4B97-8F27-45D88984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AE5-94BB-4391-8912-C546AC1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7F9-90AC-4BC5-8DFB-4BBE749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40A1-6F60-4BDD-ACC1-62176B8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F9C-BA13-4097-9BF3-8CFA935F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CA2C-399E-4FCF-89CE-6D9875F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2EB1-5727-4E7D-ACA3-C39B90D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646-0579-4782-B43C-9F45E68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8316-2E55-4885-9EAA-DC6D2F6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6DB-51B3-4DED-A40D-72722E0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DB3E-23F3-4705-AB90-93076249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7D4-6C8B-45C0-AF0D-EF305DF0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EB84-6DFC-4251-A49D-737FF856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81C-F0EC-4263-A617-925CA822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077-C0B2-49DF-A9DC-0A9108A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385-77AC-4A62-B38C-D67E00D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93C-7D98-4784-A93C-74A9685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C15-5755-43B0-9773-570A03B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ABE-5BDE-4A0B-A7F2-11BAB75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EB5-20B0-41AE-AFC6-B29364B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D02-AB46-4B3B-ACDE-FFD4FFCBC9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54100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54864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123400" y="152280"/>
            <a:ext cx="966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-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B6F8-9E2F-4C58-9B06-F414CEEC8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Timely Traveler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trategic Guide to Effici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vel in New York C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lyn Ackermann, Nelson Hsu, Shan-Ta 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is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72440" y="2895480"/>
            <a:ext cx="17715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 in 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5680" y="2198520"/>
            <a:ext cx="835488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4D1-FB5E-4F04-9AFC-8D4075E130F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riability in the Commu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 times have a lognormal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s are clustered around the mean with a greater than expected chance of very long delays when compared to the Standard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ransfers, wait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mpound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uling differe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ween tr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captured by th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allows us to capture probability of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4680" y="3019320"/>
            <a:ext cx="4046400" cy="25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E0B-8F52-4C5B-8FFC-2437AD58C5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n the Steam Pipes Burst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incorporates disaster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 single or multiple line disru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astest way to get home when some of the subway lines are dow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explosion"/>
          <p:cNvPicPr/>
          <p:nvPr/>
        </p:nvPicPr>
        <p:blipFill>
          <a:blip r:embed="rId1"/>
          <a:stretch/>
        </p:blipFill>
        <p:spPr>
          <a:xfrm>
            <a:off x="2043000" y="2286000"/>
            <a:ext cx="5058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4AC-C785-480B-91B2-FACB8C930C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n the Steam Pipes Burst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059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0th &amp; 42nd to Park &amp;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all lines are running = 18.28 m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N,R,W from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ur stops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the N,R,W,Q is down = 23.75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A from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 stops to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L from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 stops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the A,C,E and L are down = 24.83 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S from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ne stop to Lex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4,5 from Lex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ne stop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472520" y="4114800"/>
            <a:ext cx="150012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5562720"/>
            <a:ext cx="51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ve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olutionary Solver is slow to find the most efficient solution due to non-line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324480"/>
            <a:ext cx="28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Due to wait time on 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610-6504-42AA-BC3A-96722BE574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am Pipe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0th &amp; 42nd to Park &amp;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,R,W,Q and A,C,E, and L are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f arrival is at most 25 minut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he explosion viewed from 42nd Street."/>
          <p:cNvPicPr/>
          <p:nvPr/>
        </p:nvPicPr>
        <p:blipFill>
          <a:blip r:embed="rId1"/>
          <a:stretch/>
        </p:blipFill>
        <p:spPr>
          <a:xfrm>
            <a:off x="7162920" y="3809880"/>
            <a:ext cx="1809720" cy="2667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61080" y="2700360"/>
            <a:ext cx="2135160" cy="2219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003320" y="2700360"/>
            <a:ext cx="3508200" cy="223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5800" y="5805360"/>
            <a:ext cx="51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ve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odel assumes that the other subway lines will stick to their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08840" y="3181320"/>
            <a:ext cx="168120" cy="304920"/>
          </a:xfrm>
          <a:custGeom>
            <a:avLst/>
            <a:gdLst>
              <a:gd name="textAreaLeft" fmla="*/ 0 w 168120"/>
              <a:gd name="textAreaRight" fmla="*/ 60840 w 1681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6240" y="2521080"/>
            <a:ext cx="1346400" cy="1109520"/>
          </a:xfrm>
          <a:prstGeom prst="borderCallout2">
            <a:avLst>
              <a:gd name="adj1" fmla="val 18750"/>
              <a:gd name="adj2" fmla="val -8333"/>
              <a:gd name="adj3" fmla="val 10300"/>
              <a:gd name="adj4" fmla="val -18162"/>
              <a:gd name="adj5" fmla="val 73245"/>
              <a:gd name="adj6" fmla="val -3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was also the expected mean trave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86A-1157-4B80-BE95-67F01FA1B9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rov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3341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on travel between two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ddition to the subway, included wal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ized time rather than number of s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ctual MTA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ed variability with Monte Car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d potential effects of random line disru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3043440" cy="3990960"/>
          </a:xfrm>
          <a:prstGeom prst="rect">
            <a:avLst/>
          </a:prstGeom>
          <a:ln w="12600">
            <a:solidFill>
              <a:srgbClr val="33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D6F-D368-4D49-BDDC-4EBB2AAC65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Modes of Transpor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ed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unt for cost in addition to r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hybr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05F-4A21-45EC-94FD-DD206749B5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24080" y="1720800"/>
            <a:ext cx="6448320" cy="48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551-C7CA-4788-BE7F-566A1E1C767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cutive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 determines the fastest path after the user enters the beginning and end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king has no variability but is consistently sl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subway may be faster, wait times, transfer times, and other factors often make walking f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a breakeven distance where it makes sense to take the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542-F2DC-4752-81C8-383D3C1F1E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ct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astest way to get from one point to another in the city when comparing walking versus taking the subw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mode of transportation is usually fas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defining the base case and the effects of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733400" cy="8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0DF-B683-467C-9F23-B2CF645320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1447E-006 L -0.19168 0.13314 E">
                                      <p:cBhvr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8 0.13315 L -0.33334 0.0111 E">
                                      <p:cBhvr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334 0.01109 L -0.50834 0.14424 E">
                                      <p:cBhvr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34 0.14424 L -0.66668 0.0111 E">
                                      <p:cBhvr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c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fies and qualifies the fastest route between two points in the 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s that the traveler commutes at 11pm on a Friday (weekd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s for temporal risks during the comm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s walking to taking the subway but can create a hybrid of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be able to analyze our decision to take one option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BC7-AC0B-4CBE-A481-BE180DF426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iderations for the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1447920"/>
            <a:ext cx="5638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for 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properly model these scenari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828800"/>
            <a:ext cx="1447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ill explore these altern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5257440" y="190476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57440" y="228564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47920" y="1117440"/>
            <a:ext cx="838080" cy="4622760"/>
            <a:chOff x="1447920" y="1117440"/>
            <a:chExt cx="838080" cy="4622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447920" y="111744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447920" y="203184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1447920" y="299700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1447920" y="3936960"/>
              <a:ext cx="83808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1447920" y="4927320"/>
              <a:ext cx="83808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 rot="10800000">
            <a:off x="5105160" y="47242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4648320"/>
            <a:ext cx="1447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ill focus on this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CB7-436D-43A4-9537-22E8E2E1FE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ing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 weekday travel data per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7 subway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times extracted from MTA subway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 is from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to 5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and from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nue to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4343400"/>
            <a:ext cx="3743280" cy="2201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4343400"/>
            <a:ext cx="373356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99088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943200" cy="571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47960" cy="581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27D-FE97-4495-AC22-9823B8638E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odel Desig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7760" y="1719360"/>
            <a:ext cx="5638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travel time between points on a New York City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subway system 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hortest walking route 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generate stations an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available lines and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line is not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ravel time (walking, waiting, switching, and trans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ravel time with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s non-linea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olutionary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362320" cy="13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609480" y="3581280"/>
          <a:ext cx="2190960" cy="218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154160" y="3713040"/>
            <a:ext cx="1274760" cy="1228680"/>
          </a:xfrm>
          <a:custGeom>
            <a:avLst/>
            <a:gdLst/>
            <a:ahLst/>
            <a:rect l="l" t="t" r="r" b="b"/>
            <a:pathLst>
              <a:path w="803" h="774">
                <a:moveTo>
                  <a:pt x="0" y="0"/>
                </a:moveTo>
                <a:lnTo>
                  <a:pt x="0" y="425"/>
                </a:lnTo>
                <a:lnTo>
                  <a:pt x="454" y="425"/>
                </a:lnTo>
                <a:lnTo>
                  <a:pt x="454" y="774"/>
                </a:lnTo>
                <a:lnTo>
                  <a:pt x="803" y="77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6520" y="3713040"/>
            <a:ext cx="1292400" cy="1219320"/>
          </a:xfrm>
          <a:custGeom>
            <a:avLst/>
            <a:gdLst/>
            <a:ahLst/>
            <a:rect l="l" t="t" r="r" b="b"/>
            <a:pathLst>
              <a:path w="814" h="768">
                <a:moveTo>
                  <a:pt x="0" y="0"/>
                </a:moveTo>
                <a:lnTo>
                  <a:pt x="814" y="0"/>
                </a:lnTo>
                <a:lnTo>
                  <a:pt x="814" y="768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7440" y="3693960"/>
            <a:ext cx="1311480" cy="1543320"/>
          </a:xfrm>
          <a:custGeom>
            <a:avLst/>
            <a:gdLst/>
            <a:ahLst/>
            <a:rect l="l" t="t" r="r" b="b"/>
            <a:pathLst>
              <a:path w="826" h="972">
                <a:moveTo>
                  <a:pt x="0" y="0"/>
                </a:moveTo>
                <a:lnTo>
                  <a:pt x="0" y="972"/>
                </a:lnTo>
                <a:lnTo>
                  <a:pt x="826" y="972"/>
                </a:lnTo>
                <a:lnTo>
                  <a:pt x="826" y="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681-DBA0-49C5-B624-08C02170CC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 Assump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blocks take 4 minutes to wal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rt blocks take 1 minute to wal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standard deviations in train arrival time which impacts wait tim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ximum of 1 subway trans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erage switch time is 3 min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gnormal distribution of wait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05640"/>
            <a:ext cx="59436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andyfacts.com/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y1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7C5-C861-412C-BC9C-3600BB5C0E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odel Outpu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960" y="3316320"/>
            <a:ext cx="815184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timal trave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walking-only vs. sub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walking directions and times for each travel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variability in trave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1000 trials in Crystal Ball based on mean and standard deviation of wait times for subway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histogram which may be used to determine probability of reaching a destination in a certain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4200" y="1846440"/>
            <a:ext cx="7807320" cy="12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FDA-C2EC-439E-9E70-68E1355D57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23:35Z</dcterms:created>
  <dc:creator>EvolX</dc:creator>
  <dc:description/>
  <dc:language>en-US</dc:language>
  <cp:lastModifiedBy>Blue Radiance</cp:lastModifiedBy>
  <dcterms:modified xsi:type="dcterms:W3CDTF">2007-12-03T14:04:01Z</dcterms:modified>
  <cp:revision>47</cp:revision>
  <dc:subject/>
  <dc:title>Slide 1</dc:title>
</cp:coreProperties>
</file>