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2.jpeg" ContentType="image/jpe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906-121F-4876-989E-80D3E8D1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978-5A15-4534-A7D4-DB80076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76A-B993-4C6B-876E-1040AFEC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A3C-F551-43D3-91AD-FD34C624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F66-90D4-4D26-9BB5-E72CE7F0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B0C-57C7-4141-B557-30099854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70A8-E501-42B7-9CE8-047CA41D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8C49-CE20-47AC-9ED5-F07CABD0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EFF-9EFD-43EE-9024-3124EA2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D880-8306-4425-8FAF-6FD66E8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1CB-44BA-43A2-882B-AEF58DEC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F59-4D59-42D3-B338-109FC1E5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67D-6053-436E-9620-D9BE992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638-2F31-4C11-83C6-0B9826E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4063-D151-488E-9CCE-B5DC6E4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3402-C2C8-4C59-97ED-1468BD91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1C3-8D31-4D8A-A583-4D4894D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0A9-2583-4491-9FDD-BC392D06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438-D52C-48BD-805F-61488C2F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0AD-09D0-4A40-A3A9-E9D06C55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44E-C352-451D-B32E-C14ADE9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7CA-A871-4892-97AD-4B13BF8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A7C-217D-427E-9DA9-85A1338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5E4-981B-40A7-B1AA-C086891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71A-4140-4705-A2D2-390C1B02FB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54100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54864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123400" y="152280"/>
            <a:ext cx="966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-3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E2E9-D3CF-4416-AD5B-7036716681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4333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Timely Traveler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Strategic Guide to Effici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avel in New York C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lyn Ackermann, Nelson Hsu, Shan-Ta 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ision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l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72440" y="2895480"/>
            <a:ext cx="17715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 in A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5680" y="2198520"/>
            <a:ext cx="835488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672-883B-4270-B529-BEA6EDBAB4E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riability in the Commu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 times have a lognormal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s are clustered around the mean with a greater than expected chance of very long delays when compared to the Standard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ransfers, wait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mpound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uling differe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ween tr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captured by th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allows us to capture probability of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4680" y="3019320"/>
            <a:ext cx="4046400" cy="25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754-9BF8-4636-B379-2B34BBE863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n the Steam Pipes Burst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incorporates disaster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e single or multiple line disru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astest way to get home when some of the subway lines are dow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explosion"/>
          <p:cNvPicPr/>
          <p:nvPr/>
        </p:nvPicPr>
        <p:blipFill>
          <a:blip r:embed="rId1"/>
          <a:stretch/>
        </p:blipFill>
        <p:spPr>
          <a:xfrm>
            <a:off x="2043000" y="2286000"/>
            <a:ext cx="5058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4C1-1B61-4227-B6AF-4AED3DBAE7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n the Steam Pipes Burst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3059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10th &amp; 42nd to Park &amp;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When all lines are running = 18.28 m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N,R,W from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ur stops to Park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When the N,R,W,Q is down = 23.75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A from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wo stops to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L from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wo stops to Park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When the A,C,E and L are down = 24.83 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S from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ne stop to Lex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4,5 from Lex &amp; 4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ne stop to Park &amp;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472520" y="4114800"/>
            <a:ext cx="150012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5562720"/>
            <a:ext cx="51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ve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olutionary Solver is slow to find the most efficient solution due to non-line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324480"/>
            <a:ext cx="28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*Due to wait time on 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B0A-CFC7-4935-AE1D-07F98840FA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am Pipe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10th &amp; 42nd to Park &amp;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,R,W,Q and A,C,E, and L are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f arrival is at most 25 minut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he explosion viewed from 42nd Street."/>
          <p:cNvPicPr/>
          <p:nvPr/>
        </p:nvPicPr>
        <p:blipFill>
          <a:blip r:embed="rId1"/>
          <a:stretch/>
        </p:blipFill>
        <p:spPr>
          <a:xfrm>
            <a:off x="7162920" y="3809880"/>
            <a:ext cx="1809720" cy="2667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61080" y="2700360"/>
            <a:ext cx="2135160" cy="2219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003320" y="2700360"/>
            <a:ext cx="3508200" cy="223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5800" y="5805360"/>
            <a:ext cx="51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vea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odel assumes that the other subway lines will stick to their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08840" y="3181320"/>
            <a:ext cx="168120" cy="304920"/>
          </a:xfrm>
          <a:custGeom>
            <a:avLst/>
            <a:gdLst>
              <a:gd name="textAreaLeft" fmla="*/ 0 w 168120"/>
              <a:gd name="textAreaRight" fmla="*/ 60840 w 1681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6240" y="2521080"/>
            <a:ext cx="1346400" cy="1109520"/>
          </a:xfrm>
          <a:prstGeom prst="borderCallout2">
            <a:avLst>
              <a:gd name="adj1" fmla="val 18750"/>
              <a:gd name="adj2" fmla="val -8333"/>
              <a:gd name="adj3" fmla="val 10300"/>
              <a:gd name="adj4" fmla="val -18162"/>
              <a:gd name="adj5" fmla="val 73245"/>
              <a:gd name="adj6" fmla="val -3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was also the expected mean trave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BAC-4AB9-4465-ABA3-42150AF6AE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rov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3341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on travel between two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ddition to the subway, included wal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ized time rather than number of s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actual MTA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ed variability with Monte Car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d potential effects of random line disru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3043440" cy="3990960"/>
          </a:xfrm>
          <a:prstGeom prst="rect">
            <a:avLst/>
          </a:prstGeom>
          <a:ln w="12600">
            <a:solidFill>
              <a:srgbClr val="33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D42-F133-4BC8-81B5-E4B8DF562B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xt Ste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Modes of Transpor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ded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unt for cost in addition to r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 hybr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B6F-AC8A-4E3F-BEE5-59485D60C7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stio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24080" y="1720800"/>
            <a:ext cx="6448320" cy="48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55E-A516-4FF8-B35A-E3B5A94E0F8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cutive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 determines the fastest path after the user enters the beginning and end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king has no variability but is consistently sl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subway may be faster, wait times, transfer times, and other factors often make walking f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a breakeven distance where it makes sense to take the 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56A-E40E-46BF-98F0-211E94F50A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ct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astest way to get from one point to another in the city when comparing walking versus taking the subw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mode of transportation is usually fas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defining the base case and the effects of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733400" cy="8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116-F97C-4E35-81F7-D5486588B6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1447E-006 L -0.19168 0.13314 E">
                                      <p:cBhvr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8 0.13315 L -0.33334 0.0111 E">
                                      <p:cBhvr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334 0.01109 L -0.50834 0.14424 E">
                                      <p:cBhvr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34 0.14424 L -0.66668 0.0111 E">
                                      <p:cBhvr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ct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fies and qualifies the fastest route between two points in the 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s that the traveler commutes at 11pm on a Friday (weekd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s for temporal risks during the comm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s walking to taking the subway but can create a hybrid of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be able to analyze our decision to take one option over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B8F-8B64-4138-876E-6536204CC7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iderations for the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7760" y="1447920"/>
            <a:ext cx="5638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for 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943600"/>
            <a:ext cx="868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properly model these scenari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1828800"/>
            <a:ext cx="1447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will explore these altern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5257440" y="190476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57440" y="228564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47920" y="1117440"/>
            <a:ext cx="838080" cy="4622760"/>
            <a:chOff x="1447920" y="1117440"/>
            <a:chExt cx="838080" cy="46227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447920" y="1117440"/>
              <a:ext cx="8380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447920" y="2031840"/>
              <a:ext cx="8380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1447920" y="2997000"/>
              <a:ext cx="8380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1447920" y="3936960"/>
              <a:ext cx="83808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1447920" y="4927320"/>
              <a:ext cx="83808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 rot="10800000">
            <a:off x="5105160" y="4724280"/>
            <a:ext cx="685800" cy="15264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4648320"/>
            <a:ext cx="1447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 will focus on this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2F9-2367-4E73-8228-05AB2319EE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ing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 weekday travel data per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7 subway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ing times extracted from MTA subway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 is from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eet to 5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eet and from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nue to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4343400"/>
            <a:ext cx="3743280" cy="2201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4343400"/>
            <a:ext cx="373356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99088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943200" cy="571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47960" cy="581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53352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C8E-37F3-4901-AA4D-42ECE29D9F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odel Desig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7760" y="1719360"/>
            <a:ext cx="5638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travel time between points on a New York City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subway system 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hortest walking route o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generate stations an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available lines and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line is not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ravel time (walking, waiting, switching, and trans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ravel time with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as non-linea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volutionary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362320" cy="13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609480" y="3581280"/>
          <a:ext cx="2190960" cy="218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 w="5760">
                      <a:solidFill>
                        <a:srgbClr val="7e9ce8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 w="5760">
                      <a:solidFill>
                        <a:srgbClr val="7e9ce8"/>
                      </a:solidFill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9ce8"/>
                      </a:solidFill>
                    </a:lnL>
                    <a:lnR>
                      <a:noFill/>
                    </a:lnR>
                    <a:lnT w="5760">
                      <a:solidFill>
                        <a:srgbClr val="7e9ce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154160" y="3713040"/>
            <a:ext cx="1274760" cy="1228680"/>
          </a:xfrm>
          <a:custGeom>
            <a:avLst/>
            <a:gdLst/>
            <a:ahLst/>
            <a:rect l="l" t="t" r="r" b="b"/>
            <a:pathLst>
              <a:path w="803" h="774">
                <a:moveTo>
                  <a:pt x="0" y="0"/>
                </a:moveTo>
                <a:lnTo>
                  <a:pt x="0" y="425"/>
                </a:lnTo>
                <a:lnTo>
                  <a:pt x="454" y="425"/>
                </a:lnTo>
                <a:lnTo>
                  <a:pt x="454" y="774"/>
                </a:lnTo>
                <a:lnTo>
                  <a:pt x="803" y="77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36520" y="3713040"/>
            <a:ext cx="1292400" cy="1219320"/>
          </a:xfrm>
          <a:custGeom>
            <a:avLst/>
            <a:gdLst/>
            <a:ahLst/>
            <a:rect l="l" t="t" r="r" b="b"/>
            <a:pathLst>
              <a:path w="814" h="768">
                <a:moveTo>
                  <a:pt x="0" y="0"/>
                </a:moveTo>
                <a:lnTo>
                  <a:pt x="814" y="0"/>
                </a:lnTo>
                <a:lnTo>
                  <a:pt x="814" y="768"/>
                </a:ln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7440" y="3693960"/>
            <a:ext cx="1311480" cy="1543320"/>
          </a:xfrm>
          <a:custGeom>
            <a:avLst/>
            <a:gdLst/>
            <a:ahLst/>
            <a:rect l="l" t="t" r="r" b="b"/>
            <a:pathLst>
              <a:path w="826" h="972">
                <a:moveTo>
                  <a:pt x="0" y="0"/>
                </a:moveTo>
                <a:lnTo>
                  <a:pt x="0" y="972"/>
                </a:lnTo>
                <a:lnTo>
                  <a:pt x="826" y="972"/>
                </a:lnTo>
                <a:lnTo>
                  <a:pt x="826" y="7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D4E-667A-40A8-BC29-9B06C2D2FD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 Assump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blocks take 4 minutes to wal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rt blocks take 1 minute to wal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standard deviations in train arrival time which impacts wait tim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ximum of 1 subway trans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erage switch time is 3 min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gnormal distribution of wait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05640"/>
            <a:ext cx="59436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andyfacts.com/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y1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CFD-8901-4870-9898-7161252513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odel Outpu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960" y="3316320"/>
            <a:ext cx="815184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timal trave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walking-only vs. sub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walking directions and times for each travel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variability in trave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1000 trials in Crystal Ball based on mean and standard deviation of wait times for subway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histogram which may be used to determine probability of reaching a destination in a certain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4200" y="1846440"/>
            <a:ext cx="7807320" cy="12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6EE-F820-4634-B24E-C036EA5A2D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3/2008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23:35Z</dcterms:created>
  <dc:creator>EvolX</dc:creator>
  <dc:description/>
  <dc:language>en-US</dc:language>
  <cp:lastModifiedBy>Blue Radiance</cp:lastModifiedBy>
  <dcterms:modified xsi:type="dcterms:W3CDTF">2007-12-03T14:04:01Z</dcterms:modified>
  <cp:revision>47</cp:revision>
  <dc:subject/>
  <dc:title>Slide 1</dc:title>
</cp:coreProperties>
</file>