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AC0-F64E-4A54-8827-B5A386C2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BC0-C606-471C-8DC3-413C21B4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FD4-B2CA-4831-8C06-65581773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543-3FCB-4840-B922-6356D1B0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6560-0B5C-47CC-B34B-FD181F73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E9D0-0B80-47FB-BA7D-CCA5A354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2C9F-98A9-4436-AFCE-AF3F7883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3983-CBC1-4AB4-B196-2C256DE6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0390-288D-4C88-950F-B5E86E1C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D6F6-AE7E-444E-A28A-CEE58B67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9DE5-0813-4D80-BAE5-587007AA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36D-2D49-4C6D-BF47-248D216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B6B3-A1D0-418E-A72D-E25E5EC3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46AF-491D-40EE-B68B-3190D37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0656-DD0A-4FE7-96B1-F59097E4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141E-E0BA-4BB3-BEE5-9C9A2C17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B5AC-CF88-4F27-86B4-0AA503E0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B70-1739-4DA3-8207-5B6139B3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010-ECD7-4B8F-BC8A-165824EB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84F-1F94-4AC6-BC68-5B898DD3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5F9-4C64-4F28-8D81-2B43ABDF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6BC-6E9F-4B8B-9EC2-F82E3ED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682-4703-4ECD-85FC-0F74E10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029-5EB3-43EE-A473-7BFC076B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3FE9-7A75-444A-B413-20DCB3B04247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2172960"/>
            <a:ext cx="495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46AB-EDB2-4A9F-A6CA-9227EE9AF37A}" type="slidenum">
              <a:rPr b="1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2133720"/>
            <a:ext cx="4954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mbulance Optimiz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42670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jamin Irizar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is Mimic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rm Mads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abel Gonzalez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m Ta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3352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odel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762120" y="2362320"/>
          <a:ext cx="7543800" cy="2517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7543800" cy="25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752480" y="1447920"/>
          <a:ext cx="471348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4713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asible Solution!!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’t comment on appropriate number of Ambul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76680" y="2133720"/>
            <a:ext cx="29527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7160" y="38052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y Quest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6305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&amp; Ans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imeliness of ambulances can make the difference between a person surviving or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decision models presentation uses the transportation model and queuing theory to minimize the average travel time for ambulances in the province of Quebec, taking into account factors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ype of c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rvice ra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deling the Proble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Defini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minimize the average travel time for ambulances in the province of Quebe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cision Variable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Number of vehicles required to respond to type l calls originating in district c from base b during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b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Total number of vehicles assigned to base b during 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bjective Func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imize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*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*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*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deling the Proble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meters of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Average vehicle service r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*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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rate of occurrence of type l c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Travel time to a type l reques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Maximum number of vehicles that can be located to base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Average utilization factor of vehicles in 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deling the Proble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*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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V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*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s that all serious calls are attended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bt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= M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 a certain level of utilization of veh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lbct ,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ahoma"/>
              </a:rPr>
              <a:t>bt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&lt;=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mits the number of fleets allocated to each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3352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bec City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ration between b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and rates for type L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2743200"/>
          <a:ext cx="7924680" cy="79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7924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96960" y="4570560"/>
          <a:ext cx="7215120" cy="1612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6960" y="4570560"/>
                    <a:ext cx="721512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timize the number of vehicles in order to minimize average travel time (response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 how many vehicles per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 that all serious calls (primary and emergency calls) have access to the ambulance serv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96f"/>
            </a:gs>
            <a:gs pos="100000">
              <a:srgbClr val="3367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lution Methodolo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3352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odel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77040" y="152280"/>
            <a:ext cx="2614680" cy="12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600200" y="2093760"/>
          <a:ext cx="4800600" cy="445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093760"/>
                    <a:ext cx="48006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01:18:50Z</dcterms:created>
  <dc:creator>CC</dc:creator>
  <dc:description/>
  <cp:keywords/>
  <dc:language>en-US</dc:language>
  <cp:lastModifiedBy>NYU Stern School of Business</cp:lastModifiedBy>
  <dcterms:modified xsi:type="dcterms:W3CDTF">2007-12-09T03:06:35Z</dcterms:modified>
  <cp:revision>18</cp:revision>
  <dc:subject/>
  <dc:title>[Product Name] Marketing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33</vt:lpwstr>
  </property>
</Properties>
</file>