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E71-9EF2-4D72-BCD0-CEA4BB56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23A-94DF-48B6-8CA4-48628804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C7E-A03F-449D-88AA-8AD01754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3DD-9EEE-40B9-A0E9-CCE0088D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E957-C5D9-424D-B222-9A4CF523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4F37-BA4D-4F46-BB89-C323F0C8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A93C-24B2-4013-9E37-97CD749C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073D-4593-4B56-8CA3-93E7E6EE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6588-1E45-4AED-A9FD-7A4E80B1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7D04-8A39-4825-B23C-51C2CE20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0126-DA0B-425A-9E7D-A13B230D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49E-A53A-4F60-8CD5-6EBE0772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1FED-F808-46E0-B8F7-76A2CF41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0E55-EB44-43A3-B0C8-743174F0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E5E4-230D-4FEA-BDBB-FDE42491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EA94-5E89-4F74-BE91-962C7FF2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3BB5-34F6-4887-97B4-03669F7A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EB3F-D6F2-4408-A7F3-66747387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E2F4-40A9-4ECE-96E5-BC30612C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BB9-D8DB-4C45-AA57-2AED2450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675-8C5B-4D6E-BC5C-C36EB1DA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499-BC13-477D-BDF1-222D2388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F0B-4934-4D41-AB8E-B479A34E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7ED8-1CF8-4843-BB80-0BF37650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37F0-E941-4E46-888C-6133A42DDBC5}" type="slidenum">
              <a:rPr b="1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2172960"/>
            <a:ext cx="49546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8DE8-0541-4F85-9668-BC6098B312C0}" type="slidenum">
              <a:rPr b="1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2133720"/>
            <a:ext cx="4954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mbulance Optimiza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42670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jamin Irizarr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ris Mimic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rm Mads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abel Gonzalez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m Ta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lution Methodolog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33526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odel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377040" y="152280"/>
            <a:ext cx="2614680" cy="12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762120" y="2362320"/>
          <a:ext cx="7543800" cy="2517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362320"/>
                    <a:ext cx="7543800" cy="25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lution Methodolog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377040" y="152280"/>
            <a:ext cx="2614680" cy="12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1752480" y="1447920"/>
          <a:ext cx="4713480" cy="5257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447920"/>
                    <a:ext cx="4713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asible Solution!!!!!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’t comment on appropriate number of Ambul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614680" cy="1222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676680" y="2133720"/>
            <a:ext cx="29527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7160" y="380520"/>
            <a:ext cx="685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y Question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26305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ution Method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stion &amp; Answ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61468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imeliness of ambulances can make the difference between a person surviving or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r decision models presentation uses the transportation model and queuing theory to minimize the average travel time for ambulances in the province of Quebec, taking into account factors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ype of c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rvice rat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61468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deling the Problem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blem Defini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minimize the average travel time for ambulances in the province of Quebe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cision Variables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lbc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= Number of vehicles required to respond to type l calls originating in district c from base b during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b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= Total number of vehicles assigned to base b during 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bjective Func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nimize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*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lbc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*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lbc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*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lb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61468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deling the Problem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ameters of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lbc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= Average vehicle service r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*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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lc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= rate of occurrence of type l cal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lbc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= Travel time to a type l request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= Maximum number of vehicles that can be located to base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= Average utilization factor of vehicles in t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61468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deling the Problem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*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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lc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V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lbc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*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lb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sures that all serious calls are attended 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bt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= M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sure a certain level of utilization of veh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lbct ,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bt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=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mits the number of fleets allocated to each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61468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33526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bec City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ration between b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mand rates for type L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4920" y="2743200"/>
          <a:ext cx="7924680" cy="79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43200"/>
                    <a:ext cx="79246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377040" y="152280"/>
            <a:ext cx="2614680" cy="12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696960" y="4570560"/>
          <a:ext cx="7215120" cy="1612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6960" y="4570560"/>
                    <a:ext cx="721512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lution Methodolog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timize the number of vehicles in order to minimize average travel time (response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de how many vehicles per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ure that all serious calls (primary and emergency calls) have access to the ambulance servi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377040" y="152280"/>
            <a:ext cx="261468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lution Methodolog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33526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odel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77040" y="152280"/>
            <a:ext cx="2614680" cy="12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1600200" y="2093760"/>
          <a:ext cx="4800600" cy="4459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093760"/>
                    <a:ext cx="480060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01:18:50Z</dcterms:created>
  <dc:creator>CC</dc:creator>
  <dc:description/>
  <cp:keywords/>
  <dc:language>en-US</dc:language>
  <cp:lastModifiedBy>NYU Stern School of Business</cp:lastModifiedBy>
  <dcterms:modified xsi:type="dcterms:W3CDTF">2007-12-09T03:06:35Z</dcterms:modified>
  <cp:revision>18</cp:revision>
  <dc:subject/>
  <dc:title>[Product Name] Marketing 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121033</vt:lpwstr>
  </property>
</Properties>
</file>