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D38-36EC-4366-97E5-981A4EC8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5158-7DC4-44EF-9203-C65CBB2D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53FB-B4A9-43B6-B6DD-C213D1ED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A70B-6681-464B-B007-0C5EE46A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1AB-24C1-45E0-8B2D-6A5940E9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CEED-61AE-418D-8FBA-8A8C6F38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00CF-9D17-413C-8E38-77FD5A94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3192-C3BC-4782-8382-46402941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E4B9-3989-4FC5-A003-D1F7C315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BE3E-631D-430D-ACAA-85D017E8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F144-BE57-4150-AE13-973A1003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E219-091D-425C-BE8F-EC9451F7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F0EE-078B-406F-AA45-958929434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2590920"/>
            <a:ext cx="7162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81000" y="380880"/>
            <a:ext cx="8985960" cy="6045120"/>
            <a:chOff x="81000" y="380880"/>
            <a:chExt cx="8985960" cy="6045120"/>
          </a:xfrm>
        </p:grpSpPr>
        <p:grpSp>
          <p:nvGrpSpPr>
            <p:cNvPr id="43" name=""/>
            <p:cNvGrpSpPr/>
            <p:nvPr/>
          </p:nvGrpSpPr>
          <p:grpSpPr>
            <a:xfrm>
              <a:off x="81000" y="785520"/>
              <a:ext cx="8828640" cy="5640480"/>
              <a:chOff x="81000" y="785520"/>
              <a:chExt cx="8828640" cy="564048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81000" y="4489200"/>
                <a:ext cx="2853000" cy="1936800"/>
                <a:chOff x="81000" y="4489200"/>
                <a:chExt cx="2853000" cy="1936800"/>
              </a:xfrm>
            </p:grpSpPr>
            <p:grpSp>
              <p:nvGrpSpPr>
                <p:cNvPr id="45" name=""/>
                <p:cNvGrpSpPr/>
                <p:nvPr/>
              </p:nvGrpSpPr>
              <p:grpSpPr>
                <a:xfrm>
                  <a:off x="1848240" y="5125680"/>
                  <a:ext cx="1085760" cy="835200"/>
                  <a:chOff x="1848240" y="5125680"/>
                  <a:chExt cx="1085760" cy="8352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1848240" y="5230440"/>
                    <a:ext cx="8244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03">
                        <a:moveTo>
                          <a:pt x="0" y="103"/>
                        </a:moveTo>
                        <a:lnTo>
                          <a:pt x="0" y="73"/>
                        </a:lnTo>
                        <a:lnTo>
                          <a:pt x="41" y="0"/>
                        </a:lnTo>
                        <a:lnTo>
                          <a:pt x="71" y="21"/>
                        </a:lnTo>
                        <a:lnTo>
                          <a:pt x="37" y="103"/>
                        </a:lnTo>
                        <a:lnTo>
                          <a:pt x="0" y="10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1967040" y="5125680"/>
                    <a:ext cx="155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130">
                        <a:moveTo>
                          <a:pt x="29" y="14"/>
                        </a:moveTo>
                        <a:lnTo>
                          <a:pt x="0" y="77"/>
                        </a:lnTo>
                        <a:lnTo>
                          <a:pt x="52" y="119"/>
                        </a:lnTo>
                        <a:lnTo>
                          <a:pt x="111" y="130"/>
                        </a:lnTo>
                        <a:lnTo>
                          <a:pt x="134" y="79"/>
                        </a:lnTo>
                        <a:lnTo>
                          <a:pt x="119" y="0"/>
                        </a:lnTo>
                        <a:lnTo>
                          <a:pt x="29" y="1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2113200" y="5230440"/>
                    <a:ext cx="2318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147">
                        <a:moveTo>
                          <a:pt x="0" y="52"/>
                        </a:moveTo>
                        <a:lnTo>
                          <a:pt x="135" y="0"/>
                        </a:lnTo>
                        <a:lnTo>
                          <a:pt x="161" y="63"/>
                        </a:lnTo>
                        <a:lnTo>
                          <a:pt x="187" y="77"/>
                        </a:lnTo>
                        <a:lnTo>
                          <a:pt x="198" y="129"/>
                        </a:lnTo>
                        <a:lnTo>
                          <a:pt x="131" y="137"/>
                        </a:lnTo>
                        <a:lnTo>
                          <a:pt x="82" y="147"/>
                        </a:lnTo>
                        <a:lnTo>
                          <a:pt x="0" y="5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352960" y="5360760"/>
                    <a:ext cx="18396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78">
                        <a:moveTo>
                          <a:pt x="24" y="4"/>
                        </a:moveTo>
                        <a:lnTo>
                          <a:pt x="0" y="73"/>
                        </a:lnTo>
                        <a:lnTo>
                          <a:pt x="42" y="78"/>
                        </a:lnTo>
                        <a:lnTo>
                          <a:pt x="68" y="62"/>
                        </a:lnTo>
                        <a:lnTo>
                          <a:pt x="116" y="63"/>
                        </a:lnTo>
                        <a:lnTo>
                          <a:pt x="158" y="33"/>
                        </a:lnTo>
                        <a:lnTo>
                          <a:pt x="131" y="21"/>
                        </a:lnTo>
                        <a:lnTo>
                          <a:pt x="110" y="0"/>
                        </a:lnTo>
                        <a:lnTo>
                          <a:pt x="24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406960" y="5487480"/>
                    <a:ext cx="7452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7">
                        <a:moveTo>
                          <a:pt x="56" y="0"/>
                        </a:moveTo>
                        <a:lnTo>
                          <a:pt x="0" y="5"/>
                        </a:lnTo>
                        <a:lnTo>
                          <a:pt x="9" y="57"/>
                        </a:lnTo>
                        <a:lnTo>
                          <a:pt x="64" y="44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489400" y="5559120"/>
                    <a:ext cx="50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5">
                        <a:moveTo>
                          <a:pt x="0" y="21"/>
                        </a:moveTo>
                        <a:lnTo>
                          <a:pt x="43" y="0"/>
                        </a:lnTo>
                        <a:lnTo>
                          <a:pt x="43" y="49"/>
                        </a:lnTo>
                        <a:lnTo>
                          <a:pt x="14" y="55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2619720" y="5589360"/>
                    <a:ext cx="314280" cy="37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318">
                        <a:moveTo>
                          <a:pt x="45" y="0"/>
                        </a:moveTo>
                        <a:lnTo>
                          <a:pt x="0" y="121"/>
                        </a:lnTo>
                        <a:lnTo>
                          <a:pt x="32" y="181"/>
                        </a:lnTo>
                        <a:lnTo>
                          <a:pt x="32" y="289"/>
                        </a:lnTo>
                        <a:lnTo>
                          <a:pt x="97" y="318"/>
                        </a:lnTo>
                        <a:lnTo>
                          <a:pt x="126" y="255"/>
                        </a:lnTo>
                        <a:lnTo>
                          <a:pt x="208" y="241"/>
                        </a:lnTo>
                        <a:lnTo>
                          <a:pt x="270" y="171"/>
                        </a:lnTo>
                        <a:lnTo>
                          <a:pt x="205" y="63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2508480" y="5417640"/>
                    <a:ext cx="17316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124">
                        <a:moveTo>
                          <a:pt x="30" y="0"/>
                        </a:moveTo>
                        <a:lnTo>
                          <a:pt x="0" y="37"/>
                        </a:lnTo>
                        <a:lnTo>
                          <a:pt x="13" y="66"/>
                        </a:lnTo>
                        <a:lnTo>
                          <a:pt x="40" y="76"/>
                        </a:lnTo>
                        <a:lnTo>
                          <a:pt x="69" y="124"/>
                        </a:lnTo>
                        <a:lnTo>
                          <a:pt x="147" y="105"/>
                        </a:lnTo>
                        <a:lnTo>
                          <a:pt x="148" y="53"/>
                        </a:lnTo>
                        <a:lnTo>
                          <a:pt x="92" y="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" name=""/>
                <p:cNvSpPr/>
                <p:nvPr/>
              </p:nvSpPr>
              <p:spPr>
                <a:xfrm>
                  <a:off x="81000" y="4489200"/>
                  <a:ext cx="1984680" cy="1936800"/>
                </a:xfrm>
                <a:custGeom>
                  <a:avLst/>
                  <a:gdLst/>
                  <a:ahLst/>
                  <a:rect l="l" t="t" r="r" b="b"/>
                  <a:pathLst>
                    <a:path w="1702" h="1661">
                      <a:moveTo>
                        <a:pt x="272" y="247"/>
                      </a:moveTo>
                      <a:lnTo>
                        <a:pt x="614" y="0"/>
                      </a:lnTo>
                      <a:lnTo>
                        <a:pt x="777" y="43"/>
                      </a:lnTo>
                      <a:lnTo>
                        <a:pt x="856" y="122"/>
                      </a:lnTo>
                      <a:lnTo>
                        <a:pt x="1177" y="153"/>
                      </a:lnTo>
                      <a:lnTo>
                        <a:pt x="1187" y="975"/>
                      </a:lnTo>
                      <a:lnTo>
                        <a:pt x="1292" y="999"/>
                      </a:lnTo>
                      <a:lnTo>
                        <a:pt x="1340" y="1097"/>
                      </a:lnTo>
                      <a:lnTo>
                        <a:pt x="1415" y="1064"/>
                      </a:lnTo>
                      <a:lnTo>
                        <a:pt x="1569" y="1286"/>
                      </a:lnTo>
                      <a:lnTo>
                        <a:pt x="1702" y="1390"/>
                      </a:lnTo>
                      <a:lnTo>
                        <a:pt x="1697" y="1478"/>
                      </a:lnTo>
                      <a:lnTo>
                        <a:pt x="1529" y="1490"/>
                      </a:lnTo>
                      <a:lnTo>
                        <a:pt x="1455" y="1217"/>
                      </a:lnTo>
                      <a:lnTo>
                        <a:pt x="925" y="949"/>
                      </a:lnTo>
                      <a:lnTo>
                        <a:pt x="940" y="1033"/>
                      </a:lnTo>
                      <a:lnTo>
                        <a:pt x="820" y="1143"/>
                      </a:lnTo>
                      <a:lnTo>
                        <a:pt x="801" y="1102"/>
                      </a:lnTo>
                      <a:lnTo>
                        <a:pt x="767" y="1102"/>
                      </a:lnTo>
                      <a:lnTo>
                        <a:pt x="672" y="1330"/>
                      </a:lnTo>
                      <a:lnTo>
                        <a:pt x="376" y="1554"/>
                      </a:lnTo>
                      <a:lnTo>
                        <a:pt x="84" y="1661"/>
                      </a:lnTo>
                      <a:lnTo>
                        <a:pt x="0" y="1646"/>
                      </a:lnTo>
                      <a:lnTo>
                        <a:pt x="336" y="1454"/>
                      </a:lnTo>
                      <a:lnTo>
                        <a:pt x="376" y="1454"/>
                      </a:lnTo>
                      <a:lnTo>
                        <a:pt x="499" y="1306"/>
                      </a:lnTo>
                      <a:lnTo>
                        <a:pt x="554" y="1301"/>
                      </a:lnTo>
                      <a:lnTo>
                        <a:pt x="638" y="1188"/>
                      </a:lnTo>
                      <a:lnTo>
                        <a:pt x="609" y="1138"/>
                      </a:lnTo>
                      <a:lnTo>
                        <a:pt x="430" y="1162"/>
                      </a:lnTo>
                      <a:lnTo>
                        <a:pt x="307" y="880"/>
                      </a:lnTo>
                      <a:lnTo>
                        <a:pt x="376" y="752"/>
                      </a:lnTo>
                      <a:lnTo>
                        <a:pt x="489" y="707"/>
                      </a:lnTo>
                      <a:lnTo>
                        <a:pt x="449" y="594"/>
                      </a:lnTo>
                      <a:lnTo>
                        <a:pt x="331" y="647"/>
                      </a:lnTo>
                      <a:lnTo>
                        <a:pt x="242" y="484"/>
                      </a:lnTo>
                      <a:lnTo>
                        <a:pt x="341" y="445"/>
                      </a:lnTo>
                      <a:lnTo>
                        <a:pt x="430" y="489"/>
                      </a:lnTo>
                      <a:lnTo>
                        <a:pt x="470" y="465"/>
                      </a:lnTo>
                      <a:lnTo>
                        <a:pt x="396" y="326"/>
                      </a:lnTo>
                      <a:lnTo>
                        <a:pt x="267" y="316"/>
                      </a:lnTo>
                      <a:lnTo>
                        <a:pt x="272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453960" y="785520"/>
                <a:ext cx="8455680" cy="5130720"/>
                <a:chOff x="453960" y="785520"/>
                <a:chExt cx="8455680" cy="513072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3034440" y="3790440"/>
                  <a:ext cx="2294280" cy="2125800"/>
                </a:xfrm>
                <a:custGeom>
                  <a:avLst/>
                  <a:gdLst/>
                  <a:ahLst/>
                  <a:rect l="l" t="t" r="r" b="b"/>
                  <a:pathLst>
                    <a:path w="1248" h="1156">
                      <a:moveTo>
                        <a:pt x="361" y="0"/>
                      </a:moveTo>
                      <a:lnTo>
                        <a:pt x="637" y="10"/>
                      </a:lnTo>
                      <a:lnTo>
                        <a:pt x="637" y="219"/>
                      </a:lnTo>
                      <a:lnTo>
                        <a:pt x="778" y="278"/>
                      </a:lnTo>
                      <a:lnTo>
                        <a:pt x="817" y="258"/>
                      </a:lnTo>
                      <a:lnTo>
                        <a:pt x="909" y="303"/>
                      </a:lnTo>
                      <a:lnTo>
                        <a:pt x="964" y="300"/>
                      </a:lnTo>
                      <a:lnTo>
                        <a:pt x="1070" y="255"/>
                      </a:lnTo>
                      <a:lnTo>
                        <a:pt x="1131" y="299"/>
                      </a:lnTo>
                      <a:lnTo>
                        <a:pt x="1185" y="310"/>
                      </a:lnTo>
                      <a:lnTo>
                        <a:pt x="1185" y="481"/>
                      </a:lnTo>
                      <a:lnTo>
                        <a:pt x="1248" y="588"/>
                      </a:lnTo>
                      <a:lnTo>
                        <a:pt x="1233" y="733"/>
                      </a:lnTo>
                      <a:lnTo>
                        <a:pt x="1165" y="791"/>
                      </a:lnTo>
                      <a:lnTo>
                        <a:pt x="1151" y="738"/>
                      </a:lnTo>
                      <a:lnTo>
                        <a:pt x="1131" y="762"/>
                      </a:lnTo>
                      <a:lnTo>
                        <a:pt x="1146" y="796"/>
                      </a:lnTo>
                      <a:lnTo>
                        <a:pt x="1025" y="883"/>
                      </a:lnTo>
                      <a:lnTo>
                        <a:pt x="996" y="888"/>
                      </a:lnTo>
                      <a:lnTo>
                        <a:pt x="933" y="931"/>
                      </a:lnTo>
                      <a:lnTo>
                        <a:pt x="933" y="956"/>
                      </a:lnTo>
                      <a:lnTo>
                        <a:pt x="913" y="960"/>
                      </a:lnTo>
                      <a:lnTo>
                        <a:pt x="928" y="989"/>
                      </a:lnTo>
                      <a:lnTo>
                        <a:pt x="894" y="1033"/>
                      </a:lnTo>
                      <a:lnTo>
                        <a:pt x="913" y="1096"/>
                      </a:lnTo>
                      <a:lnTo>
                        <a:pt x="933" y="1117"/>
                      </a:lnTo>
                      <a:lnTo>
                        <a:pt x="928" y="1156"/>
                      </a:lnTo>
                      <a:lnTo>
                        <a:pt x="880" y="1156"/>
                      </a:lnTo>
                      <a:lnTo>
                        <a:pt x="836" y="1136"/>
                      </a:lnTo>
                      <a:lnTo>
                        <a:pt x="807" y="1141"/>
                      </a:lnTo>
                      <a:lnTo>
                        <a:pt x="710" y="1107"/>
                      </a:lnTo>
                      <a:lnTo>
                        <a:pt x="666" y="975"/>
                      </a:lnTo>
                      <a:lnTo>
                        <a:pt x="599" y="912"/>
                      </a:lnTo>
                      <a:lnTo>
                        <a:pt x="539" y="796"/>
                      </a:lnTo>
                      <a:lnTo>
                        <a:pt x="512" y="784"/>
                      </a:lnTo>
                      <a:lnTo>
                        <a:pt x="479" y="755"/>
                      </a:lnTo>
                      <a:lnTo>
                        <a:pt x="449" y="755"/>
                      </a:lnTo>
                      <a:lnTo>
                        <a:pt x="402" y="746"/>
                      </a:lnTo>
                      <a:lnTo>
                        <a:pt x="366" y="755"/>
                      </a:lnTo>
                      <a:lnTo>
                        <a:pt x="342" y="814"/>
                      </a:lnTo>
                      <a:lnTo>
                        <a:pt x="305" y="823"/>
                      </a:lnTo>
                      <a:lnTo>
                        <a:pt x="226" y="778"/>
                      </a:lnTo>
                      <a:lnTo>
                        <a:pt x="179" y="723"/>
                      </a:lnTo>
                      <a:lnTo>
                        <a:pt x="171" y="657"/>
                      </a:lnTo>
                      <a:lnTo>
                        <a:pt x="137" y="612"/>
                      </a:lnTo>
                      <a:lnTo>
                        <a:pt x="58" y="549"/>
                      </a:lnTo>
                      <a:lnTo>
                        <a:pt x="0" y="483"/>
                      </a:lnTo>
                      <a:lnTo>
                        <a:pt x="0" y="455"/>
                      </a:lnTo>
                      <a:lnTo>
                        <a:pt x="189" y="457"/>
                      </a:lnTo>
                      <a:lnTo>
                        <a:pt x="342" y="470"/>
                      </a:lnTo>
                      <a:lnTo>
                        <a:pt x="36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8285760" y="785520"/>
                  <a:ext cx="623880" cy="952560"/>
                </a:xfrm>
                <a:custGeom>
                  <a:avLst/>
                  <a:gdLst/>
                  <a:ahLst/>
                  <a:rect l="l" t="t" r="r" b="b"/>
                  <a:pathLst>
                    <a:path w="339" h="518">
                      <a:moveTo>
                        <a:pt x="79" y="16"/>
                      </a:moveTo>
                      <a:lnTo>
                        <a:pt x="29" y="111"/>
                      </a:lnTo>
                      <a:lnTo>
                        <a:pt x="53" y="147"/>
                      </a:lnTo>
                      <a:lnTo>
                        <a:pt x="29" y="190"/>
                      </a:lnTo>
                      <a:lnTo>
                        <a:pt x="43" y="205"/>
                      </a:lnTo>
                      <a:lnTo>
                        <a:pt x="34" y="234"/>
                      </a:lnTo>
                      <a:lnTo>
                        <a:pt x="34" y="282"/>
                      </a:lnTo>
                      <a:lnTo>
                        <a:pt x="0" y="300"/>
                      </a:lnTo>
                      <a:lnTo>
                        <a:pt x="13" y="314"/>
                      </a:lnTo>
                      <a:lnTo>
                        <a:pt x="84" y="495"/>
                      </a:lnTo>
                      <a:lnTo>
                        <a:pt x="140" y="518"/>
                      </a:lnTo>
                      <a:lnTo>
                        <a:pt x="137" y="481"/>
                      </a:lnTo>
                      <a:lnTo>
                        <a:pt x="164" y="452"/>
                      </a:lnTo>
                      <a:lnTo>
                        <a:pt x="155" y="421"/>
                      </a:lnTo>
                      <a:lnTo>
                        <a:pt x="224" y="384"/>
                      </a:lnTo>
                      <a:lnTo>
                        <a:pt x="227" y="334"/>
                      </a:lnTo>
                      <a:lnTo>
                        <a:pt x="268" y="331"/>
                      </a:lnTo>
                      <a:lnTo>
                        <a:pt x="300" y="292"/>
                      </a:lnTo>
                      <a:lnTo>
                        <a:pt x="339" y="266"/>
                      </a:lnTo>
                      <a:lnTo>
                        <a:pt x="339" y="234"/>
                      </a:lnTo>
                      <a:lnTo>
                        <a:pt x="285" y="224"/>
                      </a:lnTo>
                      <a:lnTo>
                        <a:pt x="276" y="189"/>
                      </a:lnTo>
                      <a:lnTo>
                        <a:pt x="222" y="184"/>
                      </a:lnTo>
                      <a:lnTo>
                        <a:pt x="179" y="30"/>
                      </a:lnTo>
                      <a:lnTo>
                        <a:pt x="159" y="0"/>
                      </a:lnTo>
                      <a:lnTo>
                        <a:pt x="106" y="13"/>
                      </a:lnTo>
                      <a:lnTo>
                        <a:pt x="96" y="27"/>
                      </a:lnTo>
                      <a:lnTo>
                        <a:pt x="79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355160" y="2665080"/>
                  <a:ext cx="801360" cy="330120"/>
                </a:xfrm>
                <a:custGeom>
                  <a:avLst/>
                  <a:gdLst/>
                  <a:ahLst/>
                  <a:rect l="l" t="t" r="r" b="b"/>
                  <a:pathLst>
                    <a:path w="505" h="208">
                      <a:moveTo>
                        <a:pt x="0" y="72"/>
                      </a:moveTo>
                      <a:lnTo>
                        <a:pt x="381" y="0"/>
                      </a:lnTo>
                      <a:lnTo>
                        <a:pt x="440" y="144"/>
                      </a:lnTo>
                      <a:lnTo>
                        <a:pt x="504" y="128"/>
                      </a:lnTo>
                      <a:lnTo>
                        <a:pt x="505" y="199"/>
                      </a:lnTo>
                      <a:lnTo>
                        <a:pt x="453" y="208"/>
                      </a:lnTo>
                      <a:lnTo>
                        <a:pt x="407" y="162"/>
                      </a:lnTo>
                      <a:lnTo>
                        <a:pt x="376" y="106"/>
                      </a:lnTo>
                      <a:lnTo>
                        <a:pt x="371" y="28"/>
                      </a:lnTo>
                      <a:lnTo>
                        <a:pt x="349" y="67"/>
                      </a:lnTo>
                      <a:lnTo>
                        <a:pt x="374" y="184"/>
                      </a:lnTo>
                      <a:lnTo>
                        <a:pt x="264" y="201"/>
                      </a:lnTo>
                      <a:lnTo>
                        <a:pt x="261" y="115"/>
                      </a:lnTo>
                      <a:lnTo>
                        <a:pt x="193" y="77"/>
                      </a:lnTo>
                      <a:lnTo>
                        <a:pt x="136" y="68"/>
                      </a:lnTo>
                      <a:lnTo>
                        <a:pt x="15" y="12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811080" y="855360"/>
                  <a:ext cx="1054080" cy="776160"/>
                </a:xfrm>
                <a:custGeom>
                  <a:avLst/>
                  <a:gdLst/>
                  <a:ahLst/>
                  <a:rect l="l" t="t" r="r" b="b"/>
                  <a:pathLst>
                    <a:path w="574" h="422">
                      <a:moveTo>
                        <a:pt x="145" y="0"/>
                      </a:moveTo>
                      <a:lnTo>
                        <a:pt x="263" y="33"/>
                      </a:lnTo>
                      <a:lnTo>
                        <a:pt x="353" y="54"/>
                      </a:lnTo>
                      <a:lnTo>
                        <a:pt x="397" y="63"/>
                      </a:lnTo>
                      <a:lnTo>
                        <a:pt x="442" y="70"/>
                      </a:lnTo>
                      <a:lnTo>
                        <a:pt x="502" y="81"/>
                      </a:lnTo>
                      <a:lnTo>
                        <a:pt x="574" y="94"/>
                      </a:lnTo>
                      <a:lnTo>
                        <a:pt x="527" y="422"/>
                      </a:lnTo>
                      <a:lnTo>
                        <a:pt x="305" y="375"/>
                      </a:lnTo>
                      <a:lnTo>
                        <a:pt x="274" y="396"/>
                      </a:lnTo>
                      <a:lnTo>
                        <a:pt x="234" y="364"/>
                      </a:lnTo>
                      <a:lnTo>
                        <a:pt x="198" y="396"/>
                      </a:lnTo>
                      <a:lnTo>
                        <a:pt x="166" y="368"/>
                      </a:lnTo>
                      <a:lnTo>
                        <a:pt x="74" y="364"/>
                      </a:lnTo>
                      <a:lnTo>
                        <a:pt x="87" y="310"/>
                      </a:lnTo>
                      <a:lnTo>
                        <a:pt x="21" y="306"/>
                      </a:lnTo>
                      <a:lnTo>
                        <a:pt x="14" y="275"/>
                      </a:lnTo>
                      <a:lnTo>
                        <a:pt x="27" y="243"/>
                      </a:lnTo>
                      <a:lnTo>
                        <a:pt x="11" y="214"/>
                      </a:lnTo>
                      <a:lnTo>
                        <a:pt x="12" y="131"/>
                      </a:lnTo>
                      <a:lnTo>
                        <a:pt x="0" y="68"/>
                      </a:lnTo>
                      <a:lnTo>
                        <a:pt x="8" y="44"/>
                      </a:lnTo>
                      <a:lnTo>
                        <a:pt x="37" y="54"/>
                      </a:lnTo>
                      <a:lnTo>
                        <a:pt x="67" y="91"/>
                      </a:lnTo>
                      <a:lnTo>
                        <a:pt x="124" y="99"/>
                      </a:lnTo>
                      <a:lnTo>
                        <a:pt x="138" y="130"/>
                      </a:lnTo>
                      <a:lnTo>
                        <a:pt x="111" y="130"/>
                      </a:lnTo>
                      <a:lnTo>
                        <a:pt x="108" y="155"/>
                      </a:lnTo>
                      <a:lnTo>
                        <a:pt x="124" y="159"/>
                      </a:lnTo>
                      <a:lnTo>
                        <a:pt x="130" y="184"/>
                      </a:lnTo>
                      <a:lnTo>
                        <a:pt x="96" y="204"/>
                      </a:lnTo>
                      <a:lnTo>
                        <a:pt x="96" y="222"/>
                      </a:lnTo>
                      <a:lnTo>
                        <a:pt x="135" y="222"/>
                      </a:lnTo>
                      <a:lnTo>
                        <a:pt x="145" y="176"/>
                      </a:lnTo>
                      <a:lnTo>
                        <a:pt x="174" y="149"/>
                      </a:lnTo>
                      <a:lnTo>
                        <a:pt x="138" y="78"/>
                      </a:lnTo>
                      <a:lnTo>
                        <a:pt x="161" y="55"/>
                      </a:lnTo>
                      <a:lnTo>
                        <a:pt x="14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560160" y="1417320"/>
                  <a:ext cx="1319760" cy="1006560"/>
                </a:xfrm>
                <a:custGeom>
                  <a:avLst/>
                  <a:gdLst/>
                  <a:ahLst/>
                  <a:rect l="l" t="t" r="r" b="b"/>
                  <a:pathLst>
                    <a:path w="717" h="547">
                      <a:moveTo>
                        <a:pt x="157" y="0"/>
                      </a:moveTo>
                      <a:lnTo>
                        <a:pt x="136" y="11"/>
                      </a:lnTo>
                      <a:lnTo>
                        <a:pt x="123" y="59"/>
                      </a:lnTo>
                      <a:lnTo>
                        <a:pt x="110" y="100"/>
                      </a:lnTo>
                      <a:lnTo>
                        <a:pt x="100" y="132"/>
                      </a:lnTo>
                      <a:lnTo>
                        <a:pt x="87" y="167"/>
                      </a:lnTo>
                      <a:lnTo>
                        <a:pt x="73" y="203"/>
                      </a:lnTo>
                      <a:lnTo>
                        <a:pt x="53" y="242"/>
                      </a:lnTo>
                      <a:lnTo>
                        <a:pt x="27" y="287"/>
                      </a:lnTo>
                      <a:lnTo>
                        <a:pt x="0" y="330"/>
                      </a:lnTo>
                      <a:lnTo>
                        <a:pt x="0" y="426"/>
                      </a:lnTo>
                      <a:lnTo>
                        <a:pt x="402" y="508"/>
                      </a:lnTo>
                      <a:lnTo>
                        <a:pt x="588" y="547"/>
                      </a:lnTo>
                      <a:lnTo>
                        <a:pt x="626" y="356"/>
                      </a:lnTo>
                      <a:lnTo>
                        <a:pt x="651" y="340"/>
                      </a:lnTo>
                      <a:lnTo>
                        <a:pt x="628" y="298"/>
                      </a:lnTo>
                      <a:lnTo>
                        <a:pt x="639" y="255"/>
                      </a:lnTo>
                      <a:lnTo>
                        <a:pt x="717" y="182"/>
                      </a:lnTo>
                      <a:lnTo>
                        <a:pt x="663" y="116"/>
                      </a:lnTo>
                      <a:lnTo>
                        <a:pt x="441" y="69"/>
                      </a:lnTo>
                      <a:lnTo>
                        <a:pt x="410" y="88"/>
                      </a:lnTo>
                      <a:lnTo>
                        <a:pt x="370" y="56"/>
                      </a:lnTo>
                      <a:lnTo>
                        <a:pt x="334" y="90"/>
                      </a:lnTo>
                      <a:lnTo>
                        <a:pt x="300" y="56"/>
                      </a:lnTo>
                      <a:lnTo>
                        <a:pt x="211" y="58"/>
                      </a:lnTo>
                      <a:lnTo>
                        <a:pt x="223" y="4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53960" y="2193480"/>
                  <a:ext cx="1387800" cy="2148120"/>
                </a:xfrm>
                <a:custGeom>
                  <a:avLst/>
                  <a:gdLst/>
                  <a:ahLst/>
                  <a:rect l="l" t="t" r="r" b="b"/>
                  <a:pathLst>
                    <a:path w="755" h="1168">
                      <a:moveTo>
                        <a:pt x="58" y="0"/>
                      </a:moveTo>
                      <a:lnTo>
                        <a:pt x="405" y="70"/>
                      </a:lnTo>
                      <a:lnTo>
                        <a:pt x="329" y="414"/>
                      </a:lnTo>
                      <a:lnTo>
                        <a:pt x="720" y="937"/>
                      </a:lnTo>
                      <a:lnTo>
                        <a:pt x="755" y="1003"/>
                      </a:lnTo>
                      <a:lnTo>
                        <a:pt x="718" y="1035"/>
                      </a:lnTo>
                      <a:lnTo>
                        <a:pt x="694" y="1093"/>
                      </a:lnTo>
                      <a:lnTo>
                        <a:pt x="671" y="1127"/>
                      </a:lnTo>
                      <a:lnTo>
                        <a:pt x="696" y="1158"/>
                      </a:lnTo>
                      <a:lnTo>
                        <a:pt x="655" y="1168"/>
                      </a:lnTo>
                      <a:lnTo>
                        <a:pt x="426" y="1160"/>
                      </a:lnTo>
                      <a:lnTo>
                        <a:pt x="412" y="1092"/>
                      </a:lnTo>
                      <a:lnTo>
                        <a:pt x="371" y="1042"/>
                      </a:lnTo>
                      <a:lnTo>
                        <a:pt x="342" y="1024"/>
                      </a:lnTo>
                      <a:lnTo>
                        <a:pt x="334" y="988"/>
                      </a:lnTo>
                      <a:lnTo>
                        <a:pt x="310" y="969"/>
                      </a:lnTo>
                      <a:lnTo>
                        <a:pt x="286" y="945"/>
                      </a:lnTo>
                      <a:lnTo>
                        <a:pt x="278" y="917"/>
                      </a:lnTo>
                      <a:lnTo>
                        <a:pt x="255" y="900"/>
                      </a:lnTo>
                      <a:lnTo>
                        <a:pt x="219" y="909"/>
                      </a:lnTo>
                      <a:lnTo>
                        <a:pt x="179" y="895"/>
                      </a:lnTo>
                      <a:lnTo>
                        <a:pt x="179" y="880"/>
                      </a:lnTo>
                      <a:lnTo>
                        <a:pt x="177" y="848"/>
                      </a:lnTo>
                      <a:lnTo>
                        <a:pt x="161" y="812"/>
                      </a:lnTo>
                      <a:lnTo>
                        <a:pt x="160" y="783"/>
                      </a:lnTo>
                      <a:lnTo>
                        <a:pt x="142" y="758"/>
                      </a:lnTo>
                      <a:lnTo>
                        <a:pt x="147" y="733"/>
                      </a:lnTo>
                      <a:lnTo>
                        <a:pt x="97" y="674"/>
                      </a:lnTo>
                      <a:lnTo>
                        <a:pt x="97" y="640"/>
                      </a:lnTo>
                      <a:lnTo>
                        <a:pt x="123" y="627"/>
                      </a:lnTo>
                      <a:lnTo>
                        <a:pt x="123" y="606"/>
                      </a:lnTo>
                      <a:lnTo>
                        <a:pt x="97" y="599"/>
                      </a:lnTo>
                      <a:lnTo>
                        <a:pt x="85" y="567"/>
                      </a:lnTo>
                      <a:lnTo>
                        <a:pt x="72" y="511"/>
                      </a:lnTo>
                      <a:lnTo>
                        <a:pt x="110" y="541"/>
                      </a:lnTo>
                      <a:lnTo>
                        <a:pt x="95" y="501"/>
                      </a:lnTo>
                      <a:lnTo>
                        <a:pt x="123" y="501"/>
                      </a:lnTo>
                      <a:lnTo>
                        <a:pt x="123" y="472"/>
                      </a:lnTo>
                      <a:lnTo>
                        <a:pt x="95" y="452"/>
                      </a:lnTo>
                      <a:lnTo>
                        <a:pt x="82" y="480"/>
                      </a:lnTo>
                      <a:lnTo>
                        <a:pt x="58" y="470"/>
                      </a:lnTo>
                      <a:lnTo>
                        <a:pt x="10" y="339"/>
                      </a:lnTo>
                      <a:lnTo>
                        <a:pt x="22" y="246"/>
                      </a:lnTo>
                      <a:lnTo>
                        <a:pt x="0" y="193"/>
                      </a:lnTo>
                      <a:lnTo>
                        <a:pt x="11" y="152"/>
                      </a:lnTo>
                      <a:lnTo>
                        <a:pt x="35" y="144"/>
                      </a:lnTo>
                      <a:lnTo>
                        <a:pt x="58" y="80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58760" y="2328480"/>
                  <a:ext cx="1050840" cy="1587600"/>
                </a:xfrm>
                <a:custGeom>
                  <a:avLst/>
                  <a:gdLst/>
                  <a:ahLst/>
                  <a:rect l="l" t="t" r="r" b="b"/>
                  <a:pathLst>
                    <a:path w="572" h="864">
                      <a:moveTo>
                        <a:pt x="73" y="0"/>
                      </a:moveTo>
                      <a:lnTo>
                        <a:pt x="0" y="342"/>
                      </a:lnTo>
                      <a:lnTo>
                        <a:pt x="389" y="864"/>
                      </a:lnTo>
                      <a:lnTo>
                        <a:pt x="413" y="841"/>
                      </a:lnTo>
                      <a:lnTo>
                        <a:pt x="412" y="738"/>
                      </a:lnTo>
                      <a:lnTo>
                        <a:pt x="460" y="746"/>
                      </a:lnTo>
                      <a:lnTo>
                        <a:pt x="510" y="429"/>
                      </a:lnTo>
                      <a:lnTo>
                        <a:pt x="544" y="215"/>
                      </a:lnTo>
                      <a:lnTo>
                        <a:pt x="554" y="150"/>
                      </a:lnTo>
                      <a:lnTo>
                        <a:pt x="572" y="92"/>
                      </a:lnTo>
                      <a:lnTo>
                        <a:pt x="315" y="52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638360" y="1025280"/>
                  <a:ext cx="946080" cy="1533240"/>
                </a:xfrm>
                <a:custGeom>
                  <a:avLst/>
                  <a:gdLst/>
                  <a:ahLst/>
                  <a:rect l="l" t="t" r="r" b="b"/>
                  <a:pathLst>
                    <a:path w="515" h="835">
                      <a:moveTo>
                        <a:pt x="124" y="0"/>
                      </a:moveTo>
                      <a:lnTo>
                        <a:pt x="77" y="327"/>
                      </a:lnTo>
                      <a:lnTo>
                        <a:pt x="126" y="396"/>
                      </a:lnTo>
                      <a:lnTo>
                        <a:pt x="50" y="469"/>
                      </a:lnTo>
                      <a:lnTo>
                        <a:pt x="40" y="519"/>
                      </a:lnTo>
                      <a:lnTo>
                        <a:pt x="61" y="554"/>
                      </a:lnTo>
                      <a:lnTo>
                        <a:pt x="40" y="572"/>
                      </a:lnTo>
                      <a:lnTo>
                        <a:pt x="0" y="761"/>
                      </a:lnTo>
                      <a:lnTo>
                        <a:pt x="245" y="804"/>
                      </a:lnTo>
                      <a:lnTo>
                        <a:pt x="478" y="835"/>
                      </a:lnTo>
                      <a:lnTo>
                        <a:pt x="502" y="662"/>
                      </a:lnTo>
                      <a:lnTo>
                        <a:pt x="515" y="567"/>
                      </a:lnTo>
                      <a:lnTo>
                        <a:pt x="492" y="533"/>
                      </a:lnTo>
                      <a:lnTo>
                        <a:pt x="439" y="543"/>
                      </a:lnTo>
                      <a:lnTo>
                        <a:pt x="370" y="551"/>
                      </a:lnTo>
                      <a:lnTo>
                        <a:pt x="357" y="473"/>
                      </a:lnTo>
                      <a:lnTo>
                        <a:pt x="273" y="410"/>
                      </a:lnTo>
                      <a:lnTo>
                        <a:pt x="284" y="370"/>
                      </a:lnTo>
                      <a:lnTo>
                        <a:pt x="292" y="299"/>
                      </a:lnTo>
                      <a:lnTo>
                        <a:pt x="184" y="146"/>
                      </a:lnTo>
                      <a:lnTo>
                        <a:pt x="199" y="10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928880" y="2499840"/>
                  <a:ext cx="878040" cy="1133640"/>
                </a:xfrm>
                <a:custGeom>
                  <a:avLst/>
                  <a:gdLst/>
                  <a:ahLst/>
                  <a:rect l="l" t="t" r="r" b="b"/>
                  <a:pathLst>
                    <a:path w="478" h="616">
                      <a:moveTo>
                        <a:pt x="89" y="0"/>
                      </a:moveTo>
                      <a:lnTo>
                        <a:pt x="323" y="32"/>
                      </a:lnTo>
                      <a:lnTo>
                        <a:pt x="307" y="150"/>
                      </a:lnTo>
                      <a:lnTo>
                        <a:pt x="478" y="166"/>
                      </a:lnTo>
                      <a:lnTo>
                        <a:pt x="431" y="616"/>
                      </a:lnTo>
                      <a:lnTo>
                        <a:pt x="0" y="570"/>
                      </a:lnTo>
                      <a:lnTo>
                        <a:pt x="44" y="282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970280" y="1041120"/>
                  <a:ext cx="1648080" cy="1025280"/>
                </a:xfrm>
                <a:custGeom>
                  <a:avLst/>
                  <a:gdLst/>
                  <a:ahLst/>
                  <a:rect l="l" t="t" r="r" b="b"/>
                  <a:pathLst>
                    <a:path w="896" h="558">
                      <a:moveTo>
                        <a:pt x="14" y="0"/>
                      </a:moveTo>
                      <a:lnTo>
                        <a:pt x="190" y="22"/>
                      </a:lnTo>
                      <a:lnTo>
                        <a:pt x="297" y="37"/>
                      </a:lnTo>
                      <a:lnTo>
                        <a:pt x="437" y="51"/>
                      </a:lnTo>
                      <a:lnTo>
                        <a:pt x="566" y="64"/>
                      </a:lnTo>
                      <a:lnTo>
                        <a:pt x="791" y="80"/>
                      </a:lnTo>
                      <a:lnTo>
                        <a:pt x="896" y="88"/>
                      </a:lnTo>
                      <a:lnTo>
                        <a:pt x="893" y="544"/>
                      </a:lnTo>
                      <a:lnTo>
                        <a:pt x="344" y="497"/>
                      </a:lnTo>
                      <a:lnTo>
                        <a:pt x="332" y="558"/>
                      </a:lnTo>
                      <a:lnTo>
                        <a:pt x="311" y="529"/>
                      </a:lnTo>
                      <a:lnTo>
                        <a:pt x="261" y="534"/>
                      </a:lnTo>
                      <a:lnTo>
                        <a:pt x="189" y="545"/>
                      </a:lnTo>
                      <a:lnTo>
                        <a:pt x="176" y="466"/>
                      </a:lnTo>
                      <a:lnTo>
                        <a:pt x="90" y="403"/>
                      </a:lnTo>
                      <a:lnTo>
                        <a:pt x="103" y="343"/>
                      </a:lnTo>
                      <a:lnTo>
                        <a:pt x="111" y="295"/>
                      </a:lnTo>
                      <a:lnTo>
                        <a:pt x="0" y="138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484720" y="1945800"/>
                  <a:ext cx="1128600" cy="922320"/>
                </a:xfrm>
                <a:custGeom>
                  <a:avLst/>
                  <a:gdLst/>
                  <a:ahLst/>
                  <a:rect l="l" t="t" r="r" b="b"/>
                  <a:pathLst>
                    <a:path w="614" h="502">
                      <a:moveTo>
                        <a:pt x="60" y="0"/>
                      </a:moveTo>
                      <a:lnTo>
                        <a:pt x="37" y="187"/>
                      </a:lnTo>
                      <a:lnTo>
                        <a:pt x="0" y="455"/>
                      </a:lnTo>
                      <a:lnTo>
                        <a:pt x="178" y="470"/>
                      </a:lnTo>
                      <a:lnTo>
                        <a:pt x="593" y="502"/>
                      </a:lnTo>
                      <a:lnTo>
                        <a:pt x="614" y="52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2711520" y="2806200"/>
                  <a:ext cx="1176480" cy="874800"/>
                </a:xfrm>
                <a:custGeom>
                  <a:avLst/>
                  <a:gdLst/>
                  <a:ahLst/>
                  <a:rect l="l" t="t" r="r" b="b"/>
                  <a:pathLst>
                    <a:path w="640" h="476">
                      <a:moveTo>
                        <a:pt x="54" y="0"/>
                      </a:moveTo>
                      <a:lnTo>
                        <a:pt x="21" y="286"/>
                      </a:lnTo>
                      <a:lnTo>
                        <a:pt x="0" y="450"/>
                      </a:lnTo>
                      <a:lnTo>
                        <a:pt x="320" y="467"/>
                      </a:lnTo>
                      <a:lnTo>
                        <a:pt x="625" y="476"/>
                      </a:lnTo>
                      <a:lnTo>
                        <a:pt x="635" y="253"/>
                      </a:lnTo>
                      <a:lnTo>
                        <a:pt x="640" y="36"/>
                      </a:lnTo>
                      <a:lnTo>
                        <a:pt x="465" y="32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655640" y="3541320"/>
                  <a:ext cx="1065240" cy="1184400"/>
                </a:xfrm>
                <a:custGeom>
                  <a:avLst/>
                  <a:gdLst/>
                  <a:ahLst/>
                  <a:rect l="l" t="t" r="r" b="b"/>
                  <a:pathLst>
                    <a:path w="579" h="644">
                      <a:moveTo>
                        <a:pt x="147" y="0"/>
                      </a:moveTo>
                      <a:lnTo>
                        <a:pt x="135" y="84"/>
                      </a:lnTo>
                      <a:lnTo>
                        <a:pt x="85" y="75"/>
                      </a:lnTo>
                      <a:lnTo>
                        <a:pt x="88" y="183"/>
                      </a:lnTo>
                      <a:lnTo>
                        <a:pt x="64" y="204"/>
                      </a:lnTo>
                      <a:lnTo>
                        <a:pt x="100" y="270"/>
                      </a:lnTo>
                      <a:lnTo>
                        <a:pt x="64" y="299"/>
                      </a:lnTo>
                      <a:lnTo>
                        <a:pt x="45" y="347"/>
                      </a:lnTo>
                      <a:lnTo>
                        <a:pt x="17" y="394"/>
                      </a:lnTo>
                      <a:lnTo>
                        <a:pt x="37" y="422"/>
                      </a:lnTo>
                      <a:lnTo>
                        <a:pt x="3" y="433"/>
                      </a:lnTo>
                      <a:lnTo>
                        <a:pt x="0" y="477"/>
                      </a:lnTo>
                      <a:lnTo>
                        <a:pt x="326" y="641"/>
                      </a:lnTo>
                      <a:lnTo>
                        <a:pt x="510" y="644"/>
                      </a:lnTo>
                      <a:lnTo>
                        <a:pt x="579" y="50"/>
                      </a:lnTo>
                      <a:lnTo>
                        <a:pt x="14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584800" y="3625560"/>
                  <a:ext cx="1130040" cy="1122120"/>
                </a:xfrm>
                <a:custGeom>
                  <a:avLst/>
                  <a:gdLst/>
                  <a:ahLst/>
                  <a:rect l="l" t="t" r="r" b="b"/>
                  <a:pathLst>
                    <a:path w="615" h="610">
                      <a:moveTo>
                        <a:pt x="74" y="0"/>
                      </a:moveTo>
                      <a:lnTo>
                        <a:pt x="615" y="24"/>
                      </a:lnTo>
                      <a:lnTo>
                        <a:pt x="589" y="563"/>
                      </a:lnTo>
                      <a:lnTo>
                        <a:pt x="413" y="553"/>
                      </a:lnTo>
                      <a:lnTo>
                        <a:pt x="249" y="548"/>
                      </a:lnTo>
                      <a:lnTo>
                        <a:pt x="249" y="569"/>
                      </a:lnTo>
                      <a:lnTo>
                        <a:pt x="111" y="569"/>
                      </a:lnTo>
                      <a:lnTo>
                        <a:pt x="103" y="610"/>
                      </a:lnTo>
                      <a:lnTo>
                        <a:pt x="0" y="597"/>
                      </a:lnTo>
                      <a:lnTo>
                        <a:pt x="58" y="140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615480" y="1203120"/>
                  <a:ext cx="1104840" cy="645840"/>
                </a:xfrm>
                <a:custGeom>
                  <a:avLst/>
                  <a:gdLst/>
                  <a:ahLst/>
                  <a:rect l="l" t="t" r="r" b="b"/>
                  <a:pathLst>
                    <a:path w="601" h="352">
                      <a:moveTo>
                        <a:pt x="2" y="0"/>
                      </a:moveTo>
                      <a:lnTo>
                        <a:pt x="504" y="12"/>
                      </a:lnTo>
                      <a:lnTo>
                        <a:pt x="541" y="115"/>
                      </a:lnTo>
                      <a:lnTo>
                        <a:pt x="577" y="194"/>
                      </a:lnTo>
                      <a:lnTo>
                        <a:pt x="601" y="323"/>
                      </a:lnTo>
                      <a:lnTo>
                        <a:pt x="586" y="352"/>
                      </a:lnTo>
                      <a:lnTo>
                        <a:pt x="401" y="347"/>
                      </a:lnTo>
                      <a:lnTo>
                        <a:pt x="0" y="34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585240" y="1825200"/>
                  <a:ext cx="1160280" cy="758880"/>
                </a:xfrm>
                <a:custGeom>
                  <a:avLst/>
                  <a:gdLst/>
                  <a:ahLst/>
                  <a:rect l="l" t="t" r="r" b="b"/>
                  <a:pathLst>
                    <a:path w="631" h="412">
                      <a:moveTo>
                        <a:pt x="11" y="0"/>
                      </a:moveTo>
                      <a:lnTo>
                        <a:pt x="10" y="160"/>
                      </a:lnTo>
                      <a:lnTo>
                        <a:pt x="0" y="347"/>
                      </a:lnTo>
                      <a:lnTo>
                        <a:pt x="459" y="354"/>
                      </a:lnTo>
                      <a:lnTo>
                        <a:pt x="507" y="380"/>
                      </a:lnTo>
                      <a:lnTo>
                        <a:pt x="541" y="344"/>
                      </a:lnTo>
                      <a:lnTo>
                        <a:pt x="631" y="412"/>
                      </a:lnTo>
                      <a:lnTo>
                        <a:pt x="618" y="341"/>
                      </a:lnTo>
                      <a:lnTo>
                        <a:pt x="626" y="286"/>
                      </a:lnTo>
                      <a:lnTo>
                        <a:pt x="631" y="99"/>
                      </a:lnTo>
                      <a:lnTo>
                        <a:pt x="591" y="58"/>
                      </a:lnTo>
                      <a:lnTo>
                        <a:pt x="607" y="7"/>
                      </a:lnTo>
                      <a:lnTo>
                        <a:pt x="307" y="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567600" y="2457000"/>
                  <a:ext cx="1384920" cy="622440"/>
                </a:xfrm>
                <a:custGeom>
                  <a:avLst/>
                  <a:gdLst/>
                  <a:ahLst/>
                  <a:rect l="l" t="t" r="r" b="b"/>
                  <a:pathLst>
                    <a:path w="753" h="339">
                      <a:moveTo>
                        <a:pt x="8" y="0"/>
                      </a:moveTo>
                      <a:lnTo>
                        <a:pt x="0" y="224"/>
                      </a:lnTo>
                      <a:lnTo>
                        <a:pt x="170" y="229"/>
                      </a:lnTo>
                      <a:lnTo>
                        <a:pt x="168" y="339"/>
                      </a:lnTo>
                      <a:lnTo>
                        <a:pt x="397" y="335"/>
                      </a:lnTo>
                      <a:lnTo>
                        <a:pt x="603" y="332"/>
                      </a:lnTo>
                      <a:lnTo>
                        <a:pt x="753" y="335"/>
                      </a:lnTo>
                      <a:lnTo>
                        <a:pt x="706" y="240"/>
                      </a:lnTo>
                      <a:lnTo>
                        <a:pt x="674" y="151"/>
                      </a:lnTo>
                      <a:lnTo>
                        <a:pt x="638" y="59"/>
                      </a:lnTo>
                      <a:lnTo>
                        <a:pt x="552" y="1"/>
                      </a:lnTo>
                      <a:lnTo>
                        <a:pt x="514" y="35"/>
                      </a:lnTo>
                      <a:lnTo>
                        <a:pt x="467" y="11"/>
                      </a:lnTo>
                      <a:lnTo>
                        <a:pt x="262" y="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861360" y="3063600"/>
                  <a:ext cx="1217880" cy="620640"/>
                </a:xfrm>
                <a:custGeom>
                  <a:avLst/>
                  <a:gdLst/>
                  <a:ahLst/>
                  <a:rect l="l" t="t" r="r" b="b"/>
                  <a:pathLst>
                    <a:path w="662" h="338">
                      <a:moveTo>
                        <a:pt x="7" y="4"/>
                      </a:moveTo>
                      <a:lnTo>
                        <a:pt x="5" y="197"/>
                      </a:lnTo>
                      <a:lnTo>
                        <a:pt x="0" y="335"/>
                      </a:lnTo>
                      <a:lnTo>
                        <a:pt x="662" y="338"/>
                      </a:lnTo>
                      <a:lnTo>
                        <a:pt x="649" y="162"/>
                      </a:lnTo>
                      <a:lnTo>
                        <a:pt x="649" y="96"/>
                      </a:lnTo>
                      <a:lnTo>
                        <a:pt x="596" y="55"/>
                      </a:lnTo>
                      <a:lnTo>
                        <a:pt x="612" y="20"/>
                      </a:lnTo>
                      <a:lnTo>
                        <a:pt x="589" y="0"/>
                      </a:lnTo>
                      <a:lnTo>
                        <a:pt x="289" y="4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697920" y="3669840"/>
                  <a:ext cx="1419480" cy="682560"/>
                </a:xfrm>
                <a:custGeom>
                  <a:avLst/>
                  <a:gdLst/>
                  <a:ahLst/>
                  <a:rect l="l" t="t" r="r" b="b"/>
                  <a:pathLst>
                    <a:path w="772" h="371">
                      <a:moveTo>
                        <a:pt x="5" y="0"/>
                      </a:moveTo>
                      <a:lnTo>
                        <a:pt x="0" y="66"/>
                      </a:lnTo>
                      <a:lnTo>
                        <a:pt x="275" y="76"/>
                      </a:lnTo>
                      <a:lnTo>
                        <a:pt x="276" y="287"/>
                      </a:lnTo>
                      <a:lnTo>
                        <a:pt x="417" y="345"/>
                      </a:lnTo>
                      <a:lnTo>
                        <a:pt x="456" y="324"/>
                      </a:lnTo>
                      <a:lnTo>
                        <a:pt x="544" y="371"/>
                      </a:lnTo>
                      <a:lnTo>
                        <a:pt x="603" y="369"/>
                      </a:lnTo>
                      <a:lnTo>
                        <a:pt x="709" y="324"/>
                      </a:lnTo>
                      <a:lnTo>
                        <a:pt x="772" y="368"/>
                      </a:lnTo>
                      <a:lnTo>
                        <a:pt x="772" y="139"/>
                      </a:lnTo>
                      <a:lnTo>
                        <a:pt x="753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092200" y="3703320"/>
                  <a:ext cx="796680" cy="744480"/>
                </a:xfrm>
                <a:custGeom>
                  <a:avLst/>
                  <a:gdLst/>
                  <a:ahLst/>
                  <a:rect l="l" t="t" r="r" b="b"/>
                  <a:pathLst>
                    <a:path w="434" h="405">
                      <a:moveTo>
                        <a:pt x="0" y="37"/>
                      </a:moveTo>
                      <a:lnTo>
                        <a:pt x="171" y="16"/>
                      </a:lnTo>
                      <a:lnTo>
                        <a:pt x="382" y="0"/>
                      </a:lnTo>
                      <a:lnTo>
                        <a:pt x="371" y="53"/>
                      </a:lnTo>
                      <a:lnTo>
                        <a:pt x="418" y="41"/>
                      </a:lnTo>
                      <a:lnTo>
                        <a:pt x="434" y="77"/>
                      </a:lnTo>
                      <a:lnTo>
                        <a:pt x="385" y="109"/>
                      </a:lnTo>
                      <a:lnTo>
                        <a:pt x="397" y="166"/>
                      </a:lnTo>
                      <a:lnTo>
                        <a:pt x="347" y="259"/>
                      </a:lnTo>
                      <a:lnTo>
                        <a:pt x="309" y="318"/>
                      </a:lnTo>
                      <a:lnTo>
                        <a:pt x="330" y="392"/>
                      </a:lnTo>
                      <a:lnTo>
                        <a:pt x="62" y="405"/>
                      </a:lnTo>
                      <a:lnTo>
                        <a:pt x="61" y="359"/>
                      </a:lnTo>
                      <a:lnTo>
                        <a:pt x="8" y="350"/>
                      </a:lnTo>
                      <a:lnTo>
                        <a:pt x="8" y="109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204880" y="4419360"/>
                  <a:ext cx="974520" cy="782640"/>
                </a:xfrm>
                <a:custGeom>
                  <a:avLst/>
                  <a:gdLst/>
                  <a:ahLst/>
                  <a:rect l="l" t="t" r="r" b="b"/>
                  <a:pathLst>
                    <a:path w="530" h="425">
                      <a:moveTo>
                        <a:pt x="0" y="10"/>
                      </a:moveTo>
                      <a:lnTo>
                        <a:pt x="265" y="0"/>
                      </a:lnTo>
                      <a:lnTo>
                        <a:pt x="312" y="87"/>
                      </a:lnTo>
                      <a:lnTo>
                        <a:pt x="272" y="191"/>
                      </a:lnTo>
                      <a:lnTo>
                        <a:pt x="259" y="237"/>
                      </a:lnTo>
                      <a:lnTo>
                        <a:pt x="436" y="218"/>
                      </a:lnTo>
                      <a:lnTo>
                        <a:pt x="448" y="286"/>
                      </a:lnTo>
                      <a:lnTo>
                        <a:pt x="394" y="279"/>
                      </a:lnTo>
                      <a:lnTo>
                        <a:pt x="370" y="308"/>
                      </a:lnTo>
                      <a:lnTo>
                        <a:pt x="398" y="328"/>
                      </a:lnTo>
                      <a:lnTo>
                        <a:pt x="446" y="305"/>
                      </a:lnTo>
                      <a:lnTo>
                        <a:pt x="448" y="338"/>
                      </a:lnTo>
                      <a:lnTo>
                        <a:pt x="477" y="310"/>
                      </a:lnTo>
                      <a:lnTo>
                        <a:pt x="496" y="310"/>
                      </a:lnTo>
                      <a:lnTo>
                        <a:pt x="474" y="367"/>
                      </a:lnTo>
                      <a:lnTo>
                        <a:pt x="517" y="376"/>
                      </a:lnTo>
                      <a:lnTo>
                        <a:pt x="530" y="407"/>
                      </a:lnTo>
                      <a:lnTo>
                        <a:pt x="511" y="417"/>
                      </a:lnTo>
                      <a:lnTo>
                        <a:pt x="483" y="397"/>
                      </a:lnTo>
                      <a:lnTo>
                        <a:pt x="432" y="383"/>
                      </a:lnTo>
                      <a:lnTo>
                        <a:pt x="443" y="420"/>
                      </a:lnTo>
                      <a:lnTo>
                        <a:pt x="417" y="425"/>
                      </a:lnTo>
                      <a:lnTo>
                        <a:pt x="396" y="391"/>
                      </a:lnTo>
                      <a:lnTo>
                        <a:pt x="383" y="412"/>
                      </a:lnTo>
                      <a:lnTo>
                        <a:pt x="306" y="412"/>
                      </a:lnTo>
                      <a:lnTo>
                        <a:pt x="306" y="391"/>
                      </a:lnTo>
                      <a:lnTo>
                        <a:pt x="277" y="367"/>
                      </a:lnTo>
                      <a:lnTo>
                        <a:pt x="218" y="363"/>
                      </a:lnTo>
                      <a:lnTo>
                        <a:pt x="267" y="391"/>
                      </a:lnTo>
                      <a:lnTo>
                        <a:pt x="199" y="405"/>
                      </a:lnTo>
                      <a:lnTo>
                        <a:pt x="93" y="386"/>
                      </a:lnTo>
                      <a:lnTo>
                        <a:pt x="52" y="391"/>
                      </a:lnTo>
                      <a:lnTo>
                        <a:pt x="67" y="249"/>
                      </a:lnTo>
                      <a:lnTo>
                        <a:pt x="2" y="136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38160" y="1125360"/>
                  <a:ext cx="1087200" cy="1222200"/>
                </a:xfrm>
                <a:custGeom>
                  <a:avLst/>
                  <a:gdLst/>
                  <a:ahLst/>
                  <a:rect l="l" t="t" r="r" b="b"/>
                  <a:pathLst>
                    <a:path w="591" h="665">
                      <a:moveTo>
                        <a:pt x="0" y="52"/>
                      </a:moveTo>
                      <a:lnTo>
                        <a:pt x="155" y="52"/>
                      </a:lnTo>
                      <a:lnTo>
                        <a:pt x="154" y="0"/>
                      </a:lnTo>
                      <a:lnTo>
                        <a:pt x="188" y="15"/>
                      </a:lnTo>
                      <a:lnTo>
                        <a:pt x="194" y="55"/>
                      </a:lnTo>
                      <a:lnTo>
                        <a:pt x="268" y="99"/>
                      </a:lnTo>
                      <a:lnTo>
                        <a:pt x="291" y="79"/>
                      </a:lnTo>
                      <a:lnTo>
                        <a:pt x="334" y="79"/>
                      </a:lnTo>
                      <a:lnTo>
                        <a:pt x="368" y="118"/>
                      </a:lnTo>
                      <a:lnTo>
                        <a:pt x="391" y="104"/>
                      </a:lnTo>
                      <a:lnTo>
                        <a:pt x="456" y="120"/>
                      </a:lnTo>
                      <a:lnTo>
                        <a:pt x="478" y="91"/>
                      </a:lnTo>
                      <a:lnTo>
                        <a:pt x="518" y="113"/>
                      </a:lnTo>
                      <a:lnTo>
                        <a:pt x="591" y="110"/>
                      </a:lnTo>
                      <a:lnTo>
                        <a:pt x="473" y="192"/>
                      </a:lnTo>
                      <a:lnTo>
                        <a:pt x="415" y="265"/>
                      </a:lnTo>
                      <a:lnTo>
                        <a:pt x="426" y="370"/>
                      </a:lnTo>
                      <a:lnTo>
                        <a:pt x="386" y="414"/>
                      </a:lnTo>
                      <a:lnTo>
                        <a:pt x="402" y="444"/>
                      </a:lnTo>
                      <a:lnTo>
                        <a:pt x="402" y="522"/>
                      </a:lnTo>
                      <a:lnTo>
                        <a:pt x="443" y="522"/>
                      </a:lnTo>
                      <a:lnTo>
                        <a:pt x="502" y="578"/>
                      </a:lnTo>
                      <a:lnTo>
                        <a:pt x="527" y="646"/>
                      </a:lnTo>
                      <a:lnTo>
                        <a:pt x="108" y="665"/>
                      </a:lnTo>
                      <a:lnTo>
                        <a:pt x="110" y="481"/>
                      </a:lnTo>
                      <a:lnTo>
                        <a:pt x="73" y="441"/>
                      </a:lnTo>
                      <a:lnTo>
                        <a:pt x="86" y="393"/>
                      </a:lnTo>
                      <a:lnTo>
                        <a:pt x="99" y="365"/>
                      </a:lnTo>
                      <a:lnTo>
                        <a:pt x="73" y="238"/>
                      </a:lnTo>
                      <a:lnTo>
                        <a:pt x="37" y="154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243040" y="1549080"/>
                  <a:ext cx="825480" cy="961920"/>
                </a:xfrm>
                <a:custGeom>
                  <a:avLst/>
                  <a:gdLst/>
                  <a:ahLst/>
                  <a:rect l="l" t="t" r="r" b="b"/>
                  <a:pathLst>
                    <a:path w="449" h="524">
                      <a:moveTo>
                        <a:pt x="32" y="35"/>
                      </a:moveTo>
                      <a:lnTo>
                        <a:pt x="66" y="30"/>
                      </a:lnTo>
                      <a:lnTo>
                        <a:pt x="97" y="30"/>
                      </a:lnTo>
                      <a:lnTo>
                        <a:pt x="116" y="0"/>
                      </a:lnTo>
                      <a:lnTo>
                        <a:pt x="131" y="38"/>
                      </a:lnTo>
                      <a:lnTo>
                        <a:pt x="179" y="38"/>
                      </a:lnTo>
                      <a:lnTo>
                        <a:pt x="205" y="74"/>
                      </a:lnTo>
                      <a:lnTo>
                        <a:pt x="255" y="64"/>
                      </a:lnTo>
                      <a:lnTo>
                        <a:pt x="289" y="87"/>
                      </a:lnTo>
                      <a:lnTo>
                        <a:pt x="352" y="103"/>
                      </a:lnTo>
                      <a:lnTo>
                        <a:pt x="363" y="130"/>
                      </a:lnTo>
                      <a:lnTo>
                        <a:pt x="395" y="132"/>
                      </a:lnTo>
                      <a:lnTo>
                        <a:pt x="386" y="159"/>
                      </a:lnTo>
                      <a:lnTo>
                        <a:pt x="397" y="190"/>
                      </a:lnTo>
                      <a:lnTo>
                        <a:pt x="376" y="229"/>
                      </a:lnTo>
                      <a:lnTo>
                        <a:pt x="391" y="237"/>
                      </a:lnTo>
                      <a:lnTo>
                        <a:pt x="426" y="195"/>
                      </a:lnTo>
                      <a:lnTo>
                        <a:pt x="424" y="180"/>
                      </a:lnTo>
                      <a:lnTo>
                        <a:pt x="439" y="174"/>
                      </a:lnTo>
                      <a:lnTo>
                        <a:pt x="449" y="195"/>
                      </a:lnTo>
                      <a:lnTo>
                        <a:pt x="421" y="224"/>
                      </a:lnTo>
                      <a:lnTo>
                        <a:pt x="410" y="290"/>
                      </a:lnTo>
                      <a:lnTo>
                        <a:pt x="410" y="402"/>
                      </a:lnTo>
                      <a:lnTo>
                        <a:pt x="426" y="421"/>
                      </a:lnTo>
                      <a:lnTo>
                        <a:pt x="420" y="490"/>
                      </a:lnTo>
                      <a:lnTo>
                        <a:pt x="206" y="524"/>
                      </a:lnTo>
                      <a:lnTo>
                        <a:pt x="153" y="492"/>
                      </a:lnTo>
                      <a:lnTo>
                        <a:pt x="165" y="450"/>
                      </a:lnTo>
                      <a:lnTo>
                        <a:pt x="139" y="405"/>
                      </a:lnTo>
                      <a:lnTo>
                        <a:pt x="116" y="348"/>
                      </a:lnTo>
                      <a:lnTo>
                        <a:pt x="56" y="292"/>
                      </a:lnTo>
                      <a:lnTo>
                        <a:pt x="19" y="292"/>
                      </a:lnTo>
                      <a:lnTo>
                        <a:pt x="19" y="214"/>
                      </a:lnTo>
                      <a:lnTo>
                        <a:pt x="0" y="185"/>
                      </a:lnTo>
                      <a:lnTo>
                        <a:pt x="42" y="140"/>
                      </a:lnTo>
                      <a:lnTo>
                        <a:pt x="32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720680" y="2309400"/>
                  <a:ext cx="957240" cy="623880"/>
                </a:xfrm>
                <a:custGeom>
                  <a:avLst/>
                  <a:gdLst/>
                  <a:ahLst/>
                  <a:rect l="l" t="t" r="r" b="b"/>
                  <a:pathLst>
                    <a:path w="521" h="339">
                      <a:moveTo>
                        <a:pt x="8" y="18"/>
                      </a:moveTo>
                      <a:lnTo>
                        <a:pt x="0" y="78"/>
                      </a:lnTo>
                      <a:lnTo>
                        <a:pt x="11" y="141"/>
                      </a:lnTo>
                      <a:lnTo>
                        <a:pt x="59" y="270"/>
                      </a:lnTo>
                      <a:lnTo>
                        <a:pt x="87" y="339"/>
                      </a:lnTo>
                      <a:lnTo>
                        <a:pt x="394" y="323"/>
                      </a:lnTo>
                      <a:lnTo>
                        <a:pt x="444" y="339"/>
                      </a:lnTo>
                      <a:lnTo>
                        <a:pt x="474" y="273"/>
                      </a:lnTo>
                      <a:lnTo>
                        <a:pt x="463" y="226"/>
                      </a:lnTo>
                      <a:lnTo>
                        <a:pt x="515" y="217"/>
                      </a:lnTo>
                      <a:lnTo>
                        <a:pt x="521" y="142"/>
                      </a:lnTo>
                      <a:lnTo>
                        <a:pt x="490" y="110"/>
                      </a:lnTo>
                      <a:lnTo>
                        <a:pt x="437" y="78"/>
                      </a:lnTo>
                      <a:lnTo>
                        <a:pt x="449" y="33"/>
                      </a:lnTo>
                      <a:lnTo>
                        <a:pt x="426" y="0"/>
                      </a:lnTo>
                      <a:lnTo>
                        <a:pt x="311" y="5"/>
                      </a:lnTo>
                      <a:lnTo>
                        <a:pt x="195" y="10"/>
                      </a:lnTo>
                      <a:lnTo>
                        <a:pt x="8" y="1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565600" y="1410840"/>
                  <a:ext cx="888840" cy="384120"/>
                </a:xfrm>
                <a:custGeom>
                  <a:avLst/>
                  <a:gdLst/>
                  <a:ahLst/>
                  <a:rect l="l" t="t" r="r" b="b"/>
                  <a:pathLst>
                    <a:path w="483" h="209">
                      <a:moveTo>
                        <a:pt x="0" y="115"/>
                      </a:moveTo>
                      <a:lnTo>
                        <a:pt x="108" y="0"/>
                      </a:lnTo>
                      <a:lnTo>
                        <a:pt x="89" y="47"/>
                      </a:lnTo>
                      <a:lnTo>
                        <a:pt x="103" y="62"/>
                      </a:lnTo>
                      <a:lnTo>
                        <a:pt x="137" y="42"/>
                      </a:lnTo>
                      <a:lnTo>
                        <a:pt x="211" y="71"/>
                      </a:lnTo>
                      <a:lnTo>
                        <a:pt x="244" y="47"/>
                      </a:lnTo>
                      <a:lnTo>
                        <a:pt x="344" y="34"/>
                      </a:lnTo>
                      <a:lnTo>
                        <a:pt x="363" y="63"/>
                      </a:lnTo>
                      <a:lnTo>
                        <a:pt x="402" y="57"/>
                      </a:lnTo>
                      <a:lnTo>
                        <a:pt x="478" y="87"/>
                      </a:lnTo>
                      <a:lnTo>
                        <a:pt x="483" y="110"/>
                      </a:lnTo>
                      <a:lnTo>
                        <a:pt x="400" y="129"/>
                      </a:lnTo>
                      <a:lnTo>
                        <a:pt x="376" y="115"/>
                      </a:lnTo>
                      <a:lnTo>
                        <a:pt x="334" y="120"/>
                      </a:lnTo>
                      <a:lnTo>
                        <a:pt x="286" y="149"/>
                      </a:lnTo>
                      <a:lnTo>
                        <a:pt x="263" y="150"/>
                      </a:lnTo>
                      <a:lnTo>
                        <a:pt x="245" y="129"/>
                      </a:lnTo>
                      <a:lnTo>
                        <a:pt x="218" y="207"/>
                      </a:lnTo>
                      <a:lnTo>
                        <a:pt x="187" y="209"/>
                      </a:lnTo>
                      <a:lnTo>
                        <a:pt x="174" y="178"/>
                      </a:lnTo>
                      <a:lnTo>
                        <a:pt x="110" y="163"/>
                      </a:lnTo>
                      <a:lnTo>
                        <a:pt x="79" y="141"/>
                      </a:lnTo>
                      <a:lnTo>
                        <a:pt x="26" y="149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179760" y="1680840"/>
                  <a:ext cx="635040" cy="860400"/>
                </a:xfrm>
                <a:custGeom>
                  <a:avLst/>
                  <a:gdLst/>
                  <a:ahLst/>
                  <a:rect l="l" t="t" r="r" b="b"/>
                  <a:pathLst>
                    <a:path w="345" h="468">
                      <a:moveTo>
                        <a:pt x="87" y="20"/>
                      </a:moveTo>
                      <a:lnTo>
                        <a:pt x="100" y="49"/>
                      </a:lnTo>
                      <a:lnTo>
                        <a:pt x="76" y="66"/>
                      </a:lnTo>
                      <a:lnTo>
                        <a:pt x="74" y="141"/>
                      </a:lnTo>
                      <a:lnTo>
                        <a:pt x="61" y="92"/>
                      </a:lnTo>
                      <a:lnTo>
                        <a:pt x="11" y="139"/>
                      </a:lnTo>
                      <a:lnTo>
                        <a:pt x="0" y="273"/>
                      </a:lnTo>
                      <a:lnTo>
                        <a:pt x="32" y="339"/>
                      </a:lnTo>
                      <a:lnTo>
                        <a:pt x="36" y="373"/>
                      </a:lnTo>
                      <a:lnTo>
                        <a:pt x="37" y="401"/>
                      </a:lnTo>
                      <a:lnTo>
                        <a:pt x="36" y="425"/>
                      </a:lnTo>
                      <a:lnTo>
                        <a:pt x="29" y="468"/>
                      </a:lnTo>
                      <a:lnTo>
                        <a:pt x="165" y="460"/>
                      </a:lnTo>
                      <a:lnTo>
                        <a:pt x="344" y="444"/>
                      </a:lnTo>
                      <a:lnTo>
                        <a:pt x="312" y="434"/>
                      </a:lnTo>
                      <a:lnTo>
                        <a:pt x="294" y="410"/>
                      </a:lnTo>
                      <a:lnTo>
                        <a:pt x="321" y="389"/>
                      </a:lnTo>
                      <a:lnTo>
                        <a:pt x="321" y="363"/>
                      </a:lnTo>
                      <a:lnTo>
                        <a:pt x="308" y="341"/>
                      </a:lnTo>
                      <a:lnTo>
                        <a:pt x="321" y="325"/>
                      </a:lnTo>
                      <a:lnTo>
                        <a:pt x="345" y="326"/>
                      </a:lnTo>
                      <a:lnTo>
                        <a:pt x="341" y="262"/>
                      </a:lnTo>
                      <a:lnTo>
                        <a:pt x="334" y="223"/>
                      </a:lnTo>
                      <a:lnTo>
                        <a:pt x="320" y="199"/>
                      </a:lnTo>
                      <a:lnTo>
                        <a:pt x="305" y="184"/>
                      </a:lnTo>
                      <a:lnTo>
                        <a:pt x="283" y="179"/>
                      </a:lnTo>
                      <a:lnTo>
                        <a:pt x="262" y="179"/>
                      </a:lnTo>
                      <a:lnTo>
                        <a:pt x="239" y="210"/>
                      </a:lnTo>
                      <a:lnTo>
                        <a:pt x="224" y="220"/>
                      </a:lnTo>
                      <a:lnTo>
                        <a:pt x="215" y="223"/>
                      </a:lnTo>
                      <a:lnTo>
                        <a:pt x="203" y="218"/>
                      </a:lnTo>
                      <a:lnTo>
                        <a:pt x="200" y="204"/>
                      </a:lnTo>
                      <a:lnTo>
                        <a:pt x="203" y="194"/>
                      </a:lnTo>
                      <a:lnTo>
                        <a:pt x="213" y="184"/>
                      </a:lnTo>
                      <a:lnTo>
                        <a:pt x="223" y="179"/>
                      </a:lnTo>
                      <a:lnTo>
                        <a:pt x="232" y="178"/>
                      </a:lnTo>
                      <a:lnTo>
                        <a:pt x="232" y="160"/>
                      </a:lnTo>
                      <a:lnTo>
                        <a:pt x="258" y="141"/>
                      </a:lnTo>
                      <a:lnTo>
                        <a:pt x="232" y="79"/>
                      </a:lnTo>
                      <a:lnTo>
                        <a:pt x="232" y="50"/>
                      </a:lnTo>
                      <a:lnTo>
                        <a:pt x="189" y="39"/>
                      </a:lnTo>
                      <a:lnTo>
                        <a:pt x="126" y="0"/>
                      </a:lnTo>
                      <a:lnTo>
                        <a:pt x="87" y="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489280" y="2444400"/>
                  <a:ext cx="687240" cy="1135080"/>
                </a:xfrm>
                <a:custGeom>
                  <a:avLst/>
                  <a:gdLst/>
                  <a:ahLst/>
                  <a:rect l="l" t="t" r="r" b="b"/>
                  <a:pathLst>
                    <a:path w="374" h="618">
                      <a:moveTo>
                        <a:pt x="69" y="36"/>
                      </a:moveTo>
                      <a:lnTo>
                        <a:pt x="284" y="0"/>
                      </a:lnTo>
                      <a:lnTo>
                        <a:pt x="318" y="76"/>
                      </a:lnTo>
                      <a:lnTo>
                        <a:pt x="361" y="392"/>
                      </a:lnTo>
                      <a:lnTo>
                        <a:pt x="374" y="434"/>
                      </a:lnTo>
                      <a:lnTo>
                        <a:pt x="340" y="518"/>
                      </a:lnTo>
                      <a:lnTo>
                        <a:pt x="340" y="576"/>
                      </a:lnTo>
                      <a:lnTo>
                        <a:pt x="302" y="570"/>
                      </a:lnTo>
                      <a:lnTo>
                        <a:pt x="303" y="618"/>
                      </a:lnTo>
                      <a:lnTo>
                        <a:pt x="263" y="599"/>
                      </a:lnTo>
                      <a:lnTo>
                        <a:pt x="242" y="605"/>
                      </a:lnTo>
                      <a:lnTo>
                        <a:pt x="211" y="601"/>
                      </a:lnTo>
                      <a:lnTo>
                        <a:pt x="189" y="526"/>
                      </a:lnTo>
                      <a:lnTo>
                        <a:pt x="145" y="504"/>
                      </a:lnTo>
                      <a:lnTo>
                        <a:pt x="145" y="425"/>
                      </a:lnTo>
                      <a:lnTo>
                        <a:pt x="102" y="434"/>
                      </a:lnTo>
                      <a:lnTo>
                        <a:pt x="77" y="376"/>
                      </a:lnTo>
                      <a:lnTo>
                        <a:pt x="0" y="308"/>
                      </a:lnTo>
                      <a:lnTo>
                        <a:pt x="56" y="202"/>
                      </a:lnTo>
                      <a:lnTo>
                        <a:pt x="40" y="152"/>
                      </a:lnTo>
                      <a:lnTo>
                        <a:pt x="97" y="142"/>
                      </a:lnTo>
                      <a:lnTo>
                        <a:pt x="102" y="73"/>
                      </a:lnTo>
                      <a:lnTo>
                        <a:pt x="69" y="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876200" y="2903040"/>
                  <a:ext cx="1092240" cy="898560"/>
                </a:xfrm>
                <a:custGeom>
                  <a:avLst/>
                  <a:gdLst/>
                  <a:ahLst/>
                  <a:rect l="l" t="t" r="r" b="b"/>
                  <a:pathLst>
                    <a:path w="594" h="489">
                      <a:moveTo>
                        <a:pt x="0" y="16"/>
                      </a:moveTo>
                      <a:lnTo>
                        <a:pt x="260" y="0"/>
                      </a:lnTo>
                      <a:lnTo>
                        <a:pt x="315" y="0"/>
                      </a:lnTo>
                      <a:lnTo>
                        <a:pt x="357" y="15"/>
                      </a:lnTo>
                      <a:lnTo>
                        <a:pt x="334" y="57"/>
                      </a:lnTo>
                      <a:lnTo>
                        <a:pt x="410" y="126"/>
                      </a:lnTo>
                      <a:lnTo>
                        <a:pt x="435" y="184"/>
                      </a:lnTo>
                      <a:lnTo>
                        <a:pt x="480" y="170"/>
                      </a:lnTo>
                      <a:lnTo>
                        <a:pt x="478" y="252"/>
                      </a:lnTo>
                      <a:lnTo>
                        <a:pt x="523" y="276"/>
                      </a:lnTo>
                      <a:lnTo>
                        <a:pt x="544" y="349"/>
                      </a:lnTo>
                      <a:lnTo>
                        <a:pt x="577" y="355"/>
                      </a:lnTo>
                      <a:lnTo>
                        <a:pt x="594" y="386"/>
                      </a:lnTo>
                      <a:lnTo>
                        <a:pt x="554" y="428"/>
                      </a:lnTo>
                      <a:lnTo>
                        <a:pt x="541" y="476"/>
                      </a:lnTo>
                      <a:lnTo>
                        <a:pt x="485" y="489"/>
                      </a:lnTo>
                      <a:lnTo>
                        <a:pt x="499" y="436"/>
                      </a:lnTo>
                      <a:lnTo>
                        <a:pt x="276" y="455"/>
                      </a:lnTo>
                      <a:lnTo>
                        <a:pt x="117" y="475"/>
                      </a:lnTo>
                      <a:lnTo>
                        <a:pt x="107" y="423"/>
                      </a:lnTo>
                      <a:lnTo>
                        <a:pt x="96" y="267"/>
                      </a:lnTo>
                      <a:lnTo>
                        <a:pt x="94" y="181"/>
                      </a:lnTo>
                      <a:lnTo>
                        <a:pt x="41" y="142"/>
                      </a:lnTo>
                      <a:lnTo>
                        <a:pt x="60" y="107"/>
                      </a:lnTo>
                      <a:lnTo>
                        <a:pt x="34" y="87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073560" y="2523600"/>
                  <a:ext cx="533520" cy="878040"/>
                </a:xfrm>
                <a:custGeom>
                  <a:avLst/>
                  <a:gdLst/>
                  <a:ahLst/>
                  <a:rect l="l" t="t" r="r" b="b"/>
                  <a:pathLst>
                    <a:path w="290" h="477">
                      <a:moveTo>
                        <a:pt x="0" y="34"/>
                      </a:moveTo>
                      <a:lnTo>
                        <a:pt x="34" y="51"/>
                      </a:lnTo>
                      <a:lnTo>
                        <a:pt x="66" y="48"/>
                      </a:lnTo>
                      <a:lnTo>
                        <a:pt x="77" y="38"/>
                      </a:lnTo>
                      <a:lnTo>
                        <a:pt x="85" y="9"/>
                      </a:lnTo>
                      <a:lnTo>
                        <a:pt x="226" y="0"/>
                      </a:lnTo>
                      <a:lnTo>
                        <a:pt x="290" y="337"/>
                      </a:lnTo>
                      <a:lnTo>
                        <a:pt x="286" y="334"/>
                      </a:lnTo>
                      <a:lnTo>
                        <a:pt x="237" y="353"/>
                      </a:lnTo>
                      <a:lnTo>
                        <a:pt x="203" y="444"/>
                      </a:lnTo>
                      <a:lnTo>
                        <a:pt x="153" y="431"/>
                      </a:lnTo>
                      <a:lnTo>
                        <a:pt x="95" y="465"/>
                      </a:lnTo>
                      <a:lnTo>
                        <a:pt x="19" y="477"/>
                      </a:lnTo>
                      <a:lnTo>
                        <a:pt x="53" y="389"/>
                      </a:lnTo>
                      <a:lnTo>
                        <a:pt x="39" y="339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489360" y="2346120"/>
                  <a:ext cx="685800" cy="792000"/>
                </a:xfrm>
                <a:custGeom>
                  <a:avLst/>
                  <a:gdLst/>
                  <a:ahLst/>
                  <a:rect l="l" t="t" r="r" b="b"/>
                  <a:pathLst>
                    <a:path w="432" h="499">
                      <a:moveTo>
                        <a:pt x="0" y="112"/>
                      </a:moveTo>
                      <a:lnTo>
                        <a:pt x="195" y="94"/>
                      </a:lnTo>
                      <a:lnTo>
                        <a:pt x="235" y="101"/>
                      </a:lnTo>
                      <a:lnTo>
                        <a:pt x="327" y="58"/>
                      </a:lnTo>
                      <a:lnTo>
                        <a:pt x="347" y="19"/>
                      </a:lnTo>
                      <a:lnTo>
                        <a:pt x="402" y="0"/>
                      </a:lnTo>
                      <a:lnTo>
                        <a:pt x="432" y="189"/>
                      </a:lnTo>
                      <a:lnTo>
                        <a:pt x="409" y="210"/>
                      </a:lnTo>
                      <a:lnTo>
                        <a:pt x="415" y="340"/>
                      </a:lnTo>
                      <a:lnTo>
                        <a:pt x="372" y="351"/>
                      </a:lnTo>
                      <a:lnTo>
                        <a:pt x="347" y="424"/>
                      </a:lnTo>
                      <a:lnTo>
                        <a:pt x="314" y="414"/>
                      </a:lnTo>
                      <a:lnTo>
                        <a:pt x="302" y="499"/>
                      </a:lnTo>
                      <a:lnTo>
                        <a:pt x="254" y="463"/>
                      </a:lnTo>
                      <a:lnTo>
                        <a:pt x="159" y="485"/>
                      </a:lnTo>
                      <a:lnTo>
                        <a:pt x="115" y="452"/>
                      </a:lnTo>
                      <a:lnTo>
                        <a:pt x="64" y="452"/>
                      </a:lnTo>
                      <a:lnTo>
                        <a:pt x="36" y="311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5876640" y="3061800"/>
                  <a:ext cx="1208520" cy="669960"/>
                </a:xfrm>
                <a:custGeom>
                  <a:avLst/>
                  <a:gdLst/>
                  <a:ahLst/>
                  <a:rect l="l" t="t" r="r" b="b"/>
                  <a:pathLst>
                    <a:path w="761" h="422">
                      <a:moveTo>
                        <a:pt x="0" y="422"/>
                      </a:moveTo>
                      <a:lnTo>
                        <a:pt x="185" y="395"/>
                      </a:lnTo>
                      <a:lnTo>
                        <a:pt x="185" y="377"/>
                      </a:lnTo>
                      <a:lnTo>
                        <a:pt x="632" y="316"/>
                      </a:lnTo>
                      <a:lnTo>
                        <a:pt x="639" y="283"/>
                      </a:lnTo>
                      <a:lnTo>
                        <a:pt x="705" y="259"/>
                      </a:lnTo>
                      <a:lnTo>
                        <a:pt x="712" y="225"/>
                      </a:lnTo>
                      <a:lnTo>
                        <a:pt x="741" y="214"/>
                      </a:lnTo>
                      <a:lnTo>
                        <a:pt x="761" y="164"/>
                      </a:lnTo>
                      <a:lnTo>
                        <a:pt x="700" y="113"/>
                      </a:lnTo>
                      <a:lnTo>
                        <a:pt x="688" y="46"/>
                      </a:lnTo>
                      <a:lnTo>
                        <a:pt x="639" y="13"/>
                      </a:lnTo>
                      <a:lnTo>
                        <a:pt x="541" y="31"/>
                      </a:lnTo>
                      <a:lnTo>
                        <a:pt x="501" y="3"/>
                      </a:lnTo>
                      <a:lnTo>
                        <a:pt x="449" y="0"/>
                      </a:lnTo>
                      <a:lnTo>
                        <a:pt x="459" y="46"/>
                      </a:lnTo>
                      <a:lnTo>
                        <a:pt x="397" y="71"/>
                      </a:lnTo>
                      <a:lnTo>
                        <a:pt x="356" y="176"/>
                      </a:lnTo>
                      <a:lnTo>
                        <a:pt x="300" y="158"/>
                      </a:lnTo>
                      <a:lnTo>
                        <a:pt x="233" y="198"/>
                      </a:lnTo>
                      <a:lnTo>
                        <a:pt x="146" y="213"/>
                      </a:lnTo>
                      <a:lnTo>
                        <a:pt x="146" y="273"/>
                      </a:lnTo>
                      <a:lnTo>
                        <a:pt x="103" y="271"/>
                      </a:lnTo>
                      <a:lnTo>
                        <a:pt x="105" y="323"/>
                      </a:lnTo>
                      <a:lnTo>
                        <a:pt x="60" y="302"/>
                      </a:lnTo>
                      <a:lnTo>
                        <a:pt x="34" y="311"/>
                      </a:lnTo>
                      <a:lnTo>
                        <a:pt x="57" y="347"/>
                      </a:lnTo>
                      <a:lnTo>
                        <a:pt x="9" y="393"/>
                      </a:lnTo>
                      <a:lnTo>
                        <a:pt x="0" y="4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797440" y="3495240"/>
                  <a:ext cx="1392480" cy="507960"/>
                </a:xfrm>
                <a:custGeom>
                  <a:avLst/>
                  <a:gdLst/>
                  <a:ahLst/>
                  <a:rect l="l" t="t" r="r" b="b"/>
                  <a:pathLst>
                    <a:path w="757" h="276">
                      <a:moveTo>
                        <a:pt x="45" y="125"/>
                      </a:moveTo>
                      <a:lnTo>
                        <a:pt x="45" y="130"/>
                      </a:lnTo>
                      <a:lnTo>
                        <a:pt x="32" y="156"/>
                      </a:lnTo>
                      <a:lnTo>
                        <a:pt x="47" y="192"/>
                      </a:lnTo>
                      <a:lnTo>
                        <a:pt x="0" y="222"/>
                      </a:lnTo>
                      <a:lnTo>
                        <a:pt x="9" y="276"/>
                      </a:lnTo>
                      <a:lnTo>
                        <a:pt x="208" y="259"/>
                      </a:lnTo>
                      <a:lnTo>
                        <a:pt x="444" y="232"/>
                      </a:lnTo>
                      <a:lnTo>
                        <a:pt x="562" y="211"/>
                      </a:lnTo>
                      <a:lnTo>
                        <a:pt x="586" y="140"/>
                      </a:lnTo>
                      <a:lnTo>
                        <a:pt x="628" y="137"/>
                      </a:lnTo>
                      <a:lnTo>
                        <a:pt x="757" y="0"/>
                      </a:lnTo>
                      <a:lnTo>
                        <a:pt x="589" y="33"/>
                      </a:lnTo>
                      <a:lnTo>
                        <a:pt x="198" y="90"/>
                      </a:lnTo>
                      <a:lnTo>
                        <a:pt x="202" y="106"/>
                      </a:lnTo>
                      <a:lnTo>
                        <a:pt x="45" y="1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660640" y="3963600"/>
                  <a:ext cx="569880" cy="993960"/>
                </a:xfrm>
                <a:custGeom>
                  <a:avLst/>
                  <a:gdLst/>
                  <a:ahLst/>
                  <a:rect l="l" t="t" r="r" b="b"/>
                  <a:pathLst>
                    <a:path w="310" h="540">
                      <a:moveTo>
                        <a:pt x="88" y="17"/>
                      </a:moveTo>
                      <a:lnTo>
                        <a:pt x="41" y="109"/>
                      </a:lnTo>
                      <a:lnTo>
                        <a:pt x="0" y="169"/>
                      </a:lnTo>
                      <a:lnTo>
                        <a:pt x="13" y="240"/>
                      </a:lnTo>
                      <a:lnTo>
                        <a:pt x="62" y="337"/>
                      </a:lnTo>
                      <a:lnTo>
                        <a:pt x="25" y="435"/>
                      </a:lnTo>
                      <a:lnTo>
                        <a:pt x="9" y="487"/>
                      </a:lnTo>
                      <a:lnTo>
                        <a:pt x="189" y="466"/>
                      </a:lnTo>
                      <a:lnTo>
                        <a:pt x="197" y="532"/>
                      </a:lnTo>
                      <a:lnTo>
                        <a:pt x="235" y="540"/>
                      </a:lnTo>
                      <a:lnTo>
                        <a:pt x="244" y="506"/>
                      </a:lnTo>
                      <a:lnTo>
                        <a:pt x="310" y="497"/>
                      </a:lnTo>
                      <a:lnTo>
                        <a:pt x="296" y="387"/>
                      </a:lnTo>
                      <a:lnTo>
                        <a:pt x="293" y="0"/>
                      </a:lnTo>
                      <a:lnTo>
                        <a:pt x="88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195600" y="3916080"/>
                  <a:ext cx="642960" cy="1001520"/>
                </a:xfrm>
                <a:custGeom>
                  <a:avLst/>
                  <a:gdLst/>
                  <a:ahLst/>
                  <a:rect l="l" t="t" r="r" b="b"/>
                  <a:pathLst>
                    <a:path w="350" h="545">
                      <a:moveTo>
                        <a:pt x="0" y="27"/>
                      </a:moveTo>
                      <a:lnTo>
                        <a:pt x="228" y="0"/>
                      </a:lnTo>
                      <a:lnTo>
                        <a:pt x="300" y="252"/>
                      </a:lnTo>
                      <a:lnTo>
                        <a:pt x="350" y="292"/>
                      </a:lnTo>
                      <a:lnTo>
                        <a:pt x="310" y="366"/>
                      </a:lnTo>
                      <a:lnTo>
                        <a:pt x="349" y="437"/>
                      </a:lnTo>
                      <a:lnTo>
                        <a:pt x="116" y="463"/>
                      </a:lnTo>
                      <a:lnTo>
                        <a:pt x="126" y="524"/>
                      </a:lnTo>
                      <a:lnTo>
                        <a:pt x="92" y="545"/>
                      </a:lnTo>
                      <a:lnTo>
                        <a:pt x="65" y="468"/>
                      </a:lnTo>
                      <a:lnTo>
                        <a:pt x="49" y="531"/>
                      </a:lnTo>
                      <a:lnTo>
                        <a:pt x="19" y="524"/>
                      </a:lnTo>
                      <a:lnTo>
                        <a:pt x="10" y="461"/>
                      </a:lnTo>
                      <a:lnTo>
                        <a:pt x="2" y="40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615360" y="3865320"/>
                  <a:ext cx="888840" cy="922320"/>
                </a:xfrm>
                <a:custGeom>
                  <a:avLst/>
                  <a:gdLst/>
                  <a:ahLst/>
                  <a:rect l="l" t="t" r="r" b="b"/>
                  <a:pathLst>
                    <a:path w="484" h="502">
                      <a:moveTo>
                        <a:pt x="0" y="31"/>
                      </a:moveTo>
                      <a:lnTo>
                        <a:pt x="5" y="31"/>
                      </a:lnTo>
                      <a:lnTo>
                        <a:pt x="118" y="10"/>
                      </a:lnTo>
                      <a:lnTo>
                        <a:pt x="218" y="0"/>
                      </a:lnTo>
                      <a:lnTo>
                        <a:pt x="203" y="26"/>
                      </a:lnTo>
                      <a:lnTo>
                        <a:pt x="234" y="26"/>
                      </a:lnTo>
                      <a:lnTo>
                        <a:pt x="407" y="181"/>
                      </a:lnTo>
                      <a:lnTo>
                        <a:pt x="474" y="281"/>
                      </a:lnTo>
                      <a:lnTo>
                        <a:pt x="484" y="349"/>
                      </a:lnTo>
                      <a:lnTo>
                        <a:pt x="461" y="365"/>
                      </a:lnTo>
                      <a:lnTo>
                        <a:pt x="474" y="433"/>
                      </a:lnTo>
                      <a:lnTo>
                        <a:pt x="426" y="436"/>
                      </a:lnTo>
                      <a:lnTo>
                        <a:pt x="426" y="494"/>
                      </a:lnTo>
                      <a:lnTo>
                        <a:pt x="387" y="465"/>
                      </a:lnTo>
                      <a:lnTo>
                        <a:pt x="139" y="502"/>
                      </a:lnTo>
                      <a:lnTo>
                        <a:pt x="82" y="394"/>
                      </a:lnTo>
                      <a:lnTo>
                        <a:pt x="122" y="320"/>
                      </a:lnTo>
                      <a:lnTo>
                        <a:pt x="69" y="283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988320" y="3739680"/>
                  <a:ext cx="812880" cy="644760"/>
                </a:xfrm>
                <a:custGeom>
                  <a:avLst/>
                  <a:gdLst/>
                  <a:ahLst/>
                  <a:rect l="l" t="t" r="r" b="b"/>
                  <a:pathLst>
                    <a:path w="442" h="351">
                      <a:moveTo>
                        <a:pt x="16" y="63"/>
                      </a:moveTo>
                      <a:lnTo>
                        <a:pt x="52" y="30"/>
                      </a:lnTo>
                      <a:lnTo>
                        <a:pt x="184" y="0"/>
                      </a:lnTo>
                      <a:lnTo>
                        <a:pt x="225" y="20"/>
                      </a:lnTo>
                      <a:lnTo>
                        <a:pt x="310" y="5"/>
                      </a:lnTo>
                      <a:lnTo>
                        <a:pt x="379" y="55"/>
                      </a:lnTo>
                      <a:lnTo>
                        <a:pt x="442" y="94"/>
                      </a:lnTo>
                      <a:lnTo>
                        <a:pt x="407" y="199"/>
                      </a:lnTo>
                      <a:lnTo>
                        <a:pt x="354" y="252"/>
                      </a:lnTo>
                      <a:lnTo>
                        <a:pt x="296" y="268"/>
                      </a:lnTo>
                      <a:lnTo>
                        <a:pt x="307" y="310"/>
                      </a:lnTo>
                      <a:lnTo>
                        <a:pt x="271" y="351"/>
                      </a:lnTo>
                      <a:lnTo>
                        <a:pt x="204" y="252"/>
                      </a:lnTo>
                      <a:lnTo>
                        <a:pt x="29" y="94"/>
                      </a:lnTo>
                      <a:lnTo>
                        <a:pt x="0" y="94"/>
                      </a:lnTo>
                      <a:lnTo>
                        <a:pt x="16" y="6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408360" y="4660560"/>
                  <a:ext cx="1522800" cy="1033560"/>
                </a:xfrm>
                <a:custGeom>
                  <a:avLst/>
                  <a:gdLst/>
                  <a:ahLst/>
                  <a:rect l="l" t="t" r="r" b="b"/>
                  <a:pathLst>
                    <a:path w="828" h="562">
                      <a:moveTo>
                        <a:pt x="0" y="55"/>
                      </a:moveTo>
                      <a:lnTo>
                        <a:pt x="228" y="32"/>
                      </a:lnTo>
                      <a:lnTo>
                        <a:pt x="252" y="69"/>
                      </a:lnTo>
                      <a:lnTo>
                        <a:pt x="496" y="32"/>
                      </a:lnTo>
                      <a:lnTo>
                        <a:pt x="538" y="63"/>
                      </a:lnTo>
                      <a:lnTo>
                        <a:pt x="538" y="5"/>
                      </a:lnTo>
                      <a:lnTo>
                        <a:pt x="535" y="0"/>
                      </a:lnTo>
                      <a:lnTo>
                        <a:pt x="583" y="3"/>
                      </a:lnTo>
                      <a:lnTo>
                        <a:pt x="635" y="90"/>
                      </a:lnTo>
                      <a:lnTo>
                        <a:pt x="717" y="208"/>
                      </a:lnTo>
                      <a:lnTo>
                        <a:pt x="757" y="310"/>
                      </a:lnTo>
                      <a:lnTo>
                        <a:pt x="819" y="381"/>
                      </a:lnTo>
                      <a:lnTo>
                        <a:pt x="828" y="484"/>
                      </a:lnTo>
                      <a:lnTo>
                        <a:pt x="809" y="546"/>
                      </a:lnTo>
                      <a:lnTo>
                        <a:pt x="722" y="562"/>
                      </a:lnTo>
                      <a:lnTo>
                        <a:pt x="707" y="536"/>
                      </a:lnTo>
                      <a:lnTo>
                        <a:pt x="646" y="499"/>
                      </a:lnTo>
                      <a:lnTo>
                        <a:pt x="627" y="460"/>
                      </a:lnTo>
                      <a:lnTo>
                        <a:pt x="611" y="445"/>
                      </a:lnTo>
                      <a:lnTo>
                        <a:pt x="601" y="410"/>
                      </a:lnTo>
                      <a:lnTo>
                        <a:pt x="586" y="420"/>
                      </a:lnTo>
                      <a:lnTo>
                        <a:pt x="538" y="373"/>
                      </a:lnTo>
                      <a:lnTo>
                        <a:pt x="549" y="329"/>
                      </a:lnTo>
                      <a:lnTo>
                        <a:pt x="538" y="305"/>
                      </a:lnTo>
                      <a:lnTo>
                        <a:pt x="523" y="313"/>
                      </a:lnTo>
                      <a:lnTo>
                        <a:pt x="525" y="339"/>
                      </a:lnTo>
                      <a:lnTo>
                        <a:pt x="509" y="305"/>
                      </a:lnTo>
                      <a:lnTo>
                        <a:pt x="510" y="226"/>
                      </a:lnTo>
                      <a:lnTo>
                        <a:pt x="480" y="179"/>
                      </a:lnTo>
                      <a:lnTo>
                        <a:pt x="402" y="140"/>
                      </a:lnTo>
                      <a:lnTo>
                        <a:pt x="364" y="97"/>
                      </a:lnTo>
                      <a:lnTo>
                        <a:pt x="320" y="92"/>
                      </a:lnTo>
                      <a:lnTo>
                        <a:pt x="302" y="119"/>
                      </a:lnTo>
                      <a:lnTo>
                        <a:pt x="238" y="139"/>
                      </a:lnTo>
                      <a:lnTo>
                        <a:pt x="200" y="119"/>
                      </a:lnTo>
                      <a:lnTo>
                        <a:pt x="181" y="90"/>
                      </a:lnTo>
                      <a:lnTo>
                        <a:pt x="60" y="116"/>
                      </a:lnTo>
                      <a:lnTo>
                        <a:pt x="34" y="95"/>
                      </a:lnTo>
                      <a:lnTo>
                        <a:pt x="7" y="118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827760" y="3298320"/>
                  <a:ext cx="1400760" cy="614520"/>
                </a:xfrm>
                <a:custGeom>
                  <a:avLst/>
                  <a:gdLst/>
                  <a:ahLst/>
                  <a:rect l="l" t="t" r="r" b="b"/>
                  <a:pathLst>
                    <a:path w="762" h="334">
                      <a:moveTo>
                        <a:pt x="26" y="247"/>
                      </a:moveTo>
                      <a:lnTo>
                        <a:pt x="0" y="318"/>
                      </a:lnTo>
                      <a:lnTo>
                        <a:pt x="98" y="308"/>
                      </a:lnTo>
                      <a:lnTo>
                        <a:pt x="137" y="276"/>
                      </a:lnTo>
                      <a:lnTo>
                        <a:pt x="271" y="240"/>
                      </a:lnTo>
                      <a:lnTo>
                        <a:pt x="308" y="260"/>
                      </a:lnTo>
                      <a:lnTo>
                        <a:pt x="397" y="247"/>
                      </a:lnTo>
                      <a:lnTo>
                        <a:pt x="397" y="252"/>
                      </a:lnTo>
                      <a:lnTo>
                        <a:pt x="529" y="334"/>
                      </a:lnTo>
                      <a:lnTo>
                        <a:pt x="607" y="310"/>
                      </a:lnTo>
                      <a:lnTo>
                        <a:pt x="651" y="218"/>
                      </a:lnTo>
                      <a:lnTo>
                        <a:pt x="726" y="192"/>
                      </a:lnTo>
                      <a:lnTo>
                        <a:pt x="762" y="124"/>
                      </a:lnTo>
                      <a:lnTo>
                        <a:pt x="760" y="42"/>
                      </a:lnTo>
                      <a:lnTo>
                        <a:pt x="751" y="110"/>
                      </a:lnTo>
                      <a:lnTo>
                        <a:pt x="709" y="168"/>
                      </a:lnTo>
                      <a:lnTo>
                        <a:pt x="693" y="163"/>
                      </a:lnTo>
                      <a:lnTo>
                        <a:pt x="636" y="179"/>
                      </a:lnTo>
                      <a:lnTo>
                        <a:pt x="636" y="160"/>
                      </a:lnTo>
                      <a:lnTo>
                        <a:pt x="693" y="140"/>
                      </a:lnTo>
                      <a:lnTo>
                        <a:pt x="641" y="134"/>
                      </a:lnTo>
                      <a:lnTo>
                        <a:pt x="699" y="116"/>
                      </a:lnTo>
                      <a:lnTo>
                        <a:pt x="722" y="126"/>
                      </a:lnTo>
                      <a:lnTo>
                        <a:pt x="733" y="61"/>
                      </a:lnTo>
                      <a:lnTo>
                        <a:pt x="718" y="47"/>
                      </a:lnTo>
                      <a:lnTo>
                        <a:pt x="649" y="73"/>
                      </a:lnTo>
                      <a:lnTo>
                        <a:pt x="651" y="34"/>
                      </a:lnTo>
                      <a:lnTo>
                        <a:pt x="680" y="44"/>
                      </a:lnTo>
                      <a:lnTo>
                        <a:pt x="718" y="14"/>
                      </a:lnTo>
                      <a:lnTo>
                        <a:pt x="697" y="0"/>
                      </a:lnTo>
                      <a:lnTo>
                        <a:pt x="470" y="52"/>
                      </a:lnTo>
                      <a:lnTo>
                        <a:pt x="190" y="108"/>
                      </a:lnTo>
                      <a:lnTo>
                        <a:pt x="63" y="245"/>
                      </a:lnTo>
                      <a:lnTo>
                        <a:pt x="26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885000" y="2790360"/>
                  <a:ext cx="1224360" cy="763560"/>
                </a:xfrm>
                <a:custGeom>
                  <a:avLst/>
                  <a:gdLst/>
                  <a:ahLst/>
                  <a:rect l="l" t="t" r="r" b="b"/>
                  <a:pathLst>
                    <a:path w="666" h="415">
                      <a:moveTo>
                        <a:pt x="109" y="290"/>
                      </a:moveTo>
                      <a:lnTo>
                        <a:pt x="90" y="332"/>
                      </a:lnTo>
                      <a:lnTo>
                        <a:pt x="63" y="344"/>
                      </a:lnTo>
                      <a:lnTo>
                        <a:pt x="61" y="371"/>
                      </a:lnTo>
                      <a:lnTo>
                        <a:pt x="3" y="392"/>
                      </a:lnTo>
                      <a:lnTo>
                        <a:pt x="0" y="415"/>
                      </a:lnTo>
                      <a:lnTo>
                        <a:pt x="158" y="387"/>
                      </a:lnTo>
                      <a:lnTo>
                        <a:pt x="445" y="328"/>
                      </a:lnTo>
                      <a:lnTo>
                        <a:pt x="666" y="274"/>
                      </a:lnTo>
                      <a:lnTo>
                        <a:pt x="666" y="232"/>
                      </a:lnTo>
                      <a:lnTo>
                        <a:pt x="642" y="219"/>
                      </a:lnTo>
                      <a:lnTo>
                        <a:pt x="623" y="240"/>
                      </a:lnTo>
                      <a:lnTo>
                        <a:pt x="611" y="184"/>
                      </a:lnTo>
                      <a:lnTo>
                        <a:pt x="623" y="134"/>
                      </a:lnTo>
                      <a:lnTo>
                        <a:pt x="540" y="97"/>
                      </a:lnTo>
                      <a:lnTo>
                        <a:pt x="484" y="106"/>
                      </a:lnTo>
                      <a:lnTo>
                        <a:pt x="482" y="29"/>
                      </a:lnTo>
                      <a:lnTo>
                        <a:pt x="424" y="0"/>
                      </a:lnTo>
                      <a:lnTo>
                        <a:pt x="381" y="18"/>
                      </a:lnTo>
                      <a:lnTo>
                        <a:pt x="352" y="90"/>
                      </a:lnTo>
                      <a:lnTo>
                        <a:pt x="300" y="119"/>
                      </a:lnTo>
                      <a:lnTo>
                        <a:pt x="279" y="234"/>
                      </a:lnTo>
                      <a:lnTo>
                        <a:pt x="195" y="290"/>
                      </a:lnTo>
                      <a:lnTo>
                        <a:pt x="127" y="313"/>
                      </a:lnTo>
                      <a:lnTo>
                        <a:pt x="109" y="2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969240" y="2639520"/>
                  <a:ext cx="698400" cy="727200"/>
                </a:xfrm>
                <a:custGeom>
                  <a:avLst/>
                  <a:gdLst/>
                  <a:ahLst/>
                  <a:rect l="l" t="t" r="r" b="b"/>
                  <a:pathLst>
                    <a:path w="440" h="458">
                      <a:moveTo>
                        <a:pt x="45" y="239"/>
                      </a:moveTo>
                      <a:lnTo>
                        <a:pt x="12" y="230"/>
                      </a:lnTo>
                      <a:lnTo>
                        <a:pt x="0" y="303"/>
                      </a:lnTo>
                      <a:lnTo>
                        <a:pt x="12" y="379"/>
                      </a:lnTo>
                      <a:lnTo>
                        <a:pt x="75" y="431"/>
                      </a:lnTo>
                      <a:lnTo>
                        <a:pt x="90" y="458"/>
                      </a:lnTo>
                      <a:lnTo>
                        <a:pt x="170" y="431"/>
                      </a:lnTo>
                      <a:lnTo>
                        <a:pt x="267" y="370"/>
                      </a:lnTo>
                      <a:lnTo>
                        <a:pt x="294" y="235"/>
                      </a:lnTo>
                      <a:lnTo>
                        <a:pt x="356" y="199"/>
                      </a:lnTo>
                      <a:lnTo>
                        <a:pt x="389" y="117"/>
                      </a:lnTo>
                      <a:lnTo>
                        <a:pt x="440" y="93"/>
                      </a:lnTo>
                      <a:lnTo>
                        <a:pt x="374" y="83"/>
                      </a:lnTo>
                      <a:lnTo>
                        <a:pt x="260" y="141"/>
                      </a:lnTo>
                      <a:lnTo>
                        <a:pt x="248" y="86"/>
                      </a:lnTo>
                      <a:lnTo>
                        <a:pt x="152" y="92"/>
                      </a:lnTo>
                      <a:lnTo>
                        <a:pt x="130" y="0"/>
                      </a:lnTo>
                      <a:lnTo>
                        <a:pt x="105" y="24"/>
                      </a:lnTo>
                      <a:lnTo>
                        <a:pt x="112" y="155"/>
                      </a:lnTo>
                      <a:lnTo>
                        <a:pt x="70" y="166"/>
                      </a:lnTo>
                      <a:lnTo>
                        <a:pt x="45" y="2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958520" y="2650680"/>
                  <a:ext cx="196920" cy="243000"/>
                </a:xfrm>
                <a:custGeom>
                  <a:avLst/>
                  <a:gdLst/>
                  <a:ahLst/>
                  <a:rect l="l" t="t" r="r" b="b"/>
                  <a:pathLst>
                    <a:path w="107" h="132">
                      <a:moveTo>
                        <a:pt x="0" y="8"/>
                      </a:moveTo>
                      <a:lnTo>
                        <a:pt x="23" y="0"/>
                      </a:lnTo>
                      <a:lnTo>
                        <a:pt x="71" y="29"/>
                      </a:lnTo>
                      <a:lnTo>
                        <a:pt x="71" y="58"/>
                      </a:lnTo>
                      <a:lnTo>
                        <a:pt x="105" y="79"/>
                      </a:lnTo>
                      <a:lnTo>
                        <a:pt x="107" y="118"/>
                      </a:lnTo>
                      <a:lnTo>
                        <a:pt x="52" y="13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123320" y="2172960"/>
                  <a:ext cx="941400" cy="617400"/>
                </a:xfrm>
                <a:custGeom>
                  <a:avLst/>
                  <a:gdLst/>
                  <a:ahLst/>
                  <a:rect l="l" t="t" r="r" b="b"/>
                  <a:pathLst>
                    <a:path w="512" h="336">
                      <a:moveTo>
                        <a:pt x="47" y="49"/>
                      </a:moveTo>
                      <a:lnTo>
                        <a:pt x="0" y="94"/>
                      </a:lnTo>
                      <a:lnTo>
                        <a:pt x="26" y="257"/>
                      </a:lnTo>
                      <a:lnTo>
                        <a:pt x="47" y="336"/>
                      </a:lnTo>
                      <a:lnTo>
                        <a:pt x="134" y="329"/>
                      </a:lnTo>
                      <a:lnTo>
                        <a:pt x="457" y="268"/>
                      </a:lnTo>
                      <a:lnTo>
                        <a:pt x="480" y="258"/>
                      </a:lnTo>
                      <a:lnTo>
                        <a:pt x="512" y="183"/>
                      </a:lnTo>
                      <a:lnTo>
                        <a:pt x="464" y="141"/>
                      </a:lnTo>
                      <a:lnTo>
                        <a:pt x="490" y="44"/>
                      </a:lnTo>
                      <a:lnTo>
                        <a:pt x="452" y="34"/>
                      </a:lnTo>
                      <a:lnTo>
                        <a:pt x="452" y="10"/>
                      </a:lnTo>
                      <a:lnTo>
                        <a:pt x="436" y="0"/>
                      </a:lnTo>
                      <a:lnTo>
                        <a:pt x="62" y="70"/>
                      </a:lnTo>
                      <a:lnTo>
                        <a:pt x="47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977600" y="2244240"/>
                  <a:ext cx="247680" cy="493920"/>
                </a:xfrm>
                <a:custGeom>
                  <a:avLst/>
                  <a:gdLst/>
                  <a:ahLst/>
                  <a:rect l="l" t="t" r="r" b="b"/>
                  <a:pathLst>
                    <a:path w="135" h="268">
                      <a:moveTo>
                        <a:pt x="24" y="2"/>
                      </a:moveTo>
                      <a:lnTo>
                        <a:pt x="56" y="0"/>
                      </a:lnTo>
                      <a:lnTo>
                        <a:pt x="121" y="40"/>
                      </a:lnTo>
                      <a:lnTo>
                        <a:pt x="111" y="73"/>
                      </a:lnTo>
                      <a:lnTo>
                        <a:pt x="134" y="94"/>
                      </a:lnTo>
                      <a:lnTo>
                        <a:pt x="135" y="219"/>
                      </a:lnTo>
                      <a:lnTo>
                        <a:pt x="113" y="268"/>
                      </a:lnTo>
                      <a:lnTo>
                        <a:pt x="87" y="250"/>
                      </a:lnTo>
                      <a:lnTo>
                        <a:pt x="59" y="249"/>
                      </a:lnTo>
                      <a:lnTo>
                        <a:pt x="13" y="223"/>
                      </a:lnTo>
                      <a:lnTo>
                        <a:pt x="48" y="144"/>
                      </a:lnTo>
                      <a:lnTo>
                        <a:pt x="0" y="102"/>
                      </a:lnTo>
                      <a:lnTo>
                        <a:pt x="2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204320" y="1476000"/>
                  <a:ext cx="1042920" cy="847800"/>
                </a:xfrm>
                <a:custGeom>
                  <a:avLst/>
                  <a:gdLst/>
                  <a:ahLst/>
                  <a:rect l="l" t="t" r="r" b="b"/>
                  <a:pathLst>
                    <a:path w="567" h="461">
                      <a:moveTo>
                        <a:pt x="44" y="310"/>
                      </a:moveTo>
                      <a:lnTo>
                        <a:pt x="97" y="282"/>
                      </a:lnTo>
                      <a:lnTo>
                        <a:pt x="169" y="276"/>
                      </a:lnTo>
                      <a:lnTo>
                        <a:pt x="187" y="252"/>
                      </a:lnTo>
                      <a:lnTo>
                        <a:pt x="213" y="248"/>
                      </a:lnTo>
                      <a:lnTo>
                        <a:pt x="228" y="223"/>
                      </a:lnTo>
                      <a:lnTo>
                        <a:pt x="252" y="213"/>
                      </a:lnTo>
                      <a:lnTo>
                        <a:pt x="241" y="164"/>
                      </a:lnTo>
                      <a:lnTo>
                        <a:pt x="226" y="152"/>
                      </a:lnTo>
                      <a:lnTo>
                        <a:pt x="257" y="113"/>
                      </a:lnTo>
                      <a:lnTo>
                        <a:pt x="276" y="113"/>
                      </a:lnTo>
                      <a:lnTo>
                        <a:pt x="342" y="30"/>
                      </a:lnTo>
                      <a:lnTo>
                        <a:pt x="444" y="0"/>
                      </a:lnTo>
                      <a:lnTo>
                        <a:pt x="455" y="77"/>
                      </a:lnTo>
                      <a:lnTo>
                        <a:pt x="460" y="74"/>
                      </a:lnTo>
                      <a:lnTo>
                        <a:pt x="484" y="102"/>
                      </a:lnTo>
                      <a:lnTo>
                        <a:pt x="486" y="181"/>
                      </a:lnTo>
                      <a:lnTo>
                        <a:pt x="517" y="245"/>
                      </a:lnTo>
                      <a:lnTo>
                        <a:pt x="528" y="329"/>
                      </a:lnTo>
                      <a:lnTo>
                        <a:pt x="531" y="402"/>
                      </a:lnTo>
                      <a:lnTo>
                        <a:pt x="567" y="426"/>
                      </a:lnTo>
                      <a:lnTo>
                        <a:pt x="541" y="461"/>
                      </a:lnTo>
                      <a:lnTo>
                        <a:pt x="475" y="420"/>
                      </a:lnTo>
                      <a:lnTo>
                        <a:pt x="441" y="423"/>
                      </a:lnTo>
                      <a:lnTo>
                        <a:pt x="407" y="413"/>
                      </a:lnTo>
                      <a:lnTo>
                        <a:pt x="408" y="389"/>
                      </a:lnTo>
                      <a:lnTo>
                        <a:pt x="387" y="381"/>
                      </a:lnTo>
                      <a:lnTo>
                        <a:pt x="16" y="452"/>
                      </a:lnTo>
                      <a:lnTo>
                        <a:pt x="0" y="431"/>
                      </a:lnTo>
                      <a:lnTo>
                        <a:pt x="56" y="348"/>
                      </a:lnTo>
                      <a:lnTo>
                        <a:pt x="44" y="3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015760" y="1428480"/>
                  <a:ext cx="276120" cy="511200"/>
                </a:xfrm>
                <a:custGeom>
                  <a:avLst/>
                  <a:gdLst/>
                  <a:ahLst/>
                  <a:rect l="l" t="t" r="r" b="b"/>
                  <a:pathLst>
                    <a:path w="150" h="278">
                      <a:moveTo>
                        <a:pt x="0" y="29"/>
                      </a:moveTo>
                      <a:lnTo>
                        <a:pt x="109" y="0"/>
                      </a:lnTo>
                      <a:lnTo>
                        <a:pt x="150" y="76"/>
                      </a:lnTo>
                      <a:lnTo>
                        <a:pt x="129" y="95"/>
                      </a:lnTo>
                      <a:lnTo>
                        <a:pt x="137" y="263"/>
                      </a:lnTo>
                      <a:lnTo>
                        <a:pt x="74" y="278"/>
                      </a:lnTo>
                      <a:lnTo>
                        <a:pt x="43" y="208"/>
                      </a:lnTo>
                      <a:lnTo>
                        <a:pt x="42" y="126"/>
                      </a:lnTo>
                      <a:lnTo>
                        <a:pt x="14" y="102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147520" y="1825200"/>
                  <a:ext cx="588960" cy="268200"/>
                </a:xfrm>
                <a:custGeom>
                  <a:avLst/>
                  <a:gdLst/>
                  <a:ahLst/>
                  <a:rect l="l" t="t" r="r" b="b"/>
                  <a:pathLst>
                    <a:path w="320" h="146">
                      <a:moveTo>
                        <a:pt x="0" y="58"/>
                      </a:moveTo>
                      <a:lnTo>
                        <a:pt x="163" y="18"/>
                      </a:lnTo>
                      <a:lnTo>
                        <a:pt x="183" y="20"/>
                      </a:lnTo>
                      <a:lnTo>
                        <a:pt x="202" y="0"/>
                      </a:lnTo>
                      <a:lnTo>
                        <a:pt x="218" y="10"/>
                      </a:lnTo>
                      <a:lnTo>
                        <a:pt x="199" y="52"/>
                      </a:lnTo>
                      <a:lnTo>
                        <a:pt x="233" y="49"/>
                      </a:lnTo>
                      <a:lnTo>
                        <a:pt x="252" y="81"/>
                      </a:lnTo>
                      <a:lnTo>
                        <a:pt x="275" y="84"/>
                      </a:lnTo>
                      <a:lnTo>
                        <a:pt x="291" y="79"/>
                      </a:lnTo>
                      <a:lnTo>
                        <a:pt x="291" y="62"/>
                      </a:lnTo>
                      <a:lnTo>
                        <a:pt x="263" y="39"/>
                      </a:lnTo>
                      <a:lnTo>
                        <a:pt x="284" y="37"/>
                      </a:lnTo>
                      <a:lnTo>
                        <a:pt x="320" y="86"/>
                      </a:lnTo>
                      <a:lnTo>
                        <a:pt x="286" y="115"/>
                      </a:lnTo>
                      <a:lnTo>
                        <a:pt x="247" y="100"/>
                      </a:lnTo>
                      <a:lnTo>
                        <a:pt x="223" y="136"/>
                      </a:lnTo>
                      <a:lnTo>
                        <a:pt x="175" y="100"/>
                      </a:lnTo>
                      <a:lnTo>
                        <a:pt x="13" y="146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169840" y="2028600"/>
                  <a:ext cx="306360" cy="234720"/>
                </a:xfrm>
                <a:custGeom>
                  <a:avLst/>
                  <a:gdLst/>
                  <a:ahLst/>
                  <a:rect l="l" t="t" r="r" b="b"/>
                  <a:pathLst>
                    <a:path w="166" h="128">
                      <a:moveTo>
                        <a:pt x="0" y="32"/>
                      </a:moveTo>
                      <a:lnTo>
                        <a:pt x="127" y="0"/>
                      </a:lnTo>
                      <a:lnTo>
                        <a:pt x="166" y="58"/>
                      </a:lnTo>
                      <a:lnTo>
                        <a:pt x="143" y="84"/>
                      </a:lnTo>
                      <a:lnTo>
                        <a:pt x="103" y="74"/>
                      </a:lnTo>
                      <a:lnTo>
                        <a:pt x="40" y="128"/>
                      </a:lnTo>
                      <a:lnTo>
                        <a:pt x="6" y="10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220600" y="2188800"/>
                  <a:ext cx="303120" cy="181080"/>
                </a:xfrm>
                <a:custGeom>
                  <a:avLst/>
                  <a:gdLst/>
                  <a:ahLst/>
                  <a:rect l="l" t="t" r="r" b="b"/>
                  <a:pathLst>
                    <a:path w="165" h="99">
                      <a:moveTo>
                        <a:pt x="0" y="73"/>
                      </a:moveTo>
                      <a:lnTo>
                        <a:pt x="68" y="41"/>
                      </a:lnTo>
                      <a:lnTo>
                        <a:pt x="134" y="0"/>
                      </a:lnTo>
                      <a:lnTo>
                        <a:pt x="145" y="2"/>
                      </a:lnTo>
                      <a:lnTo>
                        <a:pt x="165" y="3"/>
                      </a:lnTo>
                      <a:lnTo>
                        <a:pt x="100" y="55"/>
                      </a:lnTo>
                      <a:lnTo>
                        <a:pt x="19" y="99"/>
                      </a:lnTo>
                      <a:lnTo>
                        <a:pt x="0" y="7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215920" y="1331640"/>
                  <a:ext cx="323640" cy="574560"/>
                </a:xfrm>
                <a:custGeom>
                  <a:avLst/>
                  <a:gdLst/>
                  <a:ahLst/>
                  <a:rect l="l" t="t" r="r" b="b"/>
                  <a:pathLst>
                    <a:path w="176" h="313">
                      <a:moveTo>
                        <a:pt x="38" y="0"/>
                      </a:moveTo>
                      <a:lnTo>
                        <a:pt x="0" y="55"/>
                      </a:lnTo>
                      <a:lnTo>
                        <a:pt x="41" y="127"/>
                      </a:lnTo>
                      <a:lnTo>
                        <a:pt x="17" y="147"/>
                      </a:lnTo>
                      <a:lnTo>
                        <a:pt x="26" y="313"/>
                      </a:lnTo>
                      <a:lnTo>
                        <a:pt x="125" y="289"/>
                      </a:lnTo>
                      <a:lnTo>
                        <a:pt x="151" y="289"/>
                      </a:lnTo>
                      <a:lnTo>
                        <a:pt x="165" y="271"/>
                      </a:lnTo>
                      <a:lnTo>
                        <a:pt x="165" y="240"/>
                      </a:lnTo>
                      <a:lnTo>
                        <a:pt x="176" y="221"/>
                      </a:lnTo>
                      <a:lnTo>
                        <a:pt x="122" y="197"/>
                      </a:lnTo>
                      <a:lnTo>
                        <a:pt x="51" y="14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403120" y="2007720"/>
                  <a:ext cx="155520" cy="127080"/>
                </a:xfrm>
                <a:custGeom>
                  <a:avLst/>
                  <a:gdLst/>
                  <a:ahLst/>
                  <a:rect l="l" t="t" r="r" b="b"/>
                  <a:pathLst>
                    <a:path w="84" h="69">
                      <a:moveTo>
                        <a:pt x="0" y="11"/>
                      </a:moveTo>
                      <a:lnTo>
                        <a:pt x="36" y="0"/>
                      </a:lnTo>
                      <a:lnTo>
                        <a:pt x="84" y="35"/>
                      </a:lnTo>
                      <a:lnTo>
                        <a:pt x="74" y="45"/>
                      </a:lnTo>
                      <a:lnTo>
                        <a:pt x="50" y="45"/>
                      </a:lnTo>
                      <a:lnTo>
                        <a:pt x="39" y="6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8074440" y="2980800"/>
                  <a:ext cx="82440" cy="142920"/>
                </a:xfrm>
                <a:custGeom>
                  <a:avLst/>
                  <a:gdLst/>
                  <a:ahLst/>
                  <a:rect l="l" t="t" r="r" b="b"/>
                  <a:pathLst>
                    <a:path w="45" h="78">
                      <a:moveTo>
                        <a:pt x="0" y="7"/>
                      </a:moveTo>
                      <a:lnTo>
                        <a:pt x="45" y="0"/>
                      </a:lnTo>
                      <a:lnTo>
                        <a:pt x="19" y="78"/>
                      </a:lnTo>
                      <a:lnTo>
                        <a:pt x="2" y="7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" name=""/>
            <p:cNvGrpSpPr/>
            <p:nvPr/>
          </p:nvGrpSpPr>
          <p:grpSpPr>
            <a:xfrm>
              <a:off x="594000" y="380880"/>
              <a:ext cx="8472960" cy="4993200"/>
              <a:chOff x="594000" y="380880"/>
              <a:chExt cx="8472960" cy="4993200"/>
            </a:xfrm>
          </p:grpSpPr>
          <p:sp>
            <p:nvSpPr>
              <p:cNvPr id="108" name=""/>
              <p:cNvSpPr/>
              <p:nvPr/>
            </p:nvSpPr>
            <p:spPr>
              <a:xfrm>
                <a:off x="1149120" y="971280"/>
                <a:ext cx="5486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ashingt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227600" y="1614240"/>
                <a:ext cx="40068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reg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4000" y="2314440"/>
                <a:ext cx="4676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aliforni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38200" y="2655720"/>
                <a:ext cx="4082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evad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176200" y="2039760"/>
                <a:ext cx="33660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daho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147480" y="1214280"/>
                <a:ext cx="44352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ontan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886200" y="1277640"/>
                <a:ext cx="59580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orth Dakot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158920" y="3633480"/>
                <a:ext cx="40392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rizon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950200" y="3732120"/>
                <a:ext cx="56088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ew Mexico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01520" y="3879720"/>
                <a:ext cx="35352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exa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01000" y="3794040"/>
                <a:ext cx="49356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klahom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60000">
                <a:off x="5236920" y="4589280"/>
                <a:ext cx="47232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ouisian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42000" y="1936440"/>
                <a:ext cx="6080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outh Dakot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137840" y="2593800"/>
                <a:ext cx="47232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ebrask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440" y="2554200"/>
                <a:ext cx="30636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tah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35240" y="2047680"/>
                <a:ext cx="46332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yoming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315240" y="2914560"/>
                <a:ext cx="45576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olorado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60000">
                <a:off x="4351680" y="3187080"/>
                <a:ext cx="3992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Kansa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60000">
                <a:off x="5164560" y="3188880"/>
                <a:ext cx="4298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issouri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242680" y="3935160"/>
                <a:ext cx="46332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rkansa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75400" y="4279680"/>
                <a:ext cx="51336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ississippi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286680" y="4368600"/>
                <a:ext cx="44640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labam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914520" y="4385880"/>
                <a:ext cx="41760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eorgi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257160" y="3690720"/>
                <a:ext cx="52416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ennesse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74880" y="3347640"/>
                <a:ext cx="4586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Kentucky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531920" y="3187440"/>
                <a:ext cx="3992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Virgini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43680" y="3036600"/>
                <a:ext cx="59436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est Virgini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43720" y="2817720"/>
                <a:ext cx="35640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llinoi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95880" y="2739960"/>
                <a:ext cx="39636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ndian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689160" y="2646000"/>
                <a:ext cx="30636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hio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04200" y="2395440"/>
                <a:ext cx="30636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ow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71000" y="1342800"/>
                <a:ext cx="4982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innesot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286680" y="2192040"/>
                <a:ext cx="45108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ichiga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429160" y="1949040"/>
                <a:ext cx="49212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isconsi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246440" y="2412720"/>
                <a:ext cx="5990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ennsylvani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429680" y="2010960"/>
                <a:ext cx="47556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ew York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379360" y="1164960"/>
                <a:ext cx="35352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ain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058600" y="2076120"/>
                <a:ext cx="5486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onnecticu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382960" y="1993680"/>
                <a:ext cx="68400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hode Island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127720" y="1904760"/>
                <a:ext cx="65520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assachusett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86240" y="1501560"/>
                <a:ext cx="43416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Vermon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44640" y="1712520"/>
                <a:ext cx="68868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ew Hampshir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304400" y="3503520"/>
                <a:ext cx="6386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orth Carolin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99920" y="3912840"/>
                <a:ext cx="65052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outh Carolin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51560" y="5062320"/>
                <a:ext cx="3794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lorid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016120" y="2422440"/>
                <a:ext cx="37620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ew Jersey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601040" y="2715840"/>
                <a:ext cx="46008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aryland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019720" y="2769840"/>
                <a:ext cx="4676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elawar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60000">
                <a:off x="858600" y="4949640"/>
                <a:ext cx="37332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lask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60000">
                <a:off x="2386440" y="5208480"/>
                <a:ext cx="37332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awaii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091560" y="380880"/>
                <a:ext cx="1816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141400" y="2226960"/>
                <a:ext cx="47556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ew York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514600"/>
            <a:ext cx="6934320" cy="1371600"/>
          </a:xfrm>
          <a:prstGeom prst="rect">
            <a:avLst/>
          </a:prstGeom>
          <a:gradFill rotWithShape="0">
            <a:gsLst>
              <a:gs pos="0">
                <a:srgbClr val="ffffff">
                  <a:alpha val="71372"/>
                </a:srgbClr>
              </a:gs>
              <a:gs pos="100000">
                <a:srgbClr val="fefefe">
                  <a:alpha val="7921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Where the f**k should we live?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Using modeling to find an ideal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62625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Gratian, Grey, Kale, Parmani, Plum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hile being very kick-ass, our model still has several lim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gnores whether a city is part of a bigger metropolitan area (e.g. Jersey City is considered separately from New York 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ertain qualities do not exist in our, or any, data sets (e.g. tolerance, widespread meth proble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del 2: you can only remove requirements, you can’t add new ones (i.e. you can’t find a “warm New York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248680" y="5686560"/>
            <a:ext cx="819000" cy="1095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705720" y="5791320"/>
            <a:ext cx="1295280" cy="457200"/>
          </a:xfrm>
          <a:prstGeom prst="wedgeRectCallout">
            <a:avLst>
              <a:gd name="adj1" fmla="val 92893"/>
              <a:gd name="adj2" fmla="val 85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Good discu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s graduating MBA students, we want to pick the ideal U.S. city in which to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hen searching for the ideal city we want to satisfy our preferences in term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2362320"/>
            <a:ext cx="64771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ea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ity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ity d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ercentage of males or fe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Median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verall crim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464832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4552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ut, we are greedy MBA’s and therefore we want to make the most money we can after state taxes and mortgage payments on a single-family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2720" indent="6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fter Juran’s class, there was an easy solution to our problem: build a kick-a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e built an evolutionary solver model maximizing an overall fitness score subject to constraints dictated by user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fitness score = total salary after state taxes and mortgage payments +/- rewards and penalties for meeting or missing user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133720" y="838080"/>
            <a:ext cx="5181480" cy="297180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6400800"/>
            <a:ext cx="3505320" cy="457200"/>
          </a:xfrm>
          <a:prstGeom prst="rect">
            <a:avLst/>
          </a:prstGeom>
          <a:solidFill>
            <a:srgbClr val="99cc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495680"/>
            <a:ext cx="1828800" cy="1219320"/>
          </a:xfrm>
          <a:prstGeom prst="rect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077320" y="5562720"/>
            <a:ext cx="819000" cy="1095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58000" y="5410080"/>
            <a:ext cx="1219320" cy="457200"/>
          </a:xfrm>
          <a:prstGeom prst="wedgeRectCallout">
            <a:avLst>
              <a:gd name="adj1" fmla="val 70574"/>
              <a:gd name="adj2" fmla="val 135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Check that shi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Rank your preferences and run the model – yes, that simp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9051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r each factor, the user simply puts a “1” in the column marked “love it,” “like it,” “don’t care,” “dislike it,” or “hate it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" y="3297240"/>
            <a:ext cx="88390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52280" y="2743200"/>
            <a:ext cx="8839440" cy="1828800"/>
          </a:xfrm>
          <a:prstGeom prst="rect">
            <a:avLst/>
          </a:prstGeom>
          <a:solidFill>
            <a:srgbClr val="a0dbf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rough the magic of solver, the model then presents you with your top five ideal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95120" y="2057400"/>
            <a:ext cx="8753760" cy="2286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04920" y="1371600"/>
            <a:ext cx="853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ne particular user (a cute, curly-haired brunette – not Juran) wanted a city with a large population, high population density, more men than women, more democrats than republicans, and a warm climate with lots of sun.  She didn’t care about crime rates or median 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5181480"/>
            <a:ext cx="2514600" cy="1371600"/>
          </a:xfrm>
          <a:prstGeom prst="wedgeRectCallout">
            <a:avLst>
              <a:gd name="adj1" fmla="val 79736"/>
              <a:gd name="adj2" fmla="val -114351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op five ideal cities that give her the highest salary after matching her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5562720"/>
            <a:ext cx="1676520" cy="838080"/>
          </a:xfrm>
          <a:prstGeom prst="wedgeRectCallout">
            <a:avLst>
              <a:gd name="adj1" fmla="val 78314"/>
              <a:gd name="adj2" fmla="val -27178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tness scores for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5334120"/>
            <a:ext cx="2667240" cy="1295280"/>
          </a:xfrm>
          <a:prstGeom prst="wedgeRectCallout">
            <a:avLst>
              <a:gd name="adj1" fmla="val 31847"/>
              <a:gd name="adj2" fmla="val -12757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ncome in that city with a Stern MBA (after taxes and mortgage pay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Volunte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f you are not happy with the results, our supplemental model will find you a city just like the one you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id our first model give you Plano, TX as your ideal city?  Never fear: we created a supplement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ake a city you love, and find a city just lik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model uses cluster analysis to identify cities with similar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248680" y="5686560"/>
            <a:ext cx="819000" cy="1095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553080" y="5257800"/>
            <a:ext cx="1600200" cy="762120"/>
          </a:xfrm>
          <a:prstGeom prst="wedgeRectCallout">
            <a:avLst>
              <a:gd name="adj1" fmla="val 72222"/>
              <a:gd name="adj2" fmla="val 9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  <a:ea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  <a:ea typeface="Arial"/>
              </a:rPr>
              <a:t>cluster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hoose your favorite city, identify factors to which you want minimal variance, and ru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01120" cy="4041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28600" y="1523880"/>
            <a:ext cx="1219320" cy="838440"/>
          </a:xfrm>
          <a:prstGeom prst="wedgeRectCallout">
            <a:avLst>
              <a:gd name="adj1" fmla="val 51430"/>
              <a:gd name="adj2" fmla="val 7746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f you like this cit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5715000"/>
            <a:ext cx="1676520" cy="838080"/>
          </a:xfrm>
          <a:prstGeom prst="wedgeRectCallout">
            <a:avLst>
              <a:gd name="adj1" fmla="val -78125"/>
              <a:gd name="adj2" fmla="val -25170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You might like these citi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8:57:04Z</dcterms:created>
  <dc:creator>Nicole Plumez</dc:creator>
  <dc:description/>
  <dc:language>en-US</dc:language>
  <cp:lastModifiedBy>Eric Grey</cp:lastModifiedBy>
  <dcterms:modified xsi:type="dcterms:W3CDTF">2007-12-03T18:00:32Z</dcterms:modified>
  <cp:revision>13</cp:revision>
  <dc:subject/>
  <dc:title>Slide 1</dc:title>
</cp:coreProperties>
</file>