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wmf" ContentType="image/x-wmf"/>
  <Override PartName="/ppt/media/image16.jpeg" ContentType="image/jpeg"/>
  <Override PartName="/ppt/media/image15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inargentinatourism.com.ar/en/capital_federal/plaza_de_mayo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piersallison.co.uk/images/iberia/santiago_de_compostela.jpg&amp;imgrefurl=http://www.piersallison.co.uk/photos/themes/house_colours.asp&amp;h=600&amp;w=908&amp;sz=179&amp;hl=en&amp;start=6&amp;tbnid=KC5n3aoa8hcW_M:&amp;tbnh=97&amp;tbnw=147&amp;prev=/images%3Fq%3Dsantiago%26gbv%3D2%26svnum%3D10%26hl%3Den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images.google.com/imgres?imgurl=http://www.pasqualinonet.com.ar/Buenos-Aires-El-Cabildo-765.jpg&amp;imgrefurl=http://bbs.keyhole.com/ubb/showthreaded.php%3FNumber%3D109011&amp;h=574&amp;w=765&amp;sz=54&amp;hl=en&amp;start=9&amp;tbnid=-tR0LeP3m4r3hM:&amp;tbnh=107&amp;tbnw=142&amp;prev=/images%3Fq%3Dbuenos%2Baires%26gbv%3D2%26svnum%3D10%26hl%3Den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images.google.com/imgres?imgurl=http://www.studylanguages.org/images/ecuador/quito3.jpg&amp;imgrefurl=http://www.studylanguages.org/spanishcourses/ecuador/quito/&amp;h=600&amp;w=800&amp;sz=71&amp;hl=en&amp;start=3&amp;tbnid=hmh4KuqbAcMUGM:&amp;tbnh=107&amp;tbnw=143&amp;prev=/images%3Fq%3Dquito%26gbv%3D2%26svnum%3D10%26hl%3Den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images.google.com/imgres?imgurl=http://www3.nationalgeographic.com/places/images/photos/photo_lg_santiago.jpg&amp;imgrefurl=http://www3.nationalgeographic.com/places/photos/photo_santiago_santiago.html&amp;h=404&amp;w=599&amp;sz=75&amp;hl=en&amp;start=17&amp;tbnid=3V0x3WV-1Y1dcM:&amp;tbnh=91&amp;tbnw=135&amp;prev=/images%3Fq%3Dsantiago%26gbv%3D2%26svnum%3D10%26hl%3Den" TargetMode="Externa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533920"/>
            <a:ext cx="1676520" cy="1324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5533920"/>
            <a:ext cx="2057400" cy="13575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62920" y="5533920"/>
            <a:ext cx="1981080" cy="13510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33920" y="5533920"/>
            <a:ext cx="1752480" cy="13240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486400" y="5533920"/>
            <a:ext cx="1676520" cy="13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studylanguages.org/images/ecuador/quito3.jpg&amp;imgrefurl=http://www.studylanguages.org/spanishcourses/ecuador/quito/&amp;h=600&amp;w=800&amp;sz=71&amp;hl=en&amp;start=3&amp;tbnid=hmh4KuqbAcMUGM:&amp;tbnh=107&amp;tbnw=143&amp;prev=/images%3Fq%3Dquito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www3.nationalgeographic.com/places/images/photos/photo_lg_santiago.jpg&amp;imgrefurl=http://www3.nationalgeographic.com/places/photos/photo_santiago_santiago.html&amp;h=404&amp;w=599&amp;sz=75&amp;hl=en&amp;start=17&amp;tbnid=3V0x3WV-1Y1dcM:&amp;tbnh=91&amp;tbnw=135&amp;prev=/images%3Fq%3Dsantiago%26gbv%3D2%26svnum%3D10%26hl%3Den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erveza_Quilmes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home.tiscali.nl/beercollection/wallB/brahma/Brahma_Scheilas3_800.jpg&amp;imgrefurl=http://forum.portaldovt.com.br/forum/lofiversion/index.php/t64236.html&amp;h=600&amp;w=800&amp;sz=65&amp;hl=en&amp;start=15&amp;tbnid=2P9D3C3Ujj05yM:&amp;tbnh=107&amp;tbnw=143&amp;prev=/images%3Fq%3DBrahma%2Bbeer%26gbv%3D2%26svnum%3D10%26hl%3D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ratebeer.com/beerimages/full_size/13123.jpg&amp;imgrefurl=http://www.ratebeer.com/Ratings/Beer/Beer-Ratings.asp%3FBeerID%3D13123&amp;h=625&amp;w=350&amp;sz=33&amp;hl=en&amp;start=1&amp;tbnid=NkhtVqp3Y4GT6M:&amp;tbnh=136&amp;tbnw=76&amp;prev=/images%3Fq%3DEcuador%2Bbeer%26gbv%3D2%26svnum%3D10%26hl%3Den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524016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ra K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li Klen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ira Lun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ren Senkb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omi Wi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¡Buen Viaj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South American Jour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882880"/>
            <a:ext cx="1677960" cy="1325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76520" y="2900520"/>
            <a:ext cx="211284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162920" y="2911320"/>
            <a:ext cx="2052360" cy="1325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2895480"/>
            <a:ext cx="177156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86400" y="2911320"/>
            <a:ext cx="1716120" cy="132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4343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s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ember 3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1: Minimum Sto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iminating Subtou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294480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781680" y="1676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34240" y="1370520"/>
            <a:ext cx="60948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67" y="5"/>
                </a:moveTo>
                <a:arcTo wR="10800" hR="10800" stAng="-5506170" swAng="5506170"/>
                <a:lnTo>
                  <a:pt x="10800" y="10800"/>
                </a:lnTo>
                <a:close/>
              </a:path>
              <a:path fill="none" w="21600" h="21600">
                <a:moveTo>
                  <a:pt x="10467" y="5"/>
                </a:moveTo>
                <a:arcTo wR="10800" hR="10800" stAng="-5506170" swAng="550617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 rot="10824000">
            <a:off x="3503520" y="1838520"/>
            <a:ext cx="6093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16" y="4"/>
                </a:moveTo>
                <a:arcTo wR="10800" hR="10800" stAng="-5490502" swAng="5490502"/>
                <a:lnTo>
                  <a:pt x="10800" y="10800"/>
                </a:lnTo>
                <a:close/>
              </a:path>
              <a:path fill="none" w="21600" h="21600">
                <a:moveTo>
                  <a:pt x="10516" y="4"/>
                </a:moveTo>
                <a:arcTo wR="10800" hR="10800" stAng="-5490502" swAng="549050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981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4114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41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3733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800000">
            <a:off x="3810240" y="3657240"/>
            <a:ext cx="28951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582000" y="3047400"/>
            <a:ext cx="1675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3809880" y="4113360"/>
            <a:ext cx="1066680" cy="3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23" y="101"/>
                </a:moveTo>
                <a:arcTo wR="10800" hR="10800" stAng="-5871669" swAng="5871669"/>
                <a:lnTo>
                  <a:pt x="10800" y="10800"/>
                </a:lnTo>
                <a:close/>
              </a:path>
              <a:path fill="none" w="21600" h="21600">
                <a:moveTo>
                  <a:pt x="9323" y="101"/>
                </a:moveTo>
                <a:arcTo wR="10800" hR="10800" stAng="-5871669" swAng="587166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428280" y="691200"/>
            <a:ext cx="365724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1065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106596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828800"/>
            <a:ext cx="2133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round trip between NY and Q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rot="10800000">
            <a:off x="3886920" y="-75960"/>
            <a:ext cx="27424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191120"/>
            <a:ext cx="121896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2004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round trip between NY, Quito and 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3429360" y="533880"/>
            <a:ext cx="76104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16765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42670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41148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22096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1: Minimum Sto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out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Quito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Santiago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enos Aire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Rio de Janeiro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N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tal Flight Cost: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$2,672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tal stops: 1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on-stop flight not available from NY to Quito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4" idx="1"/>
            <a:endCxn id="104" idx="1"/>
          </p:cNvCxnSpPr>
          <p:nvPr/>
        </p:nvCxnSpPr>
        <p:spPr>
          <a:xfrm>
            <a:off x="22824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2: With Sto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2: With Sto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out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Quito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Santiago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enos Aire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Rio de Janeiro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N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tal Cost: $2,66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tal Savings: $12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ditional Stops: 2 (Rio to NY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4038480"/>
            <a:ext cx="358128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3: Minimizing M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420920"/>
            <a:ext cx="6858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nimum Miles Requires a Route Cha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29448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781680" y="1676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 rot="10824000">
            <a:off x="3503520" y="1838520"/>
            <a:ext cx="6093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16" y="4"/>
                </a:moveTo>
                <a:arcTo wR="10800" hR="10800" stAng="-5490502" swAng="5490502"/>
                <a:lnTo>
                  <a:pt x="10800" y="10800"/>
                </a:lnTo>
                <a:close/>
              </a:path>
              <a:path fill="none" w="21600" h="21600">
                <a:moveTo>
                  <a:pt x="10516" y="4"/>
                </a:moveTo>
                <a:arcTo wR="10800" hR="10800" stAng="-5490502" swAng="549050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1981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114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441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733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82000" y="3047400"/>
            <a:ext cx="1675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3809880" y="4113360"/>
            <a:ext cx="1066680" cy="3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23" y="101"/>
                </a:moveTo>
                <a:arcTo wR="10800" hR="10800" stAng="-5871669" swAng="5871669"/>
                <a:lnTo>
                  <a:pt x="10800" y="10800"/>
                </a:lnTo>
                <a:close/>
              </a:path>
              <a:path fill="none" w="21600" h="21600">
                <a:moveTo>
                  <a:pt x="9323" y="101"/>
                </a:moveTo>
                <a:arcTo wR="10800" hR="10800" stAng="-5871669" swAng="587166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428280" y="691200"/>
            <a:ext cx="3657240" cy="30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1065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106596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16765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42670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41148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2096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0800000">
            <a:off x="3733920" y="1828440"/>
            <a:ext cx="5790240" cy="47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3: Minimizing M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out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Quito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Rio de Janeiro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enos Aire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Santiago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N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tal flight costs: $3,627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dditional costs over Model 1: $945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4191120"/>
            <a:ext cx="106668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olution: Minimize Costs and Sto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2944800" cy="3886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81680" y="1676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 rot="10824000">
            <a:off x="3503520" y="1838520"/>
            <a:ext cx="60937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16" y="4"/>
                </a:moveTo>
                <a:arcTo wR="10800" hR="10800" stAng="-5490502" swAng="5490502"/>
                <a:lnTo>
                  <a:pt x="10800" y="10800"/>
                </a:lnTo>
                <a:close/>
              </a:path>
              <a:path fill="none" w="21600" h="21600">
                <a:moveTo>
                  <a:pt x="10516" y="4"/>
                </a:moveTo>
                <a:arcTo wR="10800" hR="10800" stAng="-5490502" swAng="549050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1981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4114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441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733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82000" y="3047400"/>
            <a:ext cx="1675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3809880" y="4113360"/>
            <a:ext cx="1066680" cy="3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23" y="101"/>
                </a:moveTo>
                <a:arcTo wR="10800" hR="10800" stAng="-5871669" swAng="5871669"/>
                <a:lnTo>
                  <a:pt x="10800" y="10800"/>
                </a:lnTo>
                <a:close/>
              </a:path>
              <a:path fill="none" w="21600" h="21600">
                <a:moveTo>
                  <a:pt x="9323" y="101"/>
                </a:moveTo>
                <a:arcTo wR="10800" hR="10800" stAng="-5871669" swAng="5871669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rot="10800000">
            <a:off x="3886920" y="-75960"/>
            <a:ext cx="27424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3429360" y="533880"/>
            <a:ext cx="76104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16765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2670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35812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411480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20968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819520"/>
            <a:ext cx="198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tal Cost: $26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514600"/>
            <a:ext cx="2057400" cy="1447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cal Be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2739960"/>
            <a:ext cx="812520" cy="2746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3733920"/>
            <a:ext cx="2286000" cy="1676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0" y="2362320"/>
            <a:ext cx="2743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One of Brazil’s oldest and most popular beers, Brahma’s unique shape embodies the curvaceous rhythms of Brazi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98560" y="2608200"/>
            <a:ext cx="146376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The most popular beer in Buenos Aires, Quilmes is a national symbol and sponsors the Argentine football tea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981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ILMES $1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1981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AHMA $1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CLUB $0.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2330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lub, Ecuador’s finest l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67480" y="3103560"/>
            <a:ext cx="1289160" cy="2306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2560" y="1512720"/>
            <a:ext cx="86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ll the money we save, we plan on sampling all the local brew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51520" y="3733920"/>
            <a:ext cx="2111400" cy="1660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029200" y="25146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udo, the be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ce in Chi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eans “Shiel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8040" y="19810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UDO $0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880" y="2514600"/>
            <a:ext cx="8457840" cy="1564920"/>
            <a:chOff x="380880" y="2514600"/>
            <a:chExt cx="8457840" cy="1564920"/>
          </a:xfrm>
        </p:grpSpPr>
        <p:sp>
          <p:nvSpPr>
            <p:cNvPr id="57" name=""/>
            <p:cNvSpPr/>
            <p:nvPr/>
          </p:nvSpPr>
          <p:spPr>
            <a:xfrm>
              <a:off x="6290640" y="2514600"/>
              <a:ext cx="2548080" cy="1559880"/>
            </a:xfrm>
            <a:custGeom>
              <a:avLst/>
              <a:gdLst>
                <a:gd name="textAreaLeft" fmla="*/ 0 w 2548080"/>
                <a:gd name="textAreaRight" fmla="*/ 2548080 w 2548080"/>
                <a:gd name="textAreaTop" fmla="*/ 0 h 1559880"/>
                <a:gd name="textAreaBottom" fmla="*/ 1560240 h 155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930" y="0"/>
                  </a:lnTo>
                  <a:lnTo>
                    <a:pt x="21600" y="10800"/>
                  </a:lnTo>
                  <a:lnTo>
                    <a:pt x="1693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Sol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07400" y="2514600"/>
              <a:ext cx="2548080" cy="1559880"/>
            </a:xfrm>
            <a:custGeom>
              <a:avLst/>
              <a:gdLst>
                <a:gd name="textAreaLeft" fmla="*/ 0 w 2548080"/>
                <a:gd name="textAreaRight" fmla="*/ 2548080 w 2548080"/>
                <a:gd name="textAreaTop" fmla="*/ 0 h 1559880"/>
                <a:gd name="textAreaBottom" fmla="*/ 1560240 h 155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930" y="0"/>
                  </a:lnTo>
                  <a:lnTo>
                    <a:pt x="21600" y="10800"/>
                  </a:lnTo>
                  <a:lnTo>
                    <a:pt x="1693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Mod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24160" y="2514600"/>
              <a:ext cx="2548080" cy="1559880"/>
            </a:xfrm>
            <a:custGeom>
              <a:avLst/>
              <a:gdLst>
                <a:gd name="textAreaLeft" fmla="*/ 0 w 2548080"/>
                <a:gd name="textAreaRight" fmla="*/ 2548080 w 2548080"/>
                <a:gd name="textAreaTop" fmla="*/ 0 h 1559880"/>
                <a:gd name="textAreaBottom" fmla="*/ 1560240 h 155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930" y="0"/>
                  </a:lnTo>
                  <a:lnTo>
                    <a:pt x="21600" y="10800"/>
                  </a:lnTo>
                  <a:lnTo>
                    <a:pt x="1693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880" y="2518920"/>
              <a:ext cx="2547360" cy="1560600"/>
            </a:xfrm>
            <a:custGeom>
              <a:avLst/>
              <a:gdLst>
                <a:gd name="textAreaLeft" fmla="*/ 0 w 2547360"/>
                <a:gd name="textAreaRight" fmla="*/ 2547720 w 2547360"/>
                <a:gd name="textAreaTop" fmla="*/ 0 h 1560600"/>
                <a:gd name="textAreaBottom" fmla="*/ 1560960 h 156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930" y="0"/>
                  </a:lnTo>
                  <a:lnTo>
                    <a:pt x="21600" y="10800"/>
                  </a:lnTo>
                  <a:lnTo>
                    <a:pt x="1693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Iss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We’d Like to Travel to South Amer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’s summer in South Americ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’s relatively cheap to travel the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’s our last year of freedom – so we better take advantage of i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Travel Cri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isit four cities (Rio, Santiago, Quito, and Buenos Aires) in South America over Winter Vac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mited funds ($3500) for all travel expens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mited time for the trip (2 week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ipAdvisor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Yahoo Travel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to select c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idestep.com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to gather flight price information for Januar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oogl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to gather distance inform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3808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Option Explo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662940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: New York,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.Head northwest on Chambers St toward Church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.Turn right at Hudso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3.Slight right at Holland Tunnel/Hudson St (signs for Holland Tunne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ontinue to follow Holland Tu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tering New Jer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tering Virg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ssing through North Carolina, South Carolina, Geor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tering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19.Merge onto I-395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0.Continue on MacArthur Causeway/US-41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1.Continue on 5th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2.Turn right at Collins 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3.Turn left at 4th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Option Igno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962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24.Swim across the Atlantic Ocean (5,721 mil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ntering Brazi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5.Turn right at Av. Atlântic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6.Turn left at Av. Princesa Isabe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7.Continue on Túnel Eng. Marques Por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39.Take the ramp onto Av. Francisco Bicalh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o: Rio de Janeiro – RJ Brazi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gle estimates that this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7,016 mile route would take us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ughly 48 days and 19 hour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oes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it time ou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nstrai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46500" t="31250" r="24003" b="10625"/>
          <a:stretch/>
        </p:blipFill>
        <p:spPr>
          <a:xfrm>
            <a:off x="4191120" y="1523880"/>
            <a:ext cx="3384360" cy="3962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57752" t="47505" r="17250" b="9749"/>
          <a:stretch/>
        </p:blipFill>
        <p:spPr>
          <a:xfrm>
            <a:off x="7467480" y="3848040"/>
            <a:ext cx="1582920" cy="163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rcRect l="43500" t="31250" r="33003" b="27500"/>
          <a:stretch/>
        </p:blipFill>
        <p:spPr>
          <a:xfrm>
            <a:off x="7467480" y="1523880"/>
            <a:ext cx="1600200" cy="1676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60020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nimize cost of flights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Minimize miles trave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cision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der of cities vi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st of flights between cities (Direct, One-Stop, Two-St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les between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straint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ust start and end at JF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ust visit all four c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ach city must be a “source” only one time and a “destination” only one ti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lternatives to flying were not considered to meet time frame constrain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7:14:48Z</dcterms:created>
  <dc:creator>Naomi Wiesen</dc:creator>
  <dc:description/>
  <dc:language>en-US</dc:language>
  <cp:lastModifiedBy>Lauren Senkbeil</cp:lastModifiedBy>
  <dcterms:modified xsi:type="dcterms:W3CDTF">2007-12-09T22:27:10Z</dcterms:modified>
  <cp:revision>23</cp:revision>
  <dc:subject/>
  <dc:title>Slide 1</dc:title>
</cp:coreProperties>
</file>