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E6A-0267-410A-BFC1-75B198A2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A72-5F5A-43BA-9C3C-366B6C1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A9F8B-755F-4FCD-A401-09FBF085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EA98C-C22A-419C-9D62-F8FA9398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A6595-1293-4E8D-B73C-D262522B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0AA14-3312-40D2-B197-B5AB62D3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0C997-E3AD-4E85-B074-D05423E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A9E23-7C03-4CB0-90A6-A17F5264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CC200-BEF0-4C52-ACB1-F9C00BD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FE804-4816-4C84-9FC6-F180DF16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5A0A0-90FC-4984-BA21-D56790D1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5A71E-F2D3-4590-83F6-AE38F7E6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A1B-1ED2-448A-BDDD-851EE0D7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50762-BC8E-4CCE-ABAF-FC62A13E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FA796-C020-469D-A406-E4CC7BBF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1B45C-CC99-4932-849E-060182AE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0F5A6-CCF0-44A8-8301-E699D3D1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52C89-60A5-498C-A7BB-1DE43FC9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6F725-AD51-4D9E-8D72-363EBCAB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1457C-5DCC-417E-91D2-156D410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10A84-B29C-49F9-BFEA-4FC545B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E17B2-71A3-434E-98E0-5A0C043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16026-6635-499B-9A49-8E3C2DEB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9A5-645E-48AC-849A-7DB1A560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680B4-7CC7-4E1F-8895-C29ABC58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CDC74-E42B-4A9F-9D5E-EA77CBAF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95B84-CEBA-4FC6-AB3E-2F490300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40196-4189-4F4A-B829-D0D9EF2C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D1ECC-7334-4A8E-AC95-A7D35948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D3D7A-8876-4A31-B6AA-3CEC3FF3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AB170-54B4-4955-A547-C2CC99D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A0C89-BA7D-46CA-B6B8-C2D9509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800B9-BAEB-4914-8DE0-07374C9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23B04-76F4-46B0-A757-16E4AC7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CC66-59CA-439C-AADD-E9DEDF7A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888D0-E20F-43CF-969F-25CA11D0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380B8-B2C4-470E-8F21-5035C774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7D1D-145C-4DC6-B20A-E5011E16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A85FD-B399-4E25-98C0-E892F99E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62610-2B4B-4BFD-BFF8-798815FC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0F928-ECAE-4CCE-83C3-9B119C7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001BD-3116-4424-987C-023F979B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75C91-3CC6-4A1F-A900-4C1E71B9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3523E-1AB8-4A71-9EF0-6B61C317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43E7C-23A9-4797-B0CF-82B39E4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CED9-2F65-4C02-8DCB-81BBB87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5CCD3-F3B6-462F-A8EB-2F527EC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8CFCB-8F67-493F-8A18-A2BF5C5A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A501C-EA62-46D1-9542-374E495D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DE9DA-E6BF-45E6-8119-B7399F91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BBE4C-E00B-4F95-AFD7-FC5EA79D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8F19-3108-4025-A7DB-554E2CB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E7E8-D4F6-4DB7-AB6F-161CC80F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9180-8F8A-4EF5-BAFA-510035B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DE69-25DA-4699-8D5D-A0EF070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ABDB-4918-49CF-B6A2-11C01E5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457-252A-4A7B-B298-28A01074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5D21-E94E-4E6A-A768-FBCC6CCB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E94C-E781-41D6-B3FC-1884D05B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7280-7325-4470-87AF-B6B9F51C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C4C9-26AF-4123-BA26-8F782C9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0C20-AD1F-4CC3-ACC9-C0012AE8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DA43-4BF7-481A-A9E2-5DA61B29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2AD0-3218-404A-9D99-5FDA3B5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EE38-9C85-480E-8028-E09737BE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E470-989C-41CC-966D-ACDBAF26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F75D-AB28-45AF-A18D-F7EEF8E8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1AE-B9C0-43A0-BAC6-932B2790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4880-CB07-4A4F-A4F9-13FBCA4F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CE85-32C7-4DF7-825B-04CDE9B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0E9A-76B6-4B5A-BDE4-6C21FF2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2D1A-5201-4D2F-9445-3D7D9BB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2DCB-851D-482D-AD27-33812F36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5998-0945-4B5A-9DC6-C7F7F7BB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E886-5113-411A-8264-6C74897A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055CA-388F-4D5A-BBDD-BDB99252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56C2-72DB-41DD-B165-E6B0F13D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8545-5378-42F1-871B-E3237545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4D4-BA28-4091-A5E6-704F60AE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037D-2B68-471C-8F87-E6C2BC8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C5EF-1887-4AA9-A767-F0969BC7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0036-3EC9-4908-A601-818A720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886E-7101-459E-B9AA-6564F1B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86EB-ECB9-4796-A6A3-2FBFAB5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DAE9-8846-48C8-896C-D37D5C69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D242-930C-4201-BF49-30D8A5E0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47E7E-0CEC-4303-9944-FDC70047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2D05-43A7-4BB5-9149-13A381FE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0FCD3-89E0-4278-B8DC-7DDB31A9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8D3-DFAC-4A4E-ACC5-F2E04C41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AD86-6F5B-4C85-AE42-F3037C2D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6437-48CB-4FCB-B7BA-84FB5D6F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51FE-0A8C-4203-A645-5C2E1AE2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2173-8B96-4065-BA55-9D181F26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237D3-D136-47B5-B943-34F3ADD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1BBA-4E6C-4C22-A027-6BD60ADA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FD0F-D4F9-4F23-BC6C-1DFBC0C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BBDB-79C6-4250-8B40-9E5019DE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C4F6-7B11-4E9F-9313-00C5266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204F2-510D-4D91-B518-7725F6FC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BB3-63D0-4124-B903-34B926CF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0E85-31DE-49CD-AABF-C6AF9010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AF317-0A82-411F-BB6A-412CCF00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D8F4-6E95-427B-ABFA-A56C893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686C-9895-488C-9F9D-BE5E48DA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BBE5-1603-49EE-BAF8-A61F44F7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99A5-9BC7-4F9F-82EC-C175F9BD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2956-0535-4C36-9C27-2BB756E8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0CB22-CC80-4685-A6CB-8025FD05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C86C5-02AD-42D4-ABA4-E6A419B1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7CD2-833B-49AD-B758-A20D648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B37-2FA4-4A66-971A-1C9D4B5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28DD-9F44-4458-AAC3-566D1D7A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227D-6D06-44CF-A57F-AB85F076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43D2-3005-41B6-9592-3FAC5B54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FCF0A-11F5-497A-943E-0BAA4FB1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309CF-A4AF-4318-968C-E5DF7DBF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2A04-94CA-4FAF-89B5-F54C666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C8073-FC7B-40D4-A1FC-2639AD7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4E2F-40C8-45B5-9550-56D27A9E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53C8-2F0D-4E20-B23C-08FC1573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B96E0-99E9-4326-863A-6545F1B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4E4-4796-490B-800E-A62CA11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51910-FE2F-4813-B2ED-7B32DF45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3DBEE-F867-4800-A161-F84D419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9D1F-ABA8-4B11-AF3E-8304F379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03AD-7C05-4A75-ADC9-9DBCC63D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EDDFA-12FC-42F1-9D6D-C1543A8E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05D1A-CC2B-46FE-9A53-3F1E0C5B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447F1-0804-4B17-AD71-1CDE0AC0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F13FE-E69B-4687-B999-2D19F73E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63E0-2819-4891-91D7-D4D78540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555E7-EE41-43CA-BF7E-F3213AB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D06-5A27-4EFE-9724-3C087E53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9775E-5836-4C54-89CC-F547E5F0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F1293-AC0E-49C9-A3D1-2439CD6F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E8F7-7162-421B-9EE0-F8CD86B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A130-6652-4CF2-973D-9B1FA0EC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40958-99AF-419B-83B0-D53E7AC2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F2F97-F3B0-4312-ABB8-A684B36C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52010-5C3F-4DBB-9444-CEBD9B56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42508-6B32-464D-913B-8D13EB1E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3003B-3138-40CB-9865-9DC9B93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52F22-E51C-4EB8-8DB8-ECCABA2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998D-7F8B-4A54-AD0C-68CA133A6C0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296E-B8D7-4084-B1F1-ABB9FFA89D0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A771-BB25-4215-8229-DB23D96E9BD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E85-FCDA-4640-933D-934C7348DFE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5D3A-CDC3-4151-A7E3-55A7C855180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204-CF70-479D-9C29-357B95D53C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D23C-1FA8-448B-A006-B504B43697B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BEDE-C871-4183-8C93-23F0A079CAD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FCEA-34D4-4180-94A2-D6BEB305D02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18B0-1182-497B-9DA4-1C3C818767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51A4-35B2-47B5-A0C2-8EC52C66276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9EA5-EE3E-4ED3-89FC-BE22816040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onomagic.com/gif/g1280122018001181630736479471966028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AN  GUL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VISHAL  KAPAD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YAN  LOWR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EHUL  PATE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SON  REICHAR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bability of a U.S. Recess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te Carlo Simul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ochastic future values for leading indicat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ssign a distribution to each variable using a chi-square ‘goodness of fit’ t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utocorrelation (serial correlation) – certain macroeconomic variables display ‘inertia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ochastic future values for real GD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djustment made for existing da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rrelation with each indica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utocorre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rystal B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7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375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te Carlo Tri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4343400" cy="12812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4417920" cy="13032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44182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ill we have a recession in the next six quarters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ased on 100,000 trials, there is a 37% probability of a reces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4956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rtcom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latively low R</a:t>
            </a:r>
            <a:r>
              <a:rPr b="0" lang="en-US" sz="22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between GDP and leading indicat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sing historical data to predict future performance not ide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near regression based model, non-linear requires more advanced techniqu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rtcom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ach economic cycle is differ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ll the current weakness in the housing sector turn out to have a bigger than expected impact on growth?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 in housing is being partially offset by weakening of the nominal USD exchange r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are seeing a less than full pass-through to inflation, so the real exchange rate is weakening, increasing the competitiveness of US exports in the global marketpl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alitative Analys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Bottom 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6137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ecasting business cycle fluctuations is inherently difficul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t is increasingly clear that a severe US recession is inevitable in the next few months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Nouriel Roubini – Professor of Economics, New York Univers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t is unlikely the US economy will fall into recession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Abby Joseph Cohen - Chief Investment Strategist, Goldman Sach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croeconomists have successfully predicted nine of the last five recessions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Yoram K. Bauman - Economist/Comedi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a reces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ally – two consecutive quarters of decline in real gross domestic product (GDP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ore broadly –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recession is a significant decline in economic activity spread across the economy, lasting more than a few months, normally visible in real GDP, real income, employment, industrial production, and wholesale-retail sales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National Bureau of Economic Researc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Business Cycles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Fluctuations of economic activity within the long-term trend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GDP measures output of an econom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Real GDP is adjusted for infl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657600" y="5333760"/>
            <a:ext cx="50292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Shaded regions represent recession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6" descr="Economagic: Economic Chart Dispens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828800"/>
            <a:ext cx="5870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urrent U.S. Economic Climate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ast recession occurred in 2000-200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24 quarters of positive growt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2" descr="Graph of Real Gross Domestic Product"/>
          <p:cNvPicPr/>
          <p:nvPr/>
        </p:nvPicPr>
        <p:blipFill>
          <a:blip r:embed="rId1"/>
          <a:stretch/>
        </p:blipFill>
        <p:spPr>
          <a:xfrm>
            <a:off x="2895480" y="1371600"/>
            <a:ext cx="6102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2133360"/>
            <a:ext cx="85042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 – to create a model which calculates the probability of a U.S. recession in the next six quarters from a statistical stand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l U.S. Gross Domestic Produ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xt six quarters is output of mod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puts include historical GDP data as well as economic indicat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4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ference Board’s Index of Leading Indicato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verage weekly hours worked by manufacturing work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verage number of initial applications for unemployment insuranc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mount of manufacturers' new orders for consumer goods and material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peed of delivery of new merchandise to vendors from suppli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mount of new orders for capital goods unrelated to defens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mount of new building permits for residential building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&amp;P 500 stock index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Inflation-adjusted monetary supply (M2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pread between long and short-term interest rat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nsumer sentiment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gs and Correl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6" name="Picture 6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925960" cy="22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1752480" y="4572000"/>
          <a:ext cx="5562720" cy="1600200"/>
        </p:xfrm>
        <a:graphic>
          <a:graphicData uri="http://schemas.openxmlformats.org/drawingml/2006/table">
            <a:tbl>
              <a:tblPr/>
              <a:tblGrid>
                <a:gridCol w="2471760"/>
                <a:gridCol w="2100240"/>
                <a:gridCol w="99072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eading Indic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rrelation with Real G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arters of L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Claims for Unemployment Insur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of New Orders for Consumer Goo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 Rate Different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esidential Building Perm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 Performance Ind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P 500 Ind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al Regress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59007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32:31Z</dcterms:created>
  <dc:creator>Alan M. Gula</dc:creator>
  <dc:description/>
  <dc:language>en-US</dc:language>
  <cp:lastModifiedBy>Alan M. Gula</cp:lastModifiedBy>
  <dcterms:modified xsi:type="dcterms:W3CDTF">2007-11-26T16:08:10Z</dcterms:modified>
  <cp:revision>74</cp:revision>
  <dc:subject/>
  <dc:title>Probability of a U.S. Recession</dc:title>
</cp:coreProperties>
</file>