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6.png" ContentType="image/png"/>
  <Override PartName="/ppt/media/image23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2.jpeg" ContentType="image/jpeg"/>
  <Override PartName="/ppt/media/image1.jpeg" ContentType="image/jpeg"/>
  <Override PartName="/ppt/media/image35.jpeg" ContentType="image/jpeg"/>
  <Override PartName="/ppt/media/image28.png" ContentType="image/png"/>
  <Override PartName="/ppt/media/image7.png" ContentType="image/png"/>
  <Override PartName="/ppt/media/image34.jpeg" ContentType="image/jpeg"/>
  <Override PartName="/ppt/media/image18.png" ContentType="image/png"/>
  <Override PartName="/ppt/media/image12.jpeg" ContentType="image/jpeg"/>
  <Override PartName="/ppt/media/image13.png" ContentType="image/png"/>
  <Override PartName="/ppt/media/image8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31.jpeg" ContentType="image/jpeg"/>
  <Override PartName="/ppt/media/image4.jpeg" ContentType="image/jpeg"/>
  <Override PartName="/ppt/media/image25.png" ContentType="image/png"/>
  <Override PartName="/ppt/media/image36.png" ContentType="image/png"/>
  <Override PartName="/ppt/media/image6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20.png" ContentType="image/pn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B0CE-A83F-4382-8684-314CB6BF8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A46D-D803-4621-AC11-F8704123A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93E3-D6A5-4A24-96FD-1418C7F57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846F-9D4D-464E-A59F-DDC52A1C1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A658E-4FA9-4D48-A34B-E597D9B27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D9E4C-C2E3-4BBF-B158-C8A9000A7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1EEEC-B392-45C5-B87D-275BE57D5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61EEE-E6E6-4C41-80D9-676F31F09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AB6E5-FEB4-4E28-A567-3C04D3D36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E71FA-05A3-4CC7-A464-36D8FCEBE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3F43E-C865-46F1-91D6-DF8213CE0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B8A0-E31F-48F2-A9AB-0C9BF1F9E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6E95C-BEC7-4EF2-87A4-6A46E7F4A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57EEC-7347-4C03-9BB2-0019F8F9A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3DA79-5B3E-4B64-8BE2-FDDF10C14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00325-63A3-4CE6-BDEB-5E634977A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9FB5B-D2D2-4DB0-BC30-2529B433B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94862-B0C9-4B99-8A82-ED6C6357D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DEFC3-FF2E-4995-A172-08B5DF236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51A4F-3AD3-4174-BCFF-505B580BA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D8F5F-D799-490D-904F-AB30C7544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81325-A9C3-4A97-AC41-00A0CF42D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4A1E-CA5E-49AA-A667-C5D04D577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88DA3-99AA-4EA1-A4B4-74838E196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6B694-8AA7-485A-ADCE-B4DF38B8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D9A85-13CA-4676-966A-40CA1C9F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C0C11-D539-4FD1-8F28-FECD36467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4D4E8-0352-4C66-A81D-D54EE360E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32652-6399-4166-B799-D11B65828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C7387-1E27-4AD0-86A4-59873C700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95D7-A2EC-41CF-A853-4CE804FB6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F3F6-F77A-4460-8853-E5C050EA9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6627-C77B-483C-8DB1-281579533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2AE6-0757-46CF-96EA-16A5012EB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5C1E-73D8-412D-AD87-ED32E50B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C53D-784D-4E3F-AB0E-7AE08752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7C4AD-0A9C-477A-AF73-1E85FAFE44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827A3-2441-48FF-8760-EAD1DC6B02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B81B0-298C-438D-9780-F60AA6F54B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hyperlink" Target="http://www.globaldreamers.org/share/flags/es.gif" TargetMode="External"/><Relationship Id="rId7" Type="http://schemas.openxmlformats.org/officeDocument/2006/relationships/image" Target="../media/image9.jpeg"/><Relationship Id="rId8" Type="http://schemas.openxmlformats.org/officeDocument/2006/relationships/hyperlink" Target="http://www.globaldreamers.org/share/flags/it.gif" TargetMode="External"/><Relationship Id="rId9" Type="http://schemas.openxmlformats.org/officeDocument/2006/relationships/image" Target="../media/image10.jpeg"/><Relationship Id="rId10" Type="http://schemas.openxmlformats.org/officeDocument/2006/relationships/hyperlink" Target="http://www.faqs.org/docs/factbook/flags/au-lgflag.gif" TargetMode="External"/><Relationship Id="rId11" Type="http://schemas.openxmlformats.org/officeDocument/2006/relationships/image" Target="../media/image11.jpeg"/><Relationship Id="rId12" Type="http://schemas.openxmlformats.org/officeDocument/2006/relationships/hyperlink" Target="http://images.google.com/imgres?imgurl=http://upload.wikimedia.org/wikipedia/commons/thumb/c/c3/Flag_of_France.svg/800px-Flag_of_France.svg.png&amp;imgrefurl=http://en.wikipedia.org/wiki/Image:Flag_of_France.svg&amp;h=533&amp;w=800&amp;sz=3&amp;hl=en&amp;start=1&amp;um=1&amp;tbnid=iR6Wd70Ru8UYvM:&amp;tbnh=95&amp;tbnw=143&amp;prev=/images%3Fq%3Dflag%2Bof%2Bfrance%26svnum%3D10%26um%3D1%26hl%3Den" TargetMode="External"/><Relationship Id="rId13" Type="http://schemas.openxmlformats.org/officeDocument/2006/relationships/image" Target="../media/image12.jpeg"/><Relationship Id="rId14" Type="http://schemas.openxmlformats.org/officeDocument/2006/relationships/hyperlink" Target="http://images.google.com/imgres?imgurl=http://www.cstl.nist.gov/biotech/strbase/images/uk-flag.jpg&amp;imgrefurl=http://www.cstl.nist.gov/biotech/strbase/coreSTRs.htm&amp;h=239&amp;w=480&amp;sz=20&amp;hl=en&amp;start=4&amp;um=1&amp;tbnid=zX9t20e4gQhnFM:&amp;tbnh=64&amp;tbnw=129&amp;prev=/images%3Fq%3DUK%2Bflag%26svnum%3D10%26um%3D1%26hl%3Den%26sa%3DN" TargetMode="External"/><Relationship Id="rId15" Type="http://schemas.openxmlformats.org/officeDocument/2006/relationships/image" Target="../media/image22.jpeg"/><Relationship Id="rId1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ettyimages.com/Search/Search.aspx?query=z.i.H4sIAAAAAAAEAO29B2AcSZYlJi9tynt_SvVK1-B0oQiAYBMk2JBAEOzBiM3mkuwdaUcjKasqgcplVmVdZhZAzO2dvPfee--999577733ujudTif33_8_XGZkAWz2zkrayZ4hgKrIHz9-fB8_In7dfLn91etf49f4NX6PX_dskV3kvyb9mtD_f2yS1dO8rJbZr_l_0_Nr_Bq_zq8x_Pya5mdSV1X7MquzRWM--7Xw_92dH6Mfv96719fN6Tvzxq-pf6MFHjT5tR_s7Hm_32MI2bm2-DV-Tf0dr_za2fnUduz_8Wvjgx3ud9G6Nxftr6u__xa_BqNkf91zv95zv953v-7zr78O9VFaePYvdPfr0h_1wmIT_vnr46Nd_PXr8ecTC6PzN792HkKxfzKUHQvlvAPF_c2v1SEU-ydD2bNQ6g4U9zcRNDcv2T_wf6buLv4lCuQr-37w16-VO8De779W3ngf299_7WZl3_w18Yfp-LeyL15O3YuX019bf_8t8feO_W3f_raL336dqvaYzf7FX01y_yv8ZWAy5z3c2fF-3_V-Z-78tWdXSwPq1zR_QEB-nWY9cUMM_vq188yNwf-Dfl_5X9g_ft0mgBb--Wu_e_bccb_3x29L___1i-W0XM9ybpjVHq7eH_L8PyzOESQABAAA" TargetMode="External"/><Relationship Id="rId3" Type="http://schemas.openxmlformats.org/officeDocument/2006/relationships/image" Target="../media/image30.jpeg"/><Relationship Id="rId4" Type="http://schemas.openxmlformats.org/officeDocument/2006/relationships/hyperlink" Target="http://www.gettyimages.com/Search/Search.aspx?query=z.i.H4sIAAAAAAAEAO29B2AcSZYlJi9tynt_SvVK1-B0oQiAYBMk2JBAEOzBiM3mkuwdaUcjKasqgcplVmVdZhZAzO2dvPfee--999577733ujudTif33_8_XGZkAWz2zkrayZ4hgKrIHz9-fB8_In7dfLn91etf49f4NX6PX_dskV3kvyb9mtD_f2yS1dO8rJbZr_l_0_Nr_Bq_zq8x_Pya5mdSV1X7MquzRWM--7Xw_92dH6Mfv96719fN6Tvzxq-pf6MFHjT5tR_s7Hm_32MI2bm2-DV-Tf0dr_za2fnUduz_8Wvjgx3ud9G6Nxftr6u__xa_BqNkf91zv95zv953v-7zr78O9VFaePYvdPfr0h_1wmIT_vnr46Nd_PXr8ecTC6PzN792HkKxfzKUHQvlvAPF_c2v1SEU-ydD2bNQ6g4U9zcRNDcv2T_wf6buLv4lCuQr-37w16-VO8De779W3ngf299_7WZl3_w18Yfp-LeyL15O3YuX019bf_8t8feO_W3f_raL336dqvaYzf7FX01y_yv8ZWAy5z3c2fF-3_V-Z-78tWdXSwPq1zR_QEB-nWY9cUMM_vq188yNwf-Dfl_5X9g_ft0mgBb--Wu_e_bccb_3x29L___1i-W0XM9ybpjVHq7eH_L8PyzOESQABAAA" TargetMode="External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image" Target="../media/image34.jpeg"/><Relationship Id="rId9" Type="http://schemas.openxmlformats.org/officeDocument/2006/relationships/image" Target="../media/image35.jpeg"/><Relationship Id="rId10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upload.wikimedia.org/wikipedia/commons/thumb/c/c3/Flag_of_France.svg/800px-Flag_of_France.svg.png&amp;imgrefurl=http://en.wikipedia.org/wiki/Image:Flag_of_France.svg&amp;h=533&amp;w=800&amp;sz=3&amp;hl=en&amp;start=1&amp;um=1&amp;tbnid=iR6Wd70Ru8UYvM:&amp;tbnh=95&amp;tbnw=143&amp;prev=/images%3Fq%3Dflag%2Bof%2Bfrance%26svnum%3D10%26um%3D1%26hl%3Den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www.faqs.org/docs/factbook/flags/au-lgflag.gif" TargetMode="External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hyperlink" Target="http://www.globaldreamers.org/share/flags/es.gif" TargetMode="External"/><Relationship Id="rId6" Type="http://schemas.openxmlformats.org/officeDocument/2006/relationships/image" Target="../media/image9.jpeg"/><Relationship Id="rId7" Type="http://schemas.openxmlformats.org/officeDocument/2006/relationships/hyperlink" Target="http://www.globaldreamers.org/share/flags/it.gif" TargetMode="External"/><Relationship Id="rId8" Type="http://schemas.openxmlformats.org/officeDocument/2006/relationships/image" Target="../media/image10.jpeg"/><Relationship Id="rId9" Type="http://schemas.openxmlformats.org/officeDocument/2006/relationships/hyperlink" Target="http://www.faqs.org/docs/factbook/flags/au-lgflag.gif" TargetMode="External"/><Relationship Id="rId10" Type="http://schemas.openxmlformats.org/officeDocument/2006/relationships/image" Target="../media/image11.jpeg"/><Relationship Id="rId11" Type="http://schemas.openxmlformats.org/officeDocument/2006/relationships/hyperlink" Target="http://images.google.com/imgres?imgurl=http://upload.wikimedia.org/wikipedia/commons/thumb/c/c3/Flag_of_France.svg/800px-Flag_of_France.svg.png&amp;imgrefurl=http://en.wikipedia.org/wiki/Image:Flag_of_France.svg&amp;h=533&amp;w=800&amp;sz=3&amp;hl=en&amp;start=1&amp;um=1&amp;tbnid=iR6Wd70Ru8UYvM:&amp;tbnh=95&amp;tbnw=143&amp;prev=/images%3Fq%3Dflag%2Bof%2Bfrance%26svnum%3D10%26um%3D1%26hl%3Den" TargetMode="External"/><Relationship Id="rId12" Type="http://schemas.openxmlformats.org/officeDocument/2006/relationships/image" Target="../media/image12.jpeg"/><Relationship Id="rId1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348000" y="1915920"/>
            <a:ext cx="25192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OL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50560" y="3284640"/>
            <a:ext cx="3097080" cy="22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ndrew Amendo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dward Gonz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hiagozie Nwabueb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eah Tomberli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Jamila Willia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95280" y="1916280"/>
            <a:ext cx="285768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755640" y="1557360"/>
            <a:ext cx="7315200" cy="47959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7164360" y="2852640"/>
            <a:ext cx="1562040" cy="20098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6588000" y="1197000"/>
            <a:ext cx="2232000" cy="863640"/>
          </a:xfrm>
          <a:prstGeom prst="wedgeRoundRectCallout">
            <a:avLst>
              <a:gd name="adj1" fmla="val -18847"/>
              <a:gd name="adj2" fmla="val 141912"/>
              <a:gd name="adj3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Shatner Says: Don’t even think about taking the Eurai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lot of destinations abro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4859280" y="2349360"/>
            <a:ext cx="358920" cy="2397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5"/>
          <a:stretch/>
        </p:blipFill>
        <p:spPr>
          <a:xfrm>
            <a:off x="4788000" y="1557360"/>
            <a:ext cx="358560" cy="2714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203640" y="4870440"/>
            <a:ext cx="431640" cy="2872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788000" y="4797360"/>
            <a:ext cx="360360" cy="2397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5292720" y="3429000"/>
            <a:ext cx="358920" cy="2397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3276720" y="3262320"/>
            <a:ext cx="358560" cy="2379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2844720" y="2567160"/>
            <a:ext cx="432000" cy="2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pected Cash flow state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rcRect l="2082" t="17052" r="54168" b="56275"/>
          <a:stretch/>
        </p:blipFill>
        <p:spPr>
          <a:xfrm>
            <a:off x="468360" y="2133720"/>
            <a:ext cx="5600520" cy="20574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Come on cupcake, bid lower - up to half off on hotels - Name your own price and save - GO"/>
          <p:cNvPicPr/>
          <p:nvPr/>
        </p:nvPicPr>
        <p:blipFill>
          <a:blip r:embed="rId3"/>
          <a:srcRect l="0" t="0" r="0" b="32365"/>
          <a:stretch/>
        </p:blipFill>
        <p:spPr>
          <a:xfrm>
            <a:off x="6300720" y="2492280"/>
            <a:ext cx="266400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an and standard deviation of flight costs and saving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rcRect l="6251" t="19075" r="56252" b="47982"/>
          <a:stretch/>
        </p:blipFill>
        <p:spPr>
          <a:xfrm>
            <a:off x="1692360" y="1700280"/>
            <a:ext cx="5600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ake into account variable flight costs and saving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rcRect l="2082" t="16580" r="43751" b="58386"/>
          <a:stretch/>
        </p:blipFill>
        <p:spPr>
          <a:xfrm>
            <a:off x="250920" y="2565360"/>
            <a:ext cx="61722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pected Cash flow and s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rcRect l="2070" t="38150" r="75002" b="27170"/>
          <a:stretch/>
        </p:blipFill>
        <p:spPr>
          <a:xfrm>
            <a:off x="2133720" y="2286000"/>
            <a:ext cx="400032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7164360" y="2781360"/>
            <a:ext cx="1562040" cy="137160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re is a 55.6% probability that we will be positive cash flow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rcRect l="8935" t="14902" r="48891" b="35423"/>
          <a:stretch/>
        </p:blipFill>
        <p:spPr>
          <a:xfrm>
            <a:off x="684360" y="1773360"/>
            <a:ext cx="5111640" cy="34560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6012000" y="1700280"/>
            <a:ext cx="1439640" cy="1152360"/>
          </a:xfrm>
          <a:prstGeom prst="wedgeRoundRectCallout">
            <a:avLst>
              <a:gd name="adj1" fmla="val 47351"/>
              <a:gd name="adj2" fmla="val 64736"/>
              <a:gd name="adj3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So you’re saying there’s a chanc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94920" y="1096920"/>
            <a:ext cx="576108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eek: Rock the Reichstag in Berli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eek: Visit the little mermaid in Copenha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eek: Go Gaudi in Barcelo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eek: Party in Par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eek: Move to Mozart in Vien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eek: Re-live the Gladiator in Ro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nd still have $728.50 for boo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ut don’t forget to feed the ca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View image detail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940360" y="1195560"/>
            <a:ext cx="1152720" cy="7664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View image detail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451640" y="1557360"/>
            <a:ext cx="963720" cy="13320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View image detail"/>
          <p:cNvPicPr/>
          <p:nvPr/>
        </p:nvPicPr>
        <p:blipFill>
          <a:blip r:embed="rId6"/>
          <a:stretch/>
        </p:blipFill>
        <p:spPr>
          <a:xfrm>
            <a:off x="6300720" y="2205000"/>
            <a:ext cx="762120" cy="11876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View image detail"/>
          <p:cNvPicPr/>
          <p:nvPr/>
        </p:nvPicPr>
        <p:blipFill>
          <a:blip r:embed="rId7"/>
          <a:stretch/>
        </p:blipFill>
        <p:spPr>
          <a:xfrm>
            <a:off x="7236000" y="2997360"/>
            <a:ext cx="1618920" cy="10760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View image detail"/>
          <p:cNvPicPr/>
          <p:nvPr/>
        </p:nvPicPr>
        <p:blipFill>
          <a:blip r:embed="rId8"/>
          <a:stretch/>
        </p:blipFill>
        <p:spPr>
          <a:xfrm>
            <a:off x="6012000" y="3645000"/>
            <a:ext cx="1076040" cy="16192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View image detail"/>
          <p:cNvPicPr/>
          <p:nvPr/>
        </p:nvPicPr>
        <p:blipFill>
          <a:blip r:embed="rId9"/>
          <a:stretch/>
        </p:blipFill>
        <p:spPr>
          <a:xfrm>
            <a:off x="7308720" y="4221000"/>
            <a:ext cx="1619280" cy="12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2771640" y="1916280"/>
            <a:ext cx="3810240" cy="38383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836720" y="2349360"/>
            <a:ext cx="2232000" cy="1079640"/>
          </a:xfrm>
          <a:prstGeom prst="wedgeRoundRectCallout">
            <a:avLst>
              <a:gd name="adj1" fmla="val 67569"/>
              <a:gd name="adj2" fmla="val 63675"/>
              <a:gd name="adj3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ot room in your suitcase for m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69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bl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ommend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thod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lys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View image detail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16720" y="3645000"/>
            <a:ext cx="1619280" cy="10764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View image detail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516720" y="2060640"/>
            <a:ext cx="161928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nagerial Problem Defini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r Mission:  Maximize our traveling during a semester abroad at LB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have been tasked with saving enough money to travel for 6 weeks to 6 different European countries from March - Apr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need to fly back to London each Saturday to feed the cat and walk the d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will pick the order of the cities by minimizing the cost of the tri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want to determine the likelihood of being able to save enough money to fund the tri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clusions and Recommend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vel Itinerar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rl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penha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celo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en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516720" y="3429000"/>
            <a:ext cx="2448000" cy="17575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3995640" y="2179800"/>
            <a:ext cx="720720" cy="4824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3995640" y="2781360"/>
            <a:ext cx="719280" cy="542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95640" y="3429000"/>
            <a:ext cx="714600" cy="4762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002120" y="5229360"/>
            <a:ext cx="714240" cy="4762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995640" y="4581360"/>
            <a:ext cx="720720" cy="4827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995640" y="4005360"/>
            <a:ext cx="720720" cy="4791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5508720" y="2205000"/>
            <a:ext cx="2448000" cy="1728720"/>
          </a:xfrm>
          <a:prstGeom prst="wedgeRoundRectCallout">
            <a:avLst>
              <a:gd name="adj1" fmla="val 47601"/>
              <a:gd name="adj2" fmla="val 65333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64000" y="1844640"/>
            <a:ext cx="2737080" cy="1832040"/>
          </a:xfrm>
          <a:prstGeom prst="wedgeRoundRectCallout">
            <a:avLst>
              <a:gd name="adj1" fmla="val 43212"/>
              <a:gd name="adj2" fmla="val 93675"/>
              <a:gd name="adj3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hatner Say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ollow this order for greater saving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rmul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inimize Total Co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ject 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ys of travel restricted to Sunday through Satur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nding money per city between $300 - $1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irline will always be British Airwa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tel chain will always be Hilt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 of 6 specific c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 city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repeat c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643280" y="4437000"/>
            <a:ext cx="4032360" cy="13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sts to consid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rcRect l="2082" t="20103" r="39968" b="13268"/>
          <a:stretch/>
        </p:blipFill>
        <p:spPr>
          <a:xfrm>
            <a:off x="684360" y="1557360"/>
            <a:ext cx="5371920" cy="37148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7020000" y="2060640"/>
            <a:ext cx="1852560" cy="25383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6300720" y="1700280"/>
            <a:ext cx="1440000" cy="863640"/>
          </a:xfrm>
          <a:prstGeom prst="wedgeRoundRectCallout">
            <a:avLst>
              <a:gd name="adj1" fmla="val 45587"/>
              <a:gd name="adj2" fmla="val 72611"/>
              <a:gd name="adj3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You can go lower than that, darlin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unning the solver yields the follow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rcRect l="2082" t="20812" r="39584" b="43366"/>
          <a:stretch/>
        </p:blipFill>
        <p:spPr>
          <a:xfrm>
            <a:off x="324000" y="2349360"/>
            <a:ext cx="5600520" cy="20574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6516720" y="2565360"/>
            <a:ext cx="208764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lving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rcRect l="32102" t="34764" r="31990" b="37505"/>
          <a:stretch/>
        </p:blipFill>
        <p:spPr>
          <a:xfrm>
            <a:off x="3924360" y="1916280"/>
            <a:ext cx="4824360" cy="22334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250920" y="2924280"/>
            <a:ext cx="2028600" cy="19335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979640" y="2205000"/>
            <a:ext cx="1944720" cy="1295280"/>
          </a:xfrm>
          <a:prstGeom prst="wedgeRoundRectCallout">
            <a:avLst>
              <a:gd name="adj1" fmla="val -43550"/>
              <a:gd name="adj2" fmla="val 56615"/>
              <a:gd name="adj3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Shatner Says: Tame Solver by inputting the right constrai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unning the solver yields the follow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rcRect l="2082" t="20812" r="39584" b="43366"/>
          <a:stretch/>
        </p:blipFill>
        <p:spPr>
          <a:xfrm>
            <a:off x="324000" y="2349360"/>
            <a:ext cx="5600520" cy="20574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6516720" y="2565360"/>
            <a:ext cx="208764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2T20:09:33Z</dcterms:created>
  <dc:creator>Mediac</dc:creator>
  <dc:description/>
  <dc:language>en-US</dc:language>
  <cp:lastModifiedBy>Jamila Williams</cp:lastModifiedBy>
  <dcterms:modified xsi:type="dcterms:W3CDTF">2007-11-26T17:32:45Z</dcterms:modified>
  <cp:revision>19</cp:revision>
  <dc:subject/>
  <dc:title>Presentation  Name</dc:title>
</cp:coreProperties>
</file>