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42F-3052-4E49-BC5E-2AF03E2A1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solver could go on forever finding solu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136-3693-4772-A174-998BAD2A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94E-8410-4401-BF2A-9914080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3C5-B488-49A7-8076-DAF830B8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6FD-2E06-4FA2-B098-6ACF5C15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ABB-99DA-4033-9683-1D0D18D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9E6-161B-4FAB-A946-1CAC0A6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76-5DAE-4D1F-BDD7-1A37EFF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741-22EA-4BEB-A399-65AA15B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54F-1DA0-4180-BA6F-980C2A80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E86-A533-48C9-9659-2F7455F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D0A-15C8-49BA-BF12-877028B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035-46F3-48FF-8F7B-EFED5135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n.wikipedia.org/wiki/Image:Sudoku-by-L2G-20050714.sv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904-DAB2-4974-A780-8D90482D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A sudoku puzzle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.physik.uni-frankfurt.de/~jr/gif/phys/euler.jpg&amp;imgrefurl=http://th.physik.uni-frankfurt.de/~jr/physlist.html&amp;h=600&amp;w=549&amp;sz=99&amp;hl=en&amp;start=8&amp;tbnid=5hU1y81TnKWBKM:&amp;tbnh=135&amp;tbnw=124&amp;prev=/images%3Fq%3Deuler%26svnum%3D10%26hl%3Den%26rls%3DDGUS,DGUS:2006-25,DGUS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imes New Roman"/>
              </a:rPr>
              <a:t>Sudoku: Creating a Random Puzzle Generator</a:t>
            </a:r>
            <a:endParaRPr b="0" lang="en-US" sz="3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athi Krishnamurt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rla Mo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im Sche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single-step efforts focused on constraining the sum of each row, column, and 3x3 box to equal 45 (1+2+3…+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itial Effor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2705040"/>
            <a:ext cx="3689640" cy="380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54720" y="2705040"/>
            <a:ext cx="3689280" cy="380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33600" y="186696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5080" y="186696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32039" t="34848" r="31759" b="40851"/>
          <a:stretch/>
        </p:blipFill>
        <p:spPr>
          <a:xfrm>
            <a:off x="5797440" y="144360"/>
            <a:ext cx="31910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Refining Our Approach – “CountIf” Statement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, the first approach violated the premise of each row, column, and 3x3 box having non-repeating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incorporate this constraint into 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get around this by introducing “CountIf”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olution, Take Tw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1924" t="34867" r="31948" b="40655"/>
          <a:stretch/>
        </p:blipFill>
        <p:spPr>
          <a:xfrm>
            <a:off x="5086440" y="2733840"/>
            <a:ext cx="337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11392" r="47678" b="7018"/>
          <a:stretch/>
        </p:blipFill>
        <p:spPr>
          <a:xfrm>
            <a:off x="649440" y="1736640"/>
            <a:ext cx="4105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uzzle Is Too Big For Solv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ied several other single-step solutions, introducing new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r can only handle 200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7737" t="65466" r="19388" b="15755"/>
          <a:stretch/>
        </p:blipFill>
        <p:spPr>
          <a:xfrm>
            <a:off x="1865160" y="4137120"/>
            <a:ext cx="4008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A-Ha Moment – Solve It Iteratively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multiple steps, using the learnings from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1x9 column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dds new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linked several constraints together and created “penalties”, thus enabling us to have more constraints while making the problem small enough for Solver to ha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 One of the Mode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241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untIf constraints on having exactly one of each number in every row, column, and 3x3 box are all brought together into a single constra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11385" r="19834" b="5187"/>
          <a:stretch/>
        </p:blipFill>
        <p:spPr>
          <a:xfrm>
            <a:off x="3133800" y="1811160"/>
            <a:ext cx="5830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s 2-7: Rinse, and Repe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11606" r="55136" b="5308"/>
          <a:stretch/>
        </p:blipFill>
        <p:spPr>
          <a:xfrm>
            <a:off x="5559480" y="1571760"/>
            <a:ext cx="3524040" cy="521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2572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e fill more columns, it becomes harder and harder for Solver to find a feasible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need to increase the “Max Time” in Evolutionary Solver, as well as the “Max Subproblems” and “Max Feasible Solu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47501" t="39821" r="24112" b="28764"/>
          <a:stretch/>
        </p:blipFill>
        <p:spPr>
          <a:xfrm>
            <a:off x="3460680" y="5075280"/>
            <a:ext cx="1860480" cy="1647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7858" t="46665" r="24115" b="35361"/>
          <a:stretch/>
        </p:blipFill>
        <p:spPr>
          <a:xfrm>
            <a:off x="1069920" y="5686560"/>
            <a:ext cx="2021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 8: Completing the Solu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 get down to the last two columns, we need to change our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s become more li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7 columns have been rendered, there are only two possible solutions to the puzzle given everything that has been fill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olver does find a possible solution for column 8, then there may be no feasible solution for column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inding the Missing Number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1602" r="7050" b="5268"/>
          <a:stretch/>
        </p:blipFill>
        <p:spPr>
          <a:xfrm>
            <a:off x="2070000" y="1747800"/>
            <a:ext cx="7074000" cy="506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1773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ged “Obj. Func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d “CountIf” to code for missing nu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d “Concatenate”, “Match” and “Find” to determine which numbers aren’t present in the r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nary decision variables and IF statements place missing numbers to create the final sol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lver to create a filled-in 9x9 Sudoku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nditional Formatting to hide values, thereby creating the actual puzz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eate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actual 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in mirror-image patterns within the 9x9 g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identified using dummy variables: “1” for a blank cell, “0” for a solved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4958" t="24005" r="62306" b="45578"/>
          <a:stretch/>
        </p:blipFill>
        <p:spPr>
          <a:xfrm>
            <a:off x="3355920" y="4505400"/>
            <a:ext cx="22179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eate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ose a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Excel “Rand()” function to generate a random number between 0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pattern has a ~33% chance of being sel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grid with missing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“IF” statement to correlate dummy variables with blank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 and sol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 Sudoku Puzzle for the Cla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84440" y="2036880"/>
            <a:ext cx="3971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op Quiz!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otal number of possible Sudoku puzzles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78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67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!x8!x7!x6!x5!x4!x3!x2!x1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02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52640" y="3244680"/>
            <a:ext cx="2403360" cy="5382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History of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nhard Eu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 Swiss mathemat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“Latin Squares”: a grid where no number was rep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l Magaz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0’s 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a version of Latin Squares in a 9x9 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it “The Number Pla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1320" y="152280"/>
            <a:ext cx="2030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velopment of Sudoku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yne Gou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red Hong Kong judge, from 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w a partly completed puzzle in a Japanese boo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 developing a computer program that would randomly generate puzz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d it Sudoku (from Japane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” =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ku” = single spot for a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oku first published on November 12, 2004 in the Times (Britain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04040" y="133200"/>
            <a:ext cx="168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zzle is presented as a partially completed 9x9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 must complete the grid such that each column, row and 3x3 box only uses the numbers 1-9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ssing numbers are always presented in mirror-image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cision Models: Sudoku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didn’t take us 6 ye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patterns of hiding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ndom number generator and conditional formatting to create final 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hought this would be relatively easy.  It wasn’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tarted by attempting to create a solution in a single step, using 81 decision variables (9 rows x 9 colum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quickly learned a great deal about the limitations of 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n’t really an objective function here – it is all about the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1:20:08Z</dcterms:created>
  <dc:creator> </dc:creator>
  <dc:description/>
  <dc:language>en-US</dc:language>
  <cp:lastModifiedBy>arathikrish</cp:lastModifiedBy>
  <dcterms:modified xsi:type="dcterms:W3CDTF">2007-12-02T19:31:55Z</dcterms:modified>
  <cp:revision>19</cp:revision>
  <dc:subject/>
  <dc:title>History of Sudoku</dc:title>
</cp:coreProperties>
</file>