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6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9.png" ContentType="image/png"/>
  <Override PartName="/ppt/media/image10.png" ContentType="image/png"/>
  <Override PartName="/ppt/media/image47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3b30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FE36-79E9-4A16-BEE5-5E231931F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0E24-19EE-43E7-A8DA-947418370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CA55-9D03-42D5-8C2B-EA8BA5836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BEAE-4C0C-4D44-92B2-82B23B607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4122-0639-4B7A-B575-3535BEF9F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B28E-5133-4559-B826-1F0D0B22A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78FF-5E82-42C0-B2DF-65447F207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8170-7781-47D6-BCDE-1BBF72261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691D-972B-448D-BFE2-FC02D2458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630D-A65C-475D-BEE3-334BB1129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CFE9-94BF-4EDE-AFC7-DBB59A453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9960-500F-49A2-BA25-1537407ED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86D6-FED0-41A4-8493-25CFACC3F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6C4E-E1B1-4DAD-8BA5-D690054CC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65F5-FBF0-498F-A451-10F1046A9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0385-A1B5-4AB2-9C72-2A0584715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4184-E2D7-489C-BE49-FB569AAED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7B65-D6AE-4B90-89D6-B326C0AE4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22C4-96F2-4229-B262-015CA61E7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2214-461F-4F53-96F6-5792E6A57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70A3-431A-4E5B-8F6F-C8F136F03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925E-8AE0-495D-9C68-5F12B071A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227-F6A2-44DB-8129-F24874DD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099B-424D-4612-B8C1-CDC915BC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81BE-2178-4A49-8231-77E0FF14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650-7941-4584-A3DA-9BA2B37B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603F-86AA-49B3-9BA0-4F82885C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E0B1-7991-4141-B746-71B79496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FFED-62B4-4E6C-B33C-E29D09FB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2EF7-4913-4C3D-A069-F18F08C9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BAD5-97A5-432E-B103-5C841ABE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DE4E-5A31-48A8-9516-8B7C9ED2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6ACC-A9CC-4161-9323-B8B7C17E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0E7F-C7F9-44E2-8EEA-C48A1342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D9CA-07F4-46BA-AE72-2FB06741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DBBF-263D-4AA9-B524-71E9A673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9D9B-FC1A-4D8C-A688-69120CFE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3777-D943-4184-879E-A56F1E11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CF3E-5179-4F36-9BB7-66449F7C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872A8-5698-471D-923F-12F54801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F4D87-DB39-4BD3-B71C-03BB820F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FD9EC-B66D-43B9-ADB8-18F68910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E9463-E75F-49EB-B626-C616DD03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FA7A7-BDCF-46A5-8937-5CCEDDA7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DD44-DE69-4F33-B3DC-E4116796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24176-DD40-4420-AB9D-82DB5C9B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4F5F8-9B2B-4E2D-98E4-CB519319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7020-872A-414B-AB77-968F9B57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F4A3E-28E1-4FF2-BE0C-268EFBCE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BE959-86C9-45D3-A00F-5275B53F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A34A7-18BA-4FF3-A2D9-E09EA7EE1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B9E3B-70C7-4703-94DA-5CFAC866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DFF93-EB9E-4DC7-BDF2-881BE66E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77D02-7457-4F22-8C07-241516CB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4C727-7025-4527-ADC7-4B539ED3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39BE-2A26-482D-AB72-EC36E27B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368A0-5C18-4333-9A7F-2A6E4510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6F62D-C5FF-4029-ADB4-18C695A8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3A395-2029-446D-A9BE-D2024956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4CA3C-9E3B-4D98-86FC-9C1A1C5F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0C3B0-076E-46E5-B00F-2CE1D2EF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E37FF-9059-4BA3-B223-C4ED85BE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231C5-D0DF-4C4F-B3A7-D9640F6C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F073E-FBCE-478B-A2BE-9B24B95A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C2E64-D3D5-47F8-BB23-533846E2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83406-C33E-4CA5-BF06-1D3A3343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6A0-3AC9-4652-BDD8-707EC02A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E0355-5726-486B-BD14-F872831F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AF5A8-C3FB-451F-8383-18D0D3B6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8BABD-4A0E-4F12-B4BC-C7CBAA53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D60B1-0DAF-4FAE-9087-C88AD0ED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14916-D149-40E7-AC9D-A35D4DE7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D4C2B-0E03-4C06-A0D2-04E7072C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B03C8-ED9E-4958-8EA3-C699C17B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5DF4E-8798-4FA7-8400-B9E9EF71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388E7-318F-4DBF-BE48-9F988704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CD57A-BCF7-48EA-9B46-10690378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0E5-D353-43E1-845C-B85B5825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0A0FB-0205-4CB5-8D18-5A4BA737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5D891-FDEF-41CC-BA5C-1C8F69C0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B77D7-F020-4476-876E-231269EA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1CE23-A6F0-4A63-971B-2CAA21BA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47F53-F93B-4643-9FBE-4F8AD10C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8405F-A93E-43A4-A4FC-912902C4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4143A-0658-4BCC-A608-47E27EEF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03855-C9C7-430E-9789-AE5A72DC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5A7BA-30FB-48F8-83BC-F11C67C2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24558-020E-483A-8140-6577F14F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7D9-F803-4FDA-82EE-B0E15E91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59EB9-37F3-4B98-BB5F-1271A5B2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8C953-00E4-40D7-883B-664DD213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FEDDC-38C4-435E-8740-16A2EBFF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FD985-A49D-474A-8C24-A48483EB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450FA-F38B-4FA8-B641-F215261F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837D1-4DB2-4EF3-B580-3132C478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7D2A0-7D9F-4E45-91A4-75370881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27313-77DD-4A8B-A3AA-267FB8B6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291F8-2C80-4F80-BC03-E074E742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5B5E0-6C4B-4E86-A07A-291B0CE6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111-7CC3-4749-B54E-E89DFD59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A558C-1846-4983-AD16-9D924BB0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9D117-4307-41C9-89FE-1FA74B74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68AA0-7744-4FED-801C-9F50E815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9002D-41BA-4981-BBAC-3D47DFD2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5ED4E-B577-44FD-8596-BB474B98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0B901-0FB3-49E4-B638-3814B193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B3995-3936-41D9-A7BB-83AD9666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C0880-9971-4EE3-B4E7-C5178BB3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083F9-A772-4BE7-94CF-B39109A4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59A34-AA6F-488E-90AB-3A4EB8E4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C3AE-D1DC-469C-890D-28B09669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84B35-3DD0-457C-BA6E-E2F8B009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94B97-58B8-40FE-B8C6-CB585C9B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0F340-7CD5-4365-A9C5-2EC6DC97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21AED-DBC8-4066-9A0C-A97C6B82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BC46A-416B-4F47-86D7-CAC260B3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AE419-0223-40EE-939F-08B7B73A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3DC59-19FA-4481-AD14-E34B39EF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3b3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B662-56BF-4C9B-A86B-43231C65C7B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26c00"/>
              </a:gs>
              <a:gs pos="50000">
                <a:srgbClr val="ffb03f"/>
              </a:gs>
              <a:gs pos="100000">
                <a:srgbClr val="c26c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fcc9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3b3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86C8-5BA1-4AB1-8E91-268C35508AC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3840f"/>
              </a:gs>
              <a:gs pos="100000">
                <a:srgbClr val="ffbd79"/>
              </a:gs>
            </a:gsLst>
            <a:lin ang="16200000"/>
          </a:gradFill>
          <a:ln cap="rnd" w="3240">
            <a:solidFill>
              <a:srgbClr val="b0761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3840f"/>
              </a:gs>
              <a:gs pos="100000">
                <a:srgbClr val="ffbd79"/>
              </a:gs>
            </a:gsLst>
            <a:lin ang="16200000"/>
          </a:gradFill>
          <a:ln cap="rnd" w="3240">
            <a:solidFill>
              <a:srgbClr val="b0761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be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beec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6124-BE90-4D4E-A4D9-DE84555E4F4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be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beec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7F72-B1D6-4221-A28C-948F72939FF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3b3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7FE2-F097-49AE-B4AA-2C8A66CBE9B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be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beec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2437-B6C5-4414-93E9-60AC5D4EE32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3b3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1FA1-FDC8-46D5-BD7B-C15F1B3C663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3840f"/>
              </a:gs>
              <a:gs pos="100000">
                <a:srgbClr val="ffbd79"/>
              </a:gs>
            </a:gsLst>
            <a:lin ang="16200000"/>
          </a:gradFill>
          <a:ln cap="rnd" w="3240">
            <a:solidFill>
              <a:srgbClr val="b0761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3840f"/>
              </a:gs>
              <a:gs pos="100000">
                <a:srgbClr val="ffbd79"/>
              </a:gs>
            </a:gsLst>
            <a:lin ang="16200000"/>
          </a:gradFill>
          <a:ln cap="rnd" w="3240">
            <a:solidFill>
              <a:srgbClr val="b0761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be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beec9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3741-2DC5-44F7-85F0-9CB9D069DC6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7" descr=""/>
          <p:cNvPicPr/>
          <p:nvPr/>
        </p:nvPicPr>
        <p:blipFill>
          <a:blip r:embed="rId1"/>
          <a:stretch/>
        </p:blipFill>
        <p:spPr>
          <a:xfrm>
            <a:off x="822240" y="1292400"/>
            <a:ext cx="81025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e3b30"/>
                </a:solidFill>
                <a:latin typeface="Garamond"/>
              </a:rPr>
              <a:t>Sergey Brushtei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e3b30"/>
                </a:solidFill>
                <a:latin typeface="Garamond"/>
              </a:rPr>
              <a:t>Amit Desa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e3b30"/>
                </a:solidFill>
                <a:latin typeface="Garamond"/>
              </a:rPr>
              <a:t>Gautam Dhal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e3b30"/>
                </a:solidFill>
                <a:latin typeface="Garamond"/>
              </a:rPr>
              <a:t>Shuying Fa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e3b30"/>
                </a:solidFill>
                <a:latin typeface="Garamond"/>
              </a:rPr>
              <a:t>Tharun  Joh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1952640" y="1986120"/>
            <a:ext cx="52387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1952640" y="1986120"/>
            <a:ext cx="52387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1952640" y="1986120"/>
            <a:ext cx="52387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3962520" cy="2666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"/>
          <p:cNvPicPr/>
          <p:nvPr/>
        </p:nvPicPr>
        <p:blipFill>
          <a:blip r:embed="rId3"/>
          <a:stretch/>
        </p:blipFill>
        <p:spPr>
          <a:xfrm>
            <a:off x="4419720" y="1219320"/>
            <a:ext cx="4071960" cy="26668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"/>
          <p:cNvPicPr/>
          <p:nvPr/>
        </p:nvPicPr>
        <p:blipFill>
          <a:blip r:embed="rId4"/>
          <a:stretch/>
        </p:blipFill>
        <p:spPr>
          <a:xfrm>
            <a:off x="3276720" y="3962520"/>
            <a:ext cx="39621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8229600" cy="343872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533520" y="12193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ng each quarter for 3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 cells: Minimum return per quarter,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990720" y="1866960"/>
            <a:ext cx="7696080" cy="3855960"/>
          </a:xfrm>
          <a:prstGeom prst="rect">
            <a:avLst/>
          </a:prstGeom>
          <a:ln w="0">
            <a:noFill/>
          </a:ln>
        </p:spPr>
      </p:pic>
      <p:sp>
        <p:nvSpPr>
          <p:cNvPr id="416" name="TextBox 4"/>
          <p:cNvSpPr/>
          <p:nvPr/>
        </p:nvSpPr>
        <p:spPr>
          <a:xfrm>
            <a:off x="609480" y="11430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cash flows for each category and type for 10 years (cash-on-ca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2" descr=""/>
          <p:cNvPicPr/>
          <p:nvPr/>
        </p:nvPicPr>
        <p:blipFill>
          <a:blip r:embed="rId1"/>
          <a:stretch/>
        </p:blipFill>
        <p:spPr>
          <a:xfrm>
            <a:off x="268200" y="249120"/>
            <a:ext cx="8425080" cy="750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1676520" y="1674720"/>
            <a:ext cx="6933960" cy="4345200"/>
          </a:xfrm>
          <a:prstGeom prst="rect">
            <a:avLst/>
          </a:prstGeom>
          <a:ln w="0">
            <a:noFill/>
          </a:ln>
        </p:spPr>
      </p:pic>
      <p:sp>
        <p:nvSpPr>
          <p:cNvPr id="419" name="TextBox 3"/>
          <p:cNvSpPr/>
          <p:nvPr/>
        </p:nvSpPr>
        <p:spPr>
          <a:xfrm>
            <a:off x="685800" y="914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 distribution for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ted distributions for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"/>
          <p:cNvPicPr/>
          <p:nvPr/>
        </p:nvPicPr>
        <p:blipFill>
          <a:blip r:embed="rId2"/>
          <a:stretch/>
        </p:blipFill>
        <p:spPr>
          <a:xfrm>
            <a:off x="1676520" y="2120760"/>
            <a:ext cx="6476760" cy="3886200"/>
          </a:xfrm>
          <a:prstGeom prst="rect">
            <a:avLst/>
          </a:prstGeom>
          <a:ln w="0">
            <a:noFill/>
          </a:ln>
        </p:spPr>
      </p:pic>
      <p:sp>
        <p:nvSpPr>
          <p:cNvPr id="422" name="TextBox 3"/>
          <p:cNvSpPr/>
          <p:nvPr/>
        </p:nvSpPr>
        <p:spPr>
          <a:xfrm>
            <a:off x="990720" y="1219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 allocation for Original, Revival and Tour investments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%, 21%, 53%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424" name="TextBox 4"/>
          <p:cNvSpPr/>
          <p:nvPr/>
        </p:nvSpPr>
        <p:spPr>
          <a:xfrm>
            <a:off x="304920" y="1219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return per quar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ments during the first three years generate negative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6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4190760" cy="30481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4191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8" name="Content Placeholder 3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4147920" cy="28814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"/>
          <p:cNvPicPr/>
          <p:nvPr/>
        </p:nvPicPr>
        <p:blipFill>
          <a:blip r:embed="rId3"/>
          <a:stretch/>
        </p:blipFill>
        <p:spPr>
          <a:xfrm>
            <a:off x="4648320" y="3581280"/>
            <a:ext cx="4114800" cy="2895840"/>
          </a:xfrm>
          <a:prstGeom prst="rect">
            <a:avLst/>
          </a:prstGeom>
          <a:ln w="0">
            <a:noFill/>
          </a:ln>
        </p:spPr>
      </p:pic>
      <p:sp>
        <p:nvSpPr>
          <p:cNvPr id="430" name="TextBox 5"/>
          <p:cNvSpPr/>
          <p:nvPr/>
        </p:nvSpPr>
        <p:spPr>
          <a:xfrm>
            <a:off x="685800" y="129528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y is reinvested into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gahit is worth 10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verview of Theatre Indust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istorical Retur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oodness of Fi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rmulation – Financial Mod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nte Carlo Simul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in retur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OI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correlated Forces with Mark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rd to predict and Forec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tory data Profiling –Distribution F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tually exclusive randomization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roducing dependency of one Green randomized cell on another green ce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ciphering calculations based on 58 X 4 Quarters X 8 yea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diction of undervalue when it touches Breakeven poi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ank yo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Content Placeholder 3" descr=""/>
          <p:cNvPicPr/>
          <p:nvPr/>
        </p:nvPicPr>
        <p:blipFill>
          <a:blip r:embed="rId2"/>
          <a:stretch/>
        </p:blipFill>
        <p:spPr>
          <a:xfrm>
            <a:off x="450720" y="1474920"/>
            <a:ext cx="808992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46160" y="219240"/>
            <a:ext cx="8547120" cy="93312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3"/>
          <p:cNvSpPr/>
          <p:nvPr/>
        </p:nvSpPr>
        <p:spPr>
          <a:xfrm>
            <a:off x="228600" y="1219320"/>
            <a:ext cx="855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Over the past 25 years, Broadway box office revenue has continued to grow despite periods of steep decline in the marke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8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79250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298440" y="-30240"/>
            <a:ext cx="8394840" cy="1103400"/>
          </a:xfrm>
          <a:prstGeom prst="rect">
            <a:avLst/>
          </a:prstGeom>
          <a:ln w="0">
            <a:noFill/>
          </a:ln>
        </p:spPr>
      </p:pic>
      <p:sp>
        <p:nvSpPr>
          <p:cNvPr id="387" name="Content Placeholder 1"/>
          <p:cNvSpPr/>
          <p:nvPr/>
        </p:nvSpPr>
        <p:spPr>
          <a:xfrm>
            <a:off x="393840" y="990720"/>
            <a:ext cx="87501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1836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Applying portfolio theory to Broadway investments reduces volatility an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creates consistently high retur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Content Placeholder 5" descr=""/>
          <p:cNvPicPr/>
          <p:nvPr/>
        </p:nvPicPr>
        <p:blipFill>
          <a:blip r:embed="rId2"/>
          <a:stretch/>
        </p:blipFill>
        <p:spPr>
          <a:xfrm>
            <a:off x="378000" y="1749600"/>
            <a:ext cx="8235720" cy="1731960"/>
          </a:xfrm>
          <a:prstGeom prst="rect">
            <a:avLst/>
          </a:prstGeom>
          <a:ln w="0">
            <a:noFill/>
          </a:ln>
        </p:spPr>
      </p:pic>
      <p:pic>
        <p:nvPicPr>
          <p:cNvPr id="389" name="Chart 6" descr=""/>
          <p:cNvPicPr/>
          <p:nvPr/>
        </p:nvPicPr>
        <p:blipFill>
          <a:blip r:embed="rId3"/>
          <a:stretch/>
        </p:blipFill>
        <p:spPr>
          <a:xfrm>
            <a:off x="450720" y="3803760"/>
            <a:ext cx="84312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ompany is going to raise a fund which will make 50 total investments in Broadway shows over 3 years.  We want to know what the probable return will be on this portfolio of investments, and the minimum return per quarte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ompany will invest in 3 categories of Broadway shows, and each with 5 typ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ree categor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roadway Origin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roadway Reviv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our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ve different types in each of abov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Loss, Failure, Breakeven, Hit, Mega Hi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3 X 5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3219480" cy="9622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2438280" y="2438280"/>
            <a:ext cx="2981520" cy="1981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"/>
          <p:cNvPicPr/>
          <p:nvPr/>
        </p:nvPicPr>
        <p:blipFill>
          <a:blip r:embed="rId4"/>
          <a:stretch/>
        </p:blipFill>
        <p:spPr>
          <a:xfrm>
            <a:off x="4267080" y="4572000"/>
            <a:ext cx="3029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567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2"/>
          <a:stretch/>
        </p:blipFill>
        <p:spPr>
          <a:xfrm>
            <a:off x="938160" y="1986120"/>
            <a:ext cx="7394760" cy="3576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00" name="Oval 4"/>
          <p:cNvSpPr/>
          <p:nvPr/>
        </p:nvSpPr>
        <p:spPr>
          <a:xfrm>
            <a:off x="7010280" y="2666880"/>
            <a:ext cx="990720" cy="609840"/>
          </a:xfrm>
          <a:prstGeom prst="ellipse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21:38:38Z</dcterms:created>
  <dc:creator>User</dc:creator>
  <dc:description/>
  <dc:language>en-US</dc:language>
  <cp:lastModifiedBy> </cp:lastModifiedBy>
  <dcterms:modified xsi:type="dcterms:W3CDTF">2008-12-01T17:41:05Z</dcterms:modified>
  <cp:revision>32</cp:revision>
  <dc:subject/>
  <dc:title>Live Theater Industry MESA</dc:title>
</cp:coreProperties>
</file>